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F3C-21FE-4A10-8A7E-9A06840E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85B-3B27-4DC3-A603-FA34AD51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697AE-56F3-41FA-8DEE-EE608B1F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0932D-E75C-490E-A8AA-ADBBAD1E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91614-8C3B-4B84-A6EA-4A04D4B1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4158-FD6F-4C00-8831-3C3C644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EDC7-7F92-4ACD-9F3B-D685B74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8D55-F3B9-4BBF-8D44-1FBB4D7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0FBA6-4EE7-418E-9C80-2B168AC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EA5DA-2F17-494C-ACF7-67B4C66F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8DFF3-65E3-4166-9B7C-6334CC5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ADCCE-84B8-4B4F-BC1F-CB03C24B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3D5-F1BA-481F-BE3C-144F80D6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5CA8E-B91B-4444-86D7-A6DEB3F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41531-6DF6-49E1-8F86-5EBC43FE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99080-ECFF-4BFE-B58D-F73D66C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35314-C891-41C5-8EF8-A847EAAC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6033B-2B65-4CF0-A095-4151774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45244-7BDE-450B-A7B0-34D3BF95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9EA95-6678-40F4-A60A-DDC372D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CB9F-DAF1-4771-8FFE-66AEE97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8CB0C-4A36-4865-ADFB-8322A59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892A0-C3E9-46EC-A3FD-63AEBB5C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75E-D683-4C2F-93CD-912585D0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D0DAF-A0B0-438F-9A72-47933173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1D323-BBDD-4AE8-96A9-5E2ECE1E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6366-5284-4181-B8A4-D09922F8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9B7F8-5518-40AC-9629-24913651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7CF3D-B927-432C-BB1F-5EE142DD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2BBC2-4E28-43B4-9EA5-82A28D7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F8190-4AAD-4AE3-AA4F-28A10E9F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45A8-B6D3-44D1-B491-7012555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84041-EB67-4820-A000-DF053B5F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BE3DE-83C7-45BE-AC22-B9EEB18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33F-7CEA-4806-BFD5-453D7E67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7139-E788-48AD-B682-283E391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6FF7C-B3B4-4DFA-9A59-B9C6EAEA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08E7D-5067-4011-AC07-D7FF47AD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8C5A9-C325-4D85-905E-A8D5D42F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2997D-3B5F-4020-A3D1-83CF894C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CB611-6B14-4808-9081-D053C1F9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0FAB2-F516-47DD-8EE9-930BA07A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644D0-C90D-46D7-8D06-F26443C3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8F659-EF7C-43E9-8624-F95A20E5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EA84B-9C77-4B01-8AC9-F012C71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C4E8-0FB5-4782-BB4B-45B21FFA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65E0D-E318-4E06-A5EA-79A92D2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75D12-3C97-4CDC-A445-EA98D45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2B3E-BBA1-438B-BD2B-09BD8736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B1C6F-8197-4242-899C-2D7AC60E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F0297-048E-49F7-AA86-589CDEC8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5AF-8150-4A79-97BB-4341743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6C98-C410-493C-8637-0654269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AC68-D697-4CB0-8802-1AF5C8F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7FF-D361-4897-BB9B-640CDFC7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4A6E-16DE-44F2-9512-3102FEC4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0C7-89A6-4B7B-B902-FB91A6B3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997-4FE3-4F1D-A3E4-1918797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2B9-F46F-4910-ADAB-AC53327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C50-3A6D-49FE-937C-C9DDAABC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5E5-31C6-475E-9A0F-305C98EC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D44E-6D18-4A57-AA33-44899166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6948-5E3C-48A6-B938-0BA36501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7631-D488-4594-83A9-E32B080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E208-DE18-42DE-90B8-0B6249C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94BD-13C3-4F52-8C58-0754B419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F304-5DA1-4B65-B04D-7DB39DD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738-4A6E-40A9-8B55-AB0D0797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2E2E-5F33-4515-A801-1DB8D6D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911F-3AB5-41D1-8CE7-A1291C57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6E3C-89CA-40BF-A165-06DEACCF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EFB1-7FAD-46EA-8004-3D1E2ADC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61DC-0B8F-4E16-9C65-DEF2E32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2596-D66C-4ECD-A3C1-BCC11D64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D0B6-289C-4136-BD65-830B3206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D368-5717-4686-86E2-7C54D6C7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A1BA-64EF-44B3-B7C9-EEA6ED34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6D50-E538-477F-9475-8865B26C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054-D095-43E5-B21C-1F879E5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B6B0-C273-4984-B386-EACBD4D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E36A-9E5D-464E-86C3-5A32E2E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B1E1-11AB-4327-AC27-138602CB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392B-0CC7-4432-BAC4-6FB7018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1EE57-B992-4BCF-A712-F4873100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6B6A-AFA0-4F0C-820E-754DC3E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85FF-73BF-4AB3-8E17-37ACED71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549A0-9C66-47E0-AD5B-14827510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EC4F-835E-43C3-99C3-5287C387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9FD6-5640-4946-95A6-7B00B45E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19F-8E4E-438A-BE26-24285982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7B67-F800-4373-B45E-6A4C5AAC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0F8D-3B8B-40E7-BC74-7E916246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BD27-FFDB-4119-B945-BDFBD2AB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2E53-4F90-4B63-937F-4C00187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879C-559F-456C-8C7C-4B10F8D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6EFF-2C7F-44F1-8BC6-C09BAF3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C616-9379-47B7-9F21-2019949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7390-37E1-4AFF-81F8-9601DB3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B3F2-DEA6-4BD9-92AF-D9FAFDA6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2D121-5620-4B68-A898-35629217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311-9B92-41C7-9A8A-5E245D52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4FCC9-38AD-453D-BAA6-03F54D37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C88B6-7AEC-4D38-99A7-C7B18171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7FDD-EA21-4CD5-9F5A-4D11439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1854-5D3F-44A6-A215-138E6B4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47E4-1191-4072-83C9-ACA8776E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70ED-330C-4E47-8848-A1C893E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6BD5-8D95-4EC9-B77E-6EA0F60E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B5F7-B155-4E38-9511-6DE6024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FD91A-86BF-47B0-9517-8FB683B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6276-1AC1-4FE3-84E7-E6AA233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114-C11F-4E72-94C2-C03A03F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8A4CC-0E86-49B5-A4F7-4CE299AF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31ADB-81B5-4B2E-919F-41B79976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079E-D2AB-49F4-BCB6-93B15296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9A5F-9466-478B-BFB0-6159BA34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54431-067F-45FA-ADC7-B6E9232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5F742-E8EC-45A2-9F93-8032D032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8590F-33B5-42AB-87E2-18AECDCD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CA3DE-5B83-4A6D-BCA7-DF4E721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9B7AC-416C-4DD0-B9E8-DA8A912B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5560-4DC8-4805-BBE6-77A7FD0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E3F-1387-405E-8F6E-40F5C15B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8C7CC-0CB5-47A9-96A8-F3609CD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E01F2-0F9F-4500-A10B-6010532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5B947-90C2-4193-A6F3-C32FBD9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F0939-FFB5-4425-B0C9-F1EC29E2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C512-2B03-44F2-AD00-B9093C76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25C3-BDE5-429C-8DFB-D468217C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86C3C-115A-46B0-97DF-4ECC0EB6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CD11-11C2-47CA-A66B-BAD4003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0CD9-9312-4615-B586-20506E1F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D6197-9672-4105-9AEE-B08CC39B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32B-EC89-4834-AAB8-D994CA4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62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3E3B1-072E-441F-AF3A-FE3112A9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4842-1155-45F2-8D0A-2ECA0D83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3F4E-138C-4B94-A22C-25C519B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6027B-3CAA-4E33-A168-24D3EFB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5029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8D6F-BB5E-439B-AB27-42648F2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34440" y="129528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034440" y="3683520"/>
            <a:ext cx="245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90A5D-D645-45A1-B35D-0624330B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15784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58480" y="129528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15784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858480" y="3683520"/>
            <a:ext cx="1619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571CC-4910-41BF-88FE-45E7691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CC0E3-B38E-4EE8-92C9-8DC712EA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84E3-F765-47DD-B93F-F99C972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5020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DDBA1-C5AC-4B52-8F1E-57A8EEC8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3F59-641B-4403-92A7-EB35850BA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EB95-9267-4794-AA92-D8A1C6744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875-946E-44EC-B662-5EBD53305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C229-8483-489B-8958-238AAE457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2D61-E3FD-4CB9-BDF7-5CC427DEA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78D3-9980-4389-895A-D2DF8AB10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B07-A785-4A94-908B-A22B9E2DD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28E-A771-4506-A6A2-D63366308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7185-A42B-4867-A545-0DB87A6DE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F8C-CE4F-4395-B17C-685E71FE3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A2E1-293B-4654-937A-20BF2BFAB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8B6-870A-4205-A46A-ED4164DD3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47676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bd634"/>
                </a:solidFill>
                <a:latin typeface="Times New Roman"/>
                <a:ea typeface="宋体"/>
              </a:rPr>
              <a:t>运动排球运动</a:t>
            </a:r>
            <a:r>
              <a:rPr b="0" lang="zh-CN" sz="4000" spc="-1" strike="noStrike">
                <a:solidFill>
                  <a:srgbClr val="dbd634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dbd634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d634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d63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EA89-4AB9-4710-83A3-75761D565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Eurostile"/>
                <a:ea typeface="宋体"/>
              </a:rPr>
              <a:t>Elements</a:t>
            </a:r>
            <a:endParaRPr b="0" lang="en-US" sz="4400" spc="-1" strike="noStrike">
              <a:solidFill>
                <a:srgbClr val="dbd634"/>
              </a:solidFill>
              <a:latin typeface="Times New Roman"/>
            </a:endParaRPr>
          </a:p>
        </p:txBody>
      </p:sp>
      <p:pic>
        <p:nvPicPr>
          <p:cNvPr id="507" name="Picture 32" descr="volleyball_outline_prt"/>
          <p:cNvPicPr/>
          <p:nvPr/>
        </p:nvPicPr>
        <p:blipFill>
          <a:blip r:embed="rId1"/>
          <a:stretch/>
        </p:blipFill>
        <p:spPr>
          <a:xfrm>
            <a:off x="6248520" y="4572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8" name="Picture 33" descr="volleyball_outline_qx"/>
          <p:cNvPicPr/>
          <p:nvPr/>
        </p:nvPicPr>
        <p:blipFill>
          <a:blip r:embed="rId2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9" name="Picture 34" descr="volleyball_outline_sld"/>
          <p:cNvPicPr/>
          <p:nvPr/>
        </p:nvPicPr>
        <p:blipFill>
          <a:blip r:embed="rId3"/>
          <a:stretch/>
        </p:blipFill>
        <p:spPr>
          <a:xfrm>
            <a:off x="3276720" y="4572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0" name="Picture 35" descr="volleyball_outline_trs"/>
          <p:cNvPicPr/>
          <p:nvPr/>
        </p:nvPicPr>
        <p:blipFill>
          <a:blip r:embed="rId4"/>
          <a:stretch/>
        </p:blipFill>
        <p:spPr>
          <a:xfrm>
            <a:off x="6248520" y="2286000"/>
            <a:ext cx="2590560" cy="194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Picture 36" descr="outline"/>
          <p:cNvPicPr/>
          <p:nvPr/>
        </p:nvPicPr>
        <p:blipFill>
          <a:blip r:embed="rId5"/>
          <a:stretch/>
        </p:blipFill>
        <p:spPr>
          <a:xfrm>
            <a:off x="369720" y="2209680"/>
            <a:ext cx="2525760" cy="4324320"/>
          </a:xfrm>
          <a:prstGeom prst="rect">
            <a:avLst/>
          </a:prstGeom>
          <a:ln w="0">
            <a:noFill/>
          </a:ln>
        </p:spPr>
      </p:pic>
      <p:sp>
        <p:nvSpPr>
          <p:cNvPr id="51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2:24:2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