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100-9F65-40E2-8ED7-6A2B698A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5B7-ADA6-4448-9430-A949105A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0E5-C1D1-4690-9259-A47BCB53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47C9-CDE2-410D-862B-10D98FEF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6C87-1FFF-40BF-9223-520C9656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859D-1415-4107-A3D0-2F7241C9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CAAD-0E36-4F4A-9521-5BFC7A8E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156A-8767-41EF-874A-46A6491B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4B9D-ACC8-43EB-8D62-201BF130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26920" y="18864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3746-76DE-4F9C-AADF-75CF45B5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6FA4-5EBF-417D-A0E3-DF0D77A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FD4-F8FE-4290-B2E2-4961A95E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A164-E266-480D-91B3-3EE434FA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8DC6-D7E8-41DE-8DDE-933A0F9A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ECF9-A9BD-4358-AFFD-E499F66D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4B00-06D3-45CB-8BCA-8DEC7AE5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8413-F09D-4FE8-A511-F2194322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A5A-4F1F-404A-A669-63F40A51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8A9-A677-4D92-BE08-85AF164A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339-4C7B-4128-8617-54A9F882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920" y="18864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F51-7B7A-4AF9-AFBB-EF06CC0D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F4A-69D6-4CFC-ABB0-F713083E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581-201C-4E49-9F37-93424F95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638-F9DA-4853-ACC7-35F7B8D8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6974-B6A5-4F78-AE6C-B1101E18C9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B60A-9C43-4BA1-86A0-17D17C313C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标题 1"/>
          <p:cNvSpPr/>
          <p:nvPr/>
        </p:nvSpPr>
        <p:spPr>
          <a:xfrm>
            <a:off x="252360" y="5157720"/>
            <a:ext cx="70009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真广标"/>
                <a:ea typeface="汉真广标"/>
              </a:rPr>
              <a:t>勇敢的守门员幻灯片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0" y="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080" y="125280"/>
            <a:ext cx="5460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745-E845-4B2B-B891-9C8D92AAC2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4951440" y="5278320"/>
            <a:ext cx="23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谢谢观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5T04:0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43Z</dcterms:modified>
  <cp:revision>3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