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D880-B845-4222-B444-D0168CD90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299232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2019-EA04-4A23-9CF9-1DF792DAF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8904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7DB6-9E40-439F-BB56-3F4696437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3964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37472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3964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37472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C8F2-6BCE-4CD2-B212-B3AC42F57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2514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60195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514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71CC-4722-4DD8-8961-D8258F47D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8904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299232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8904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33964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374720" y="251460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33964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374720" y="2992320"/>
            <a:ext cx="19378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9CAD-B0CD-4B53-AB56-24E2DFB27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7ACD-A11C-448E-B325-D5B329A6A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674B-8E1F-4964-9248-FD0F37D34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60195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4A89-BB8F-4E09-8B57-7F3816FC6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D1A5-8E77-4D12-A7FE-B7C4B4E6B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89040" y="299232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50F2-0031-4EBC-83D8-ABB75B015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89040" y="2514600"/>
            <a:ext cx="29372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2992320"/>
            <a:ext cx="60195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E19E-5C1E-415A-B229-5FE17C3AA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22320"/>
          <a:ext cx="91440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320"/>
                    <a:ext cx="9144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4" name="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7a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3045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0B26-AADF-41F3-896E-22C7EBD2ABE7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9080" y="0"/>
          <a:ext cx="9124920" cy="679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0"/>
                    <a:ext cx="91249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7240" y="28440"/>
            <a:ext cx="6534000" cy="222912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019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5881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54" name="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9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ddddd"/>
                </a:solidFill>
                <a:latin typeface="Arial"/>
                <a:ea typeface="宋体"/>
              </a:rPr>
              <a:t>医疗工具</a:t>
            </a:r>
            <a:r>
              <a:rPr b="1" lang="en-US" sz="4000" spc="-1" strike="noStrike">
                <a:solidFill>
                  <a:srgbClr val="dddddd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dddddd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4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32448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2514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73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d7ab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ab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94161"/>
                </a:gs>
                <a:gs pos="50000">
                  <a:srgbClr val="4d7ab5"/>
                </a:gs>
                <a:gs pos="100000">
                  <a:srgbClr val="294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ab5">
                    <a:alpha val="0"/>
                  </a:srgbClr>
                </a:gs>
                <a:gs pos="100000">
                  <a:srgbClr val="304d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49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49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23551"/>
                </a:gs>
                <a:gs pos="50000">
                  <a:srgbClr val="996498"/>
                </a:gs>
                <a:gs pos="100000">
                  <a:srgbClr val="52355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96498">
                    <a:alpha val="0"/>
                  </a:srgbClr>
                </a:gs>
                <a:gs pos="100000">
                  <a:srgbClr val="603f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9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89e8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b4841"/>
                </a:gs>
                <a:gs pos="100000">
                  <a:srgbClr val="189e8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c554c"/>
                </a:gs>
                <a:gs pos="50000">
                  <a:srgbClr val="189e8e"/>
                </a:gs>
                <a:gs pos="100000">
                  <a:srgbClr val="0c55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0"/>
                  </a:srgbClr>
                </a:gs>
                <a:gs pos="100000">
                  <a:srgbClr val="0f63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4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666800" y="1274760"/>
            <a:ext cx="5495760" cy="5125680"/>
            <a:chOff x="1666800" y="1274760"/>
            <a:chExt cx="5495760" cy="5125680"/>
          </a:xfrm>
        </p:grpSpPr>
        <p:sp>
          <p:nvSpPr>
            <p:cNvPr id="312" name=""/>
            <p:cNvSpPr/>
            <p:nvPr/>
          </p:nvSpPr>
          <p:spPr>
            <a:xfrm rot="13770000">
              <a:off x="4871520" y="3760200"/>
              <a:ext cx="976680" cy="1886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856000">
              <a:off x="2925000" y="3299040"/>
              <a:ext cx="995760" cy="175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8394200">
              <a:off x="5001840" y="2184120"/>
              <a:ext cx="607320" cy="131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852000" y="2219400"/>
              <a:ext cx="1589040" cy="1619280"/>
              <a:chOff x="3852000" y="2219400"/>
              <a:chExt cx="1589040" cy="161928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3852000" y="2219400"/>
                <a:ext cx="1589040" cy="1619280"/>
                <a:chOff x="3852000" y="2219400"/>
                <a:chExt cx="1589040" cy="16192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852000" y="2219400"/>
                  <a:ext cx="1589040" cy="161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498"/>
                    </a:gs>
                    <a:gs pos="100000">
                      <a:srgbClr val="2518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033440" y="2246040"/>
                  <a:ext cx="1225800" cy="610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64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927600" y="29232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239800" y="1274760"/>
              <a:ext cx="909360" cy="877320"/>
              <a:chOff x="5239800" y="1274760"/>
              <a:chExt cx="909360" cy="8773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242320" y="1274760"/>
                <a:ext cx="860400" cy="877320"/>
                <a:chOff x="5242320" y="1274760"/>
                <a:chExt cx="860400" cy="877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242320" y="1274760"/>
                  <a:ext cx="860400" cy="87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9e8e"/>
                    </a:gs>
                    <a:gs pos="100000">
                      <a:srgbClr val="0526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340600" y="1289160"/>
                  <a:ext cx="663840" cy="33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89e8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5239800" y="16117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66800" y="2556720"/>
              <a:ext cx="1721520" cy="1821960"/>
              <a:chOff x="1666800" y="2556720"/>
              <a:chExt cx="1721520" cy="18219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666800" y="2556720"/>
                <a:ext cx="1721520" cy="1821960"/>
                <a:chOff x="1666800" y="2556720"/>
                <a:chExt cx="1721520" cy="1821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666800" y="2556720"/>
                  <a:ext cx="1721520" cy="18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a181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863360" y="2586960"/>
                  <a:ext cx="1328040" cy="687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1749960" y="3366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176080" y="3906360"/>
              <a:ext cx="1986480" cy="2024280"/>
              <a:chOff x="5176080" y="3906360"/>
              <a:chExt cx="1986480" cy="20242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176080" y="3906360"/>
                <a:ext cx="1986480" cy="2024280"/>
                <a:chOff x="5176080" y="3906360"/>
                <a:chExt cx="1986480" cy="2024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176080" y="3906360"/>
                  <a:ext cx="1986480" cy="20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ab5"/>
                    </a:gs>
                    <a:gs pos="100000">
                      <a:srgbClr val="273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402880" y="3939840"/>
                  <a:ext cx="1532520" cy="763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a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5449320" y="47847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65160" y="4446360"/>
              <a:ext cx="139860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84120" y="3841920"/>
              <a:ext cx="140004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07640" y="5931000"/>
              <a:ext cx="139860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4800" y="2219400"/>
              <a:ext cx="641520" cy="234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2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e5b3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d7ab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ab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94161"/>
                </a:gs>
                <a:gs pos="50000">
                  <a:srgbClr val="4d7ab5"/>
                </a:gs>
                <a:gs pos="100000">
                  <a:srgbClr val="294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ab5">
                    <a:alpha val="0"/>
                  </a:srgbClr>
                </a:gs>
                <a:gs pos="100000">
                  <a:srgbClr val="304d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7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2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256b4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256b4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256b4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256b4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10" name=""/>
              <p:cNvCxnSpPr>
                <a:stCxn id="506" idx="3"/>
                <a:endCxn id="50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2256b4"/>
                </a:solidFill>
                <a:miter/>
                <a:tailEnd len="med" type="triangle" w="med"/>
              </a:ln>
            </p:spPr>
          </p:cxnSp>
          <p:cxnSp>
            <p:nvCxnSpPr>
              <p:cNvPr id="511" name=""/>
              <p:cNvCxnSpPr>
                <a:stCxn id="507" idx="3"/>
                <a:endCxn id="50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2256b4"/>
                </a:solidFill>
                <a:miter/>
                <a:tailEnd len="med" type="triangle" w="med"/>
              </a:ln>
            </p:spPr>
          </p:cxnSp>
          <p:cxnSp>
            <p:nvCxnSpPr>
              <p:cNvPr id="51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2256b4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5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7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189e8e"/>
                  </a:gs>
                  <a:gs pos="100000">
                    <a:srgbClr val="106d6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c9c0"/>
                  </a:gs>
                  <a:gs pos="50000">
                    <a:srgbClr val="189e8e">
                      <a:alpha val="0"/>
                    </a:srgbClr>
                  </a:gs>
                  <a:gs pos="100000">
                    <a:srgbClr val="80c9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22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24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d9dc8"/>
                  </a:gs>
                  <a:gs pos="100000">
                    <a:srgbClr val="4d7ab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ab5">
                      <a:alpha val="0"/>
                    </a:srgbClr>
                  </a:gs>
                  <a:gs pos="100000">
                    <a:srgbClr val="b2c5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9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31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d9bbc"/>
                  </a:gs>
                  <a:gs pos="100000">
                    <a:srgbClr val="99649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498">
                      <a:alpha val="0"/>
                    </a:srgbClr>
                  </a:gs>
                  <a:gs pos="100000">
                    <a:srgbClr val="ccb2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5168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5608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73440" y="32814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66680" y="32814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27520" y="1711080"/>
            <a:ext cx="6215400" cy="1324080"/>
            <a:chOff x="1127520" y="1711080"/>
            <a:chExt cx="6215400" cy="1324080"/>
          </a:xfrm>
        </p:grpSpPr>
        <p:sp>
          <p:nvSpPr>
            <p:cNvPr id="541" name=""/>
            <p:cNvSpPr/>
            <p:nvPr/>
          </p:nvSpPr>
          <p:spPr>
            <a:xfrm rot="3418800">
              <a:off x="133560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4d7ab5"/>
                </a:gs>
                <a:gs pos="100000">
                  <a:srgbClr val="233853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2258280" y="2092320"/>
              <a:ext cx="901080" cy="124200"/>
              <a:chOff x="2258280" y="2092320"/>
              <a:chExt cx="901080" cy="124200"/>
            </a:xfrm>
          </p:grpSpPr>
          <p:sp>
            <p:nvSpPr>
              <p:cNvPr id="543" name=""/>
              <p:cNvSpPr/>
              <p:nvPr/>
            </p:nvSpPr>
            <p:spPr>
              <a:xfrm>
                <a:off x="225828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4468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2292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9600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 rot="3418800">
              <a:off x="3000240" y="1856160"/>
              <a:ext cx="87372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922920" y="2092320"/>
              <a:ext cx="901080" cy="124200"/>
              <a:chOff x="3922920" y="2092320"/>
              <a:chExt cx="901080" cy="124200"/>
            </a:xfrm>
          </p:grpSpPr>
          <p:sp>
            <p:nvSpPr>
              <p:cNvPr id="549" name=""/>
              <p:cNvSpPr/>
              <p:nvPr/>
            </p:nvSpPr>
            <p:spPr>
              <a:xfrm>
                <a:off x="39229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0932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875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6064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3418800">
              <a:off x="4595760" y="18561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4d7ab5"/>
                </a:gs>
                <a:gs pos="100000">
                  <a:srgbClr val="233853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587560" y="2092320"/>
              <a:ext cx="1178640" cy="124200"/>
              <a:chOff x="5587560" y="2092320"/>
              <a:chExt cx="1178640" cy="124200"/>
            </a:xfrm>
          </p:grpSpPr>
          <p:sp>
            <p:nvSpPr>
              <p:cNvPr id="555" name=""/>
              <p:cNvSpPr/>
              <p:nvPr/>
            </p:nvSpPr>
            <p:spPr>
              <a:xfrm>
                <a:off x="558756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00600" y="20930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8764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8304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3418800">
              <a:off x="6260400" y="1856160"/>
              <a:ext cx="873720" cy="97128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4425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381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43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956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90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1428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380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5336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700200" y="2286000"/>
          <a:ext cx="7743600" cy="3198960"/>
        </p:xfrm>
        <a:graphic>
          <a:graphicData uri="http://schemas.openxmlformats.org/drawingml/2006/table">
            <a:tbl>
              <a:tblPr/>
              <a:tblGrid>
                <a:gridCol w="1746000"/>
                <a:gridCol w="1218960"/>
                <a:gridCol w="1193760"/>
                <a:gridCol w="1192320"/>
                <a:gridCol w="1200240"/>
                <a:gridCol w="11923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ab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73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87a5cc"/>
                </a:gs>
                <a:gs pos="100000">
                  <a:srgbClr val="4d7ab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e5f55"/>
                </a:gs>
                <a:gs pos="100000">
                  <a:srgbClr val="189e8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8a6e37"/>
                </a:gs>
                <a:gs pos="100000">
                  <a:srgbClr val="ffcc6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85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498"/>
                  </a:gs>
                  <a:gs pos="100000">
                    <a:srgbClr val="5c3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62e46"/>
                  </a:gs>
                  <a:gs pos="100000">
                    <a:srgbClr val="996498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2e46"/>
                  </a:gs>
                  <a:gs pos="100000">
                    <a:srgbClr val="99649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94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3e5c"/>
                </a:gs>
                <a:gs pos="50000">
                  <a:srgbClr val="4d7ab5"/>
                </a:gs>
                <a:gs pos="100000">
                  <a:srgbClr val="273e5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832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66"/>
                      </a:gs>
                      <a:gs pos="100000">
                        <a:srgbClr val="a181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498"/>
                      </a:gs>
                      <a:gs pos="100000">
                        <a:srgbClr val="2518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49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ab5"/>
                    </a:gs>
                    <a:gs pos="100000">
                      <a:srgbClr val="273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a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9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89e8e"/>
                      </a:gs>
                      <a:gs pos="100000">
                        <a:srgbClr val="0c504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189e8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02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d7ab5"/>
                  </a:gs>
                  <a:gs pos="100000">
                    <a:srgbClr val="233853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2256b4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56b4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89e8e"/>
                  </a:gs>
                  <a:gs pos="100000">
                    <a:srgbClr val="0b4841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2256b4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56b4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d7ab5"/>
                  </a:gs>
                  <a:gs pos="100000">
                    <a:srgbClr val="233853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2256b4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56b4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26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27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89e8e"/>
                  </a:gs>
                  <a:gs pos="100000">
                    <a:srgbClr val="0b4841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2256b4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256b4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d7ab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A709-CDDA-4DF5-9086-9848C54C0A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53920" y="1308240"/>
            <a:ext cx="48610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89e8e"/>
                    </a:gs>
                    <a:gs pos="100000">
                      <a:srgbClr val="ffcc66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89e8e"/>
                  </a:gs>
                  <a:gs pos="100000">
                    <a:srgbClr val="ffcc66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642680" y="2362320"/>
            <a:ext cx="407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7a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56b4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89e8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2256b4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89e8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2256b4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89e8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2256b4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189e8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2256b4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2256b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43000" y="3075120"/>
            <a:ext cx="2982960" cy="2763720"/>
            <a:chOff x="1143000" y="3075120"/>
            <a:chExt cx="2982960" cy="2763720"/>
          </a:xfrm>
        </p:grpSpPr>
        <p:sp>
          <p:nvSpPr>
            <p:cNvPr id="138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2720" y="307512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dd9d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42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b57"/>
                    </a:gs>
                    <a:gs pos="100000">
                      <a:srgbClr val="4d7ab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ab5"/>
                    </a:gs>
                    <a:gs pos="100000">
                      <a:srgbClr val="afc3d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89e8e"/>
                  </a:gs>
                  <a:gs pos="100000">
                    <a:srgbClr val="0b48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ddcd6"/>
                  </a:gs>
                  <a:gs pos="100000">
                    <a:srgbClr val="189e8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48235"/>
                    </a:srgbClr>
                  </a:gs>
                  <a:gs pos="100000">
                    <a:srgbClr val="127c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189e8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52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d3e6"/>
              </a:gs>
              <a:gs pos="100000">
                <a:srgbClr val="4d7a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d7ab5"/>
                </a:gs>
                <a:gs pos="100000">
                  <a:srgbClr val="1a29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731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a48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6498"/>
                </a:gs>
                <a:gs pos="100000">
                  <a:srgbClr val="3422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3853"/>
                </a:gs>
                <a:gs pos="50000">
                  <a:srgbClr val="4d7ab5"/>
                </a:gs>
                <a:gs pos="100000">
                  <a:srgbClr val="233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5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d7ab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294161"/>
                  </a:gs>
                  <a:gs pos="50000">
                    <a:srgbClr val="4d7ab5"/>
                  </a:gs>
                  <a:gs pos="100000">
                    <a:srgbClr val="2941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6"/>
                </a:gs>
                <a:gs pos="50000">
                  <a:srgbClr val="996498"/>
                </a:gs>
                <a:gs pos="100000">
                  <a:srgbClr val="462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7ab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3853"/>
                  </a:gs>
                  <a:gs pos="50000">
                    <a:srgbClr val="4d7ab5"/>
                  </a:gs>
                  <a:gs pos="100000">
                    <a:srgbClr val="23385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d7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2e46"/>
                  </a:gs>
                  <a:gs pos="50000">
                    <a:srgbClr val="996498"/>
                  </a:gs>
                  <a:gs pos="100000">
                    <a:srgbClr val="462e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b4841"/>
                  </a:gs>
                  <a:gs pos="50000">
                    <a:srgbClr val="189e8e"/>
                  </a:gs>
                  <a:gs pos="100000">
                    <a:srgbClr val="0b48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18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9349"/>
                  </a:gs>
                  <a:gs pos="50000">
                    <a:srgbClr val="ffcc66"/>
                  </a:gs>
                  <a:gs pos="100000">
                    <a:srgbClr val="b893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75882"/>
                  </a:gs>
                  <a:gs pos="50000">
                    <a:srgbClr val="4d7ab5"/>
                  </a:gs>
                  <a:gs pos="100000">
                    <a:srgbClr val="3758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96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e486d"/>
                  </a:gs>
                  <a:gs pos="50000">
                    <a:srgbClr val="996498"/>
                  </a:gs>
                  <a:gs pos="100000">
                    <a:srgbClr val="6e48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17266"/>
                  </a:gs>
                  <a:gs pos="50000">
                    <a:srgbClr val="189e8e"/>
                  </a:gs>
                  <a:gs pos="100000">
                    <a:srgbClr val="1172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0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d7ab5"/>
                </a:gs>
                <a:gs pos="100000">
                  <a:srgbClr val="5c85b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d7a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3853"/>
                </a:gs>
                <a:gs pos="50000">
                  <a:srgbClr val="4d7ab5"/>
                </a:gs>
                <a:gs pos="100000">
                  <a:srgbClr val="2338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6498"/>
                </a:gs>
                <a:gs pos="100000">
                  <a:srgbClr val="c3a5c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63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964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263a"/>
                  </a:gs>
                  <a:gs pos="50000">
                    <a:srgbClr val="996498"/>
                  </a:gs>
                  <a:gs pos="100000">
                    <a:srgbClr val="3b26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4Z</dcterms:modified>
  <cp:revision>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