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CD00-59E2-416A-88FE-CA916F21E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5652-0CD3-4382-97BF-F7CABE7CC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9AEA-C7A3-44F5-A133-FEB3DF17C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9324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8168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10516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639324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68168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8466-EBDC-49EE-A6F4-983030D08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9A430-402E-4B6D-82BD-AD30B6D0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2205F-84CB-4142-9A7E-EC18E714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F865-C11B-49B3-B7D4-EA03598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BFE0-21E8-43BA-8DA3-D32A2561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88976-6BFA-4EFA-9346-F7946B2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429000" y="609480"/>
            <a:ext cx="54100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BF97C-436D-42B7-B96F-81A5EC3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BA96-C79A-402A-9AB7-8EB521C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E581-4BDC-4B7C-8676-136382FFC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3156A-C728-4A09-A23D-5FF2EA95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0B74-52FA-4385-B10F-24A27302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A48DC-56DF-4544-AC44-5AA38D93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87E7A-0B2D-4FB7-9035-57B6189C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9324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81680" y="312372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0516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639324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681680" y="3342960"/>
            <a:ext cx="1226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AB04D-1857-41AE-A761-B9D792A6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B1CD-4622-485D-AAB5-D3FBCD0F2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292F-0A20-4AC5-9426-D5B794359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A8D7-151C-44DD-A326-69DF649AF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9000" y="609480"/>
            <a:ext cx="54100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8012-9359-4129-9A78-F88D34388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FC46-2116-4B48-9695-FCD430CD5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57440" y="334296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9F39-3235-40D0-BBCC-1767EB9A6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0516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057440" y="3123720"/>
            <a:ext cx="185904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05160" y="3342960"/>
            <a:ext cx="380988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1898-846A-4AC4-BC99-1C31B76AF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2bb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332840" y="115920"/>
            <a:ext cx="1702800" cy="1527120"/>
            <a:chOff x="7332840" y="115920"/>
            <a:chExt cx="1702800" cy="1527120"/>
          </a:xfrm>
        </p:grpSpPr>
        <p:sp>
          <p:nvSpPr>
            <p:cNvPr id="3" name=""/>
            <p:cNvSpPr/>
            <p:nvPr/>
          </p:nvSpPr>
          <p:spPr>
            <a:xfrm>
              <a:off x="7873920" y="1282680"/>
              <a:ext cx="1161720" cy="3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942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332840" y="115920"/>
              <a:ext cx="1468080" cy="1424160"/>
              <a:chOff x="7332840" y="115920"/>
              <a:chExt cx="1468080" cy="1424160"/>
            </a:xfrm>
          </p:grpSpPr>
          <p:sp>
            <p:nvSpPr>
              <p:cNvPr id="5" name=""/>
              <p:cNvSpPr/>
              <p:nvPr/>
            </p:nvSpPr>
            <p:spPr>
              <a:xfrm>
                <a:off x="7332840" y="115920"/>
                <a:ext cx="1468080" cy="1424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99192" dir="2381944" blurRad="0" rotWithShape="0">
                  <a:srgbClr val="19426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377480" y="149760"/>
                <a:ext cx="1383840" cy="1334880"/>
                <a:chOff x="7377480" y="149760"/>
                <a:chExt cx="1383840" cy="13348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8086680" y="356760"/>
                  <a:ext cx="674640" cy="917640"/>
                </a:xfrm>
                <a:custGeom>
                  <a:avLst/>
                  <a:gdLst/>
                  <a:ahLst/>
                  <a:rect l="l" t="t" r="r" b="b"/>
                  <a:pathLst>
                    <a:path w="1348" h="1963">
                      <a:moveTo>
                        <a:pt x="951" y="1963"/>
                      </a:moveTo>
                      <a:cubicBezTo>
                        <a:pt x="1244" y="1689"/>
                        <a:pt x="1348" y="1323"/>
                        <a:pt x="1338" y="977"/>
                      </a:cubicBezTo>
                      <a:cubicBezTo>
                        <a:pt x="1329" y="629"/>
                        <a:pt x="1132" y="226"/>
                        <a:pt x="905" y="0"/>
                      </a:cubicBezTo>
                      <a:lnTo>
                        <a:pt x="0" y="987"/>
                      </a:lnTo>
                      <a:lnTo>
                        <a:pt x="951" y="1963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615080" y="149760"/>
                  <a:ext cx="906120" cy="642600"/>
                </a:xfrm>
                <a:custGeom>
                  <a:avLst/>
                  <a:gdLst/>
                  <a:ahLst/>
                  <a:rect l="l" t="t" r="r" b="b"/>
                  <a:pathLst>
                    <a:path w="1810" h="1375">
                      <a:moveTo>
                        <a:pt x="905" y="1375"/>
                      </a:moveTo>
                      <a:lnTo>
                        <a:pt x="1810" y="395"/>
                      </a:lnTo>
                      <a:cubicBezTo>
                        <a:pt x="1612" y="176"/>
                        <a:pt x="1300" y="0"/>
                        <a:pt x="876" y="24"/>
                      </a:cubicBezTo>
                      <a:cubicBezTo>
                        <a:pt x="452" y="48"/>
                        <a:pt x="252" y="149"/>
                        <a:pt x="0" y="396"/>
                      </a:cubicBezTo>
                      <a:lnTo>
                        <a:pt x="905" y="137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377480" y="365040"/>
                  <a:ext cx="663120" cy="892800"/>
                </a:xfrm>
                <a:custGeom>
                  <a:avLst/>
                  <a:gdLst/>
                  <a:ahLst/>
                  <a:rect l="l" t="t" r="r" b="b"/>
                  <a:pathLst>
                    <a:path w="1325" h="1910">
                      <a:moveTo>
                        <a:pt x="1325" y="960"/>
                      </a:moveTo>
                      <a:lnTo>
                        <a:pt x="414" y="0"/>
                      </a:lnTo>
                      <a:cubicBezTo>
                        <a:pt x="238" y="162"/>
                        <a:pt x="0" y="570"/>
                        <a:pt x="27" y="1014"/>
                      </a:cubicBezTo>
                      <a:cubicBezTo>
                        <a:pt x="53" y="1458"/>
                        <a:pt x="233" y="1748"/>
                        <a:pt x="402" y="1910"/>
                      </a:cubicBezTo>
                      <a:lnTo>
                        <a:pt x="1325" y="96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01040" y="831240"/>
                  <a:ext cx="934200" cy="653400"/>
                </a:xfrm>
                <a:custGeom>
                  <a:avLst/>
                  <a:gdLst/>
                  <a:ahLst/>
                  <a:rect l="l" t="t" r="r" b="b"/>
                  <a:pathLst>
                    <a:path w="1866" h="1398">
                      <a:moveTo>
                        <a:pt x="927" y="0"/>
                      </a:moveTo>
                      <a:lnTo>
                        <a:pt x="0" y="975"/>
                      </a:lnTo>
                      <a:cubicBezTo>
                        <a:pt x="203" y="1204"/>
                        <a:pt x="607" y="1398"/>
                        <a:pt x="996" y="1387"/>
                      </a:cubicBezTo>
                      <a:cubicBezTo>
                        <a:pt x="1385" y="1375"/>
                        <a:pt x="1707" y="1159"/>
                        <a:pt x="1866" y="996"/>
                      </a:cubicBezTo>
                      <a:lnTo>
                        <a:pt x="927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d86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4EB-9879-4ACC-A0FC-460231BEB39E}" type="slidenum">
              <a:rPr b="0" lang="en-US" sz="10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562360" y="6476760"/>
            <a:ext cx="3276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2bb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4305240"/>
            <a:ext cx="4248000" cy="1800360"/>
          </a:xfrm>
          <a:prstGeom prst="ellipse">
            <a:avLst/>
          </a:prstGeom>
          <a:gradFill rotWithShape="0">
            <a:gsLst>
              <a:gs pos="0">
                <a:srgbClr val="2bb5a5"/>
              </a:gs>
              <a:gs pos="100000">
                <a:srgbClr val="1353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6120" y="1052640"/>
            <a:ext cx="4656240" cy="48369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1916280"/>
            <a:ext cx="2139840" cy="3116160"/>
          </a:xfrm>
          <a:custGeom>
            <a:avLst/>
            <a:gdLst/>
            <a:ahLst/>
            <a:rect l="l" t="t" r="r" b="b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30400" y="1212840"/>
            <a:ext cx="2873160" cy="2182680"/>
          </a:xfrm>
          <a:custGeom>
            <a:avLst/>
            <a:gdLst/>
            <a:ahLst/>
            <a:rect l="l" t="t" r="r" b="b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6200" y="1944720"/>
            <a:ext cx="2103480" cy="3031920"/>
          </a:xfrm>
          <a:custGeom>
            <a:avLst/>
            <a:gdLst/>
            <a:ahLst/>
            <a:rect l="l" t="t" r="r" b="b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3527280"/>
            <a:ext cx="2962440" cy="2219400"/>
          </a:xfrm>
          <a:custGeom>
            <a:avLst/>
            <a:gdLst/>
            <a:ahLst/>
            <a:rect l="l" t="t" r="r" b="b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6480" y="2751120"/>
            <a:ext cx="1656000" cy="165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9000" y="6094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26b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348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983-4916-4DFD-AAA0-7ACE4B67E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9426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2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9426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9426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9426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9426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760" y="875880"/>
            <a:ext cx="4568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9426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50088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2bb5a5"/>
              </a:gs>
              <a:gs pos="100000">
                <a:srgbClr val="186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48120" y="5958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any Nam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9426b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9426b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028680" y="380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426b"/>
                </a:solidFill>
                <a:latin typeface="Arial"/>
              </a:rPr>
              <a:t>医疗工具</a:t>
            </a:r>
            <a:r>
              <a:rPr b="0" lang="zh-CN" sz="4000" spc="-1" strike="noStrike">
                <a:solidFill>
                  <a:srgbClr val="19426b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9426b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81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bb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bbc00">
                    <a:alpha val="0"/>
                  </a:srgbClr>
                </a:gs>
                <a:gs pos="100000">
                  <a:srgbClr val="577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50c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d50c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2b6c"/>
                </a:gs>
                <a:gs pos="50000">
                  <a:srgbClr val="6d50ca"/>
                </a:gs>
                <a:gs pos="100000">
                  <a:srgbClr val="3a2b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d50ca">
                    <a:alpha val="0"/>
                  </a:srgbClr>
                </a:gs>
                <a:gs pos="100000">
                  <a:srgbClr val="4432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97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d86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c3d6f"/>
                </a:gs>
                <a:gs pos="100000">
                  <a:srgbClr val="3d86f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04881"/>
                </a:gs>
                <a:gs pos="50000">
                  <a:srgbClr val="3d86f1"/>
                </a:gs>
                <a:gs pos="100000">
                  <a:srgbClr val="204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d86f1">
                    <a:alpha val="0"/>
                  </a:srgbClr>
                </a:gs>
                <a:gs pos="100000">
                  <a:srgbClr val="2654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07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12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320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0ca"/>
                    </a:gs>
                    <a:gs pos="100000">
                      <a:srgbClr val="1a13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50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86f1"/>
                    </a:gs>
                    <a:gs pos="100000">
                      <a:srgbClr val="0e20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d8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b5a5"/>
                    </a:gs>
                    <a:gs pos="100000">
                      <a:srgbClr val="1b72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bb5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47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b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0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d8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dad2"/>
                </a:gs>
                <a:gs pos="100000">
                  <a:srgbClr val="2bb5a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b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bb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a6500"/>
                </a:gs>
                <a:gs pos="50000">
                  <a:srgbClr val="8bbc00"/>
                </a:gs>
                <a:gs pos="100000">
                  <a:srgbClr val="4a65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bbc00">
                    <a:alpha val="0"/>
                  </a:srgbClr>
                </a:gs>
                <a:gs pos="100000">
                  <a:srgbClr val="577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5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82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89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97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11" name="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16" name="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bbc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9426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28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9426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15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9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9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cxnSp>
            <p:nvCxnSpPr>
              <p:cNvPr id="519" name=""/>
              <p:cNvCxnSpPr>
                <a:stCxn id="515" idx="3"/>
                <a:endCxn id="516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</p:cxnSp>
          <p:cxnSp>
            <p:nvCxnSpPr>
              <p:cNvPr id="520" name=""/>
              <p:cNvCxnSpPr>
                <a:stCxn id="516" idx="3"/>
                <a:endCxn id="517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</p:cxnSp>
          <p:cxnSp>
            <p:nvCxnSpPr>
              <p:cNvPr id="521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4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6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d86f1"/>
                  </a:gs>
                  <a:gs pos="100000">
                    <a:srgbClr val="2a5da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bcf6"/>
                  </a:gs>
                  <a:gs pos="50000">
                    <a:srgbClr val="3d86f1">
                      <a:alpha val="0"/>
                    </a:srgbClr>
                  </a:gs>
                  <a:gs pos="100000">
                    <a:srgbClr val="94bc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31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3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acd45"/>
                  </a:gs>
                  <a:gs pos="100000">
                    <a:srgbClr val="8bb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bc00">
                      <a:alpha val="0"/>
                    </a:srgbClr>
                  </a:gs>
                  <a:gs pos="100000">
                    <a:srgbClr val="cde1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38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40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18fdc"/>
                  </a:gs>
                  <a:gs pos="100000">
                    <a:srgbClr val="6d50c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50ca">
                      <a:alpha val="0"/>
                    </a:srgbClr>
                  </a:gs>
                  <a:gs pos="100000">
                    <a:srgbClr val="b7a9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0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405600"/>
                </a:gs>
              </a:gsLst>
              <a:lin ang="1980000"/>
            </a:gra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2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d86f1"/>
            </a:soli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405600"/>
                </a:gs>
              </a:gsLst>
              <a:lin ang="1980000"/>
            </a:gra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d86f1"/>
            </a:solidFill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426b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914400" y="22701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9426b"/>
                      </a:solidFill>
                    </a:lnR>
                    <a:lnT>
                      <a:noFill/>
                    </a:lnT>
                    <a:lnB w="5760">
                      <a:solidFill>
                        <a:srgbClr val="1942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3d86f1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426b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942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9426b"/>
                      </a:solidFill>
                    </a:lnL>
                    <a:lnR w="5760">
                      <a:solidFill>
                        <a:srgbClr val="19426b"/>
                      </a:solidFill>
                    </a:lnR>
                    <a:lnT w="5760">
                      <a:solidFill>
                        <a:srgbClr val="19426b"/>
                      </a:solidFill>
                    </a:lnT>
                    <a:lnB w="5760">
                      <a:solidFill>
                        <a:srgbClr val="19426b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81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0d154"/>
                </a:gs>
                <a:gs pos="100000">
                  <a:srgbClr val="8bbc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45191"/>
                </a:gs>
                <a:gs pos="100000">
                  <a:srgbClr val="3d86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176259"/>
                </a:gs>
                <a:gs pos="100000">
                  <a:srgbClr val="2bb5a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93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d50ca"/>
                  </a:gs>
                  <a:gs pos="100000">
                    <a:srgbClr val="413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2245d"/>
                  </a:gs>
                  <a:gs pos="100000">
                    <a:srgbClr val="6d50ca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245d"/>
                  </a:gs>
                  <a:gs pos="100000">
                    <a:srgbClr val="6d50c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9426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914400" y="1600200"/>
            <a:ext cx="7391160" cy="4724280"/>
            <a:chOff x="914400" y="1600200"/>
            <a:chExt cx="7391160" cy="4724280"/>
          </a:xfrm>
        </p:grpSpPr>
        <p:sp>
          <p:nvSpPr>
            <p:cNvPr id="602" name=""/>
            <p:cNvSpPr/>
            <p:nvPr/>
          </p:nvSpPr>
          <p:spPr>
            <a:xfrm>
              <a:off x="1905120" y="236232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362320" y="160020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447b"/>
                </a:gs>
                <a:gs pos="50000">
                  <a:srgbClr val="3d86f1"/>
                </a:gs>
                <a:gs pos="100000">
                  <a:srgbClr val="1f447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6160" y="2971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914400" y="4235400"/>
              <a:ext cx="1486080" cy="1989000"/>
              <a:chOff x="914400" y="4235400"/>
              <a:chExt cx="1486080" cy="1989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914400" y="4235400"/>
                <a:ext cx="1486080" cy="1514520"/>
                <a:chOff x="914400" y="4235400"/>
                <a:chExt cx="1486080" cy="151452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914400" y="4235400"/>
                  <a:ext cx="1486080" cy="1514520"/>
                  <a:chOff x="914400" y="4235400"/>
                  <a:chExt cx="1486080" cy="15145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914400" y="423540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bb5a5"/>
                      </a:gs>
                      <a:gs pos="100000">
                        <a:srgbClr val="1b726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1084320" y="426024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bb5a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0" name=""/>
                <p:cNvSpPr/>
                <p:nvPr/>
              </p:nvSpPr>
              <p:spPr>
                <a:xfrm>
                  <a:off x="1072440" y="50065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1066680" y="583560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6781680" y="4191120"/>
              <a:ext cx="1523880" cy="2066760"/>
              <a:chOff x="6781680" y="4191120"/>
              <a:chExt cx="1523880" cy="206676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6781680" y="4191120"/>
                <a:ext cx="1523880" cy="1531800"/>
                <a:chOff x="6781680" y="4191120"/>
                <a:chExt cx="1523880" cy="1531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6781680" y="4191120"/>
                  <a:ext cx="1523880" cy="1531800"/>
                  <a:chOff x="6781680" y="4191120"/>
                  <a:chExt cx="1523880" cy="15318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6781680" y="419112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50ca"/>
                      </a:gs>
                      <a:gs pos="100000">
                        <a:srgbClr val="1a13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955920" y="421632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d50c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6924600" y="49050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6824520" y="577080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819520" y="4235400"/>
              <a:ext cx="1523880" cy="2089080"/>
              <a:chOff x="2819520" y="4235400"/>
              <a:chExt cx="1523880" cy="208908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819520" y="4235400"/>
                <a:ext cx="1523880" cy="1521000"/>
                <a:chOff x="2819520" y="4235400"/>
                <a:chExt cx="1523880" cy="1521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819520" y="4235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47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993760" y="4260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b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895840" y="4965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9520" y="5835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876920" y="4191120"/>
              <a:ext cx="1523880" cy="2089080"/>
              <a:chOff x="4876920" y="4191120"/>
              <a:chExt cx="1523880" cy="208908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4876920" y="4191120"/>
                <a:ext cx="1523880" cy="1521000"/>
                <a:chOff x="4876920" y="4191120"/>
                <a:chExt cx="1523880" cy="15210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4876920" y="4191120"/>
                  <a:ext cx="1523880" cy="1521000"/>
                  <a:chOff x="4876920" y="4191120"/>
                  <a:chExt cx="1523880" cy="15210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4876920" y="419112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d86f1"/>
                      </a:gs>
                      <a:gs pos="100000">
                        <a:srgbClr val="1f447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051160" y="421632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3d86f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9426b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4953240" y="49212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4876920" y="5791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"/>
          <p:cNvSpPr/>
          <p:nvPr/>
        </p:nvSpPr>
        <p:spPr>
          <a:xfrm>
            <a:off x="236232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bbc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9426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10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05600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18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19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26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27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05600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34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9360">
                <a:solidFill>
                  <a:srgbClr val="1942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00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426b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8bb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9426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F07F-A0E0-4FE9-B83B-C6A4287A43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4876920" y="24382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d86f1"/>
                    </a:gs>
                    <a:gs pos="100000">
                      <a:srgbClr val="2bb5a5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19426b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d86f1"/>
                  </a:gs>
                  <a:gs pos="100000">
                    <a:srgbClr val="2bb5a5"/>
                  </a:gs>
                </a:gsLst>
                <a:lin ang="10800000"/>
              </a:gradFill>
              <a:effectLst>
                <a:outerShdw dist="53966" dir="2700000" blurRad="0" rotWithShape="0">
                  <a:srgbClr val="19426b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105160" y="3123720"/>
            <a:ext cx="380988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46000"/>
            <a:ext cx="792504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d86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d86f1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46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cfc5"/>
              </a:gs>
              <a:gs pos="100000">
                <a:srgbClr val="2bb5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0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5b00"/>
                    </a:gs>
                    <a:gs pos="100000">
                      <a:srgbClr val="8bbc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c00"/>
                    </a:gs>
                    <a:gs pos="100000">
                      <a:srgbClr val="cae0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9426b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ad3f9"/>
                  </a:gs>
                  <a:gs pos="100000">
                    <a:srgbClr val="3d86f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d86f1">
                      <a:alpha val="48235"/>
                    </a:srgbClr>
                  </a:gs>
                  <a:gs pos="100000">
                    <a:srgbClr val="3069b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d86f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60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e8ad"/>
              </a:gs>
              <a:gs pos="100000">
                <a:srgbClr val="8bb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65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2f4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d86f1"/>
                </a:gs>
                <a:gs pos="100000">
                  <a:srgbClr val="1329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bb5a5"/>
                </a:gs>
                <a:gs pos="100000">
                  <a:srgbClr val="0f40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d50ca"/>
                </a:gs>
                <a:gs pos="100000">
                  <a:srgbClr val="251b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426b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2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03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c2d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c2d6"/>
                  </a:gs>
                  <a:gs pos="100000">
                    <a:srgbClr val="00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c2d6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bb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a6500"/>
                  </a:gs>
                  <a:gs pos="50000">
                    <a:srgbClr val="8bbc00"/>
                  </a:gs>
                  <a:gs pos="100000">
                    <a:srgbClr val="4a65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45d"/>
                </a:gs>
                <a:gs pos="50000">
                  <a:srgbClr val="6d50ca"/>
                </a:gs>
                <a:gs pos="100000">
                  <a:srgbClr val="3224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3d6f"/>
                </a:gs>
                <a:gs pos="50000">
                  <a:srgbClr val="3d86f1"/>
                </a:gs>
                <a:gs pos="100000">
                  <a:srgbClr val="1c3d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bbc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9426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29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942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9426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43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3534c"/>
                  </a:gs>
                  <a:gs pos="50000">
                    <a:srgbClr val="2bb5a5"/>
                  </a:gs>
                  <a:gs pos="100000">
                    <a:srgbClr val="1353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2bb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600"/>
                  </a:gs>
                  <a:gs pos="50000">
                    <a:srgbClr val="8bbc00"/>
                  </a:gs>
                  <a:gs pos="100000">
                    <a:srgbClr val="40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8b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245d"/>
                  </a:gs>
                  <a:gs pos="50000">
                    <a:srgbClr val="6d50ca"/>
                  </a:gs>
                  <a:gs pos="100000">
                    <a:srgbClr val="3224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c3d6f"/>
                  </a:gs>
                  <a:gs pos="50000">
                    <a:srgbClr val="3d86f1"/>
                  </a:gs>
                  <a:gs pos="100000">
                    <a:srgbClr val="1c3d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d86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1f8277"/>
                  </a:gs>
                  <a:gs pos="50000">
                    <a:srgbClr val="2bb5a5"/>
                  </a:gs>
                  <a:gs pos="100000">
                    <a:srgbClr val="1f827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48700"/>
                  </a:gs>
                  <a:gs pos="50000">
                    <a:srgbClr val="8bbc00"/>
                  </a:gs>
                  <a:gs pos="100000">
                    <a:srgbClr val="6487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d5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3991"/>
                  </a:gs>
                  <a:gs pos="50000">
                    <a:srgbClr val="6d50ca"/>
                  </a:gs>
                  <a:gs pos="100000">
                    <a:srgbClr val="4e399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2c60ae"/>
                  </a:gs>
                  <a:gs pos="50000">
                    <a:srgbClr val="3d86f1"/>
                  </a:gs>
                  <a:gs pos="100000">
                    <a:srgbClr val="2c60a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9836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8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bbc00"/>
                </a:gs>
                <a:gs pos="100000">
                  <a:srgbClr val="94c11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2bb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534c"/>
                </a:gs>
                <a:gs pos="50000">
                  <a:srgbClr val="2bb5a5"/>
                </a:gs>
                <a:gs pos="100000">
                  <a:srgbClr val="13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b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d50ca"/>
                </a:gs>
                <a:gs pos="100000">
                  <a:srgbClr val="aa99d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71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d5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1e4e"/>
                  </a:gs>
                  <a:gs pos="50000">
                    <a:srgbClr val="6d50ca"/>
                  </a:gs>
                  <a:gs pos="100000">
                    <a:srgbClr val="2a1e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5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