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9A4-3BD6-425A-BDDC-33861844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8064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00000" y="3806640"/>
            <a:ext cx="8064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682E-3A9D-4322-AA5E-34270C63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28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00000" y="3806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2800" y="3806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31A-3761-4BCC-A816-7EE810C7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27000" y="1052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53640" y="1052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00000" y="3806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27000" y="3806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53640" y="3806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092A-4D57-4ECC-A3ED-A8267C18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968C-59EC-4FA8-B6B2-F99524E0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00000" y="1052640"/>
            <a:ext cx="8064720" cy="52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6DE1-86A8-4721-BFA9-A8F605B8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80647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AF5E-1E3F-4120-A959-8BAFA837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9355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5032800" y="1052640"/>
            <a:ext cx="39355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B661-3EEF-400D-9DA1-AD850CBA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408B-09F2-4233-9F89-13E365E0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ubTitle"/>
          </p:nvPr>
        </p:nvSpPr>
        <p:spPr>
          <a:xfrm>
            <a:off x="1116000" y="115920"/>
            <a:ext cx="784872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EA2C-19B5-440A-BC12-90D2D6E6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5032800" y="1052640"/>
            <a:ext cx="39355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900000" y="3806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7375-C151-4379-AF48-0A7B65F7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00000" y="1052640"/>
            <a:ext cx="8064720" cy="52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509-9F7C-46BD-B282-FF9E70A9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9355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0328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5032800" y="3806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8BC3-2DD6-4A9F-AF13-C00FC3EE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50328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900000" y="3806640"/>
            <a:ext cx="8064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EFD0-480E-4F1F-BF0D-60A15196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8064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900000" y="3806640"/>
            <a:ext cx="8064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337A-1AC5-461E-BD5A-B0295951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50328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900000" y="3806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5032800" y="3806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3CA4-72EB-4BC8-BC6B-269B385A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627000" y="1052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353640" y="1052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900000" y="3806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70" name="PlaceHolder 6"/>
          <p:cNvSpPr>
            <a:spLocks noGrp="1"/>
          </p:cNvSpPr>
          <p:nvPr>
            <p:ph/>
          </p:nvPr>
        </p:nvSpPr>
        <p:spPr>
          <a:xfrm>
            <a:off x="3627000" y="3806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71" name="PlaceHolder 7"/>
          <p:cNvSpPr>
            <a:spLocks noGrp="1"/>
          </p:cNvSpPr>
          <p:nvPr>
            <p:ph/>
          </p:nvPr>
        </p:nvSpPr>
        <p:spPr>
          <a:xfrm>
            <a:off x="6353640" y="3806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1E48-3BB1-4E71-975E-D74DF228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80647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94AD-2959-4590-B56D-0445EEEF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9355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2800" y="1052640"/>
            <a:ext cx="39355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C9C-B38B-4754-8D71-923B8C70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6EC0-C32E-4048-83FC-1DA267FC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16000" y="115920"/>
            <a:ext cx="784872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FB1-917A-41EB-8D44-BD1F84B1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2800" y="1052640"/>
            <a:ext cx="39355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00000" y="3806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13EA-33BF-4412-A5F9-8213CBD0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9355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28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0" y="3806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C07-765D-4D83-9BAE-27843BBB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8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00000" y="3806640"/>
            <a:ext cx="8064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996-5177-46A3-9E92-47F773F5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713640"/>
            <a:ext cx="9144000" cy="144360"/>
          </a:xfrm>
          <a:prstGeom prst="rect">
            <a:avLst/>
          </a:prstGeom>
          <a:gradFill rotWithShape="0">
            <a:gsLst>
              <a:gs pos="0">
                <a:srgbClr val="8e76dc"/>
              </a:gs>
              <a:gs pos="100000">
                <a:srgbClr val="063b7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cap="sq" w="38160">
            <a:solidFill>
              <a:srgbClr val="063b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00000" y="1052640"/>
            <a:ext cx="80647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e76d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76e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76e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26520" y="645336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943240" y="645336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5f5f5f"/>
                </a:solidFill>
                <a:latin typeface="Verdana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276720" y="645336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5f5f5f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3C67-1943-4764-AB00-6555AD2BDCA8}" type="slidenum">
              <a:rPr b="1" lang="ko-KR" sz="1200" spc="-1" strike="noStrike">
                <a:solidFill>
                  <a:srgbClr val="5f5f5f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b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1160" y="3413160"/>
            <a:ext cx="9132840" cy="3444480"/>
            <a:chOff x="11160" y="3413160"/>
            <a:chExt cx="9132840" cy="3444480"/>
          </a:xfrm>
        </p:grpSpPr>
        <p:grpSp>
          <p:nvGrpSpPr>
            <p:cNvPr id="44" name=""/>
            <p:cNvGrpSpPr/>
            <p:nvPr/>
          </p:nvGrpSpPr>
          <p:grpSpPr>
            <a:xfrm>
              <a:off x="11160" y="3413160"/>
              <a:ext cx="9124920" cy="103320"/>
              <a:chOff x="11160" y="3413160"/>
              <a:chExt cx="9124920" cy="103320"/>
            </a:xfrm>
          </p:grpSpPr>
          <p:sp>
            <p:nvSpPr>
              <p:cNvPr id="45" name=""/>
              <p:cNvSpPr/>
              <p:nvPr/>
            </p:nvSpPr>
            <p:spPr>
              <a:xfrm>
                <a:off x="1116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7316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2544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8744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4440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0640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5904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2068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279440" y="3417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44144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93720" y="3417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5572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13040" y="3417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07504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27320" y="3417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38932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54160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03600" y="3413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85588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017880" y="3413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17520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336840" y="3413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48948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651120" y="3413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80988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7188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2452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28616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44348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60548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75776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91976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84640" y="3417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237280" y="34196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399280" y="3417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55156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71356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86584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2784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18480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34680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49944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6108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19840" y="3417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98184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34120" y="3417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29612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453440" y="3417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1544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767720" y="3417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92972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08992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251920" y="3413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0888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570880" y="3413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72352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85160" y="3413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03924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19080" y="5699160"/>
              <a:ext cx="9124920" cy="103320"/>
              <a:chOff x="19080" y="5699160"/>
              <a:chExt cx="9124920" cy="103320"/>
            </a:xfrm>
          </p:grpSpPr>
          <p:sp>
            <p:nvSpPr>
              <p:cNvPr id="104" name=""/>
              <p:cNvSpPr/>
              <p:nvPr/>
            </p:nvSpPr>
            <p:spPr>
              <a:xfrm>
                <a:off x="1908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108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3336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9536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5232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1432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96696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12860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87360" y="5703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44936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01640" y="5703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6364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20960" y="5703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8296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35240" y="5703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39724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4952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711520" y="5699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6380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025800" y="5699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18312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344760" y="5699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9740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659040" y="5699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81780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7980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3244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29408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5140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340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568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92768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092560" y="5703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57056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07200" y="5703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55948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72148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87376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03576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19272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35472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0736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66900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827760" y="5703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8976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142040" y="5703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30404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461360" y="5703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2336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775640" y="5703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93764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9784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259840" y="5699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41680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578800" y="5699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3144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893080" y="5699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04716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9080" y="6399360"/>
              <a:ext cx="9124920" cy="458280"/>
              <a:chOff x="19080" y="6399360"/>
              <a:chExt cx="9124920" cy="45828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19080" y="6755040"/>
                <a:ext cx="9124920" cy="102600"/>
                <a:chOff x="19080" y="6755040"/>
                <a:chExt cx="9124920" cy="1026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908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8108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3336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9536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5232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1432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96696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12860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287360" y="67593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44936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601640" y="67593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76364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920960" y="67593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08296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235240" y="67593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39724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54952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711520" y="6755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86380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025800" y="6755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18312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344760" y="6755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49740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659040" y="6755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81780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97980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13244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29408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45140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1340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76568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92768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092560" y="67593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245200" y="67611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407200" y="67593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55948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72148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87376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03576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19272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35472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50736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66900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827760" y="67593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98976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142040" y="67593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30404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61360" y="67593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62336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775640" y="67593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93764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09784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259840" y="6755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41680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578800" y="6755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73144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893080" y="6755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904716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9080" y="6577200"/>
                <a:ext cx="9124920" cy="103320"/>
                <a:chOff x="19080" y="6577200"/>
                <a:chExt cx="9124920" cy="103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908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8108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3336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9536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5232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1432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96696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12860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287360" y="65818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44936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601640" y="65818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76364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920960" y="65818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08296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235240" y="65818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39724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4952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711520" y="65772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6380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025800" y="65772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18312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344760" y="65772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49740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659040" y="65772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1780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97980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13244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29408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45140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61340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76568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2768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092560" y="65818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245200" y="65836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407200" y="65818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55948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72148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87376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03576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19272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35472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50736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66900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827760" y="65818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98976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42040" y="65818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30404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461360" y="65818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62336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775640" y="65818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93764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09784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259840" y="65772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41680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578800" y="65772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73144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893080" y="65772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904716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9080" y="6399360"/>
                <a:ext cx="9124920" cy="103320"/>
                <a:chOff x="19080" y="6399360"/>
                <a:chExt cx="9124920" cy="1033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908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108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3336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9536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5232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1432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96696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12860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287360" y="64040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44936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601640" y="64040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76364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920960" y="64040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08296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235240" y="64040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39724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4952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711520" y="6399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86380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025800" y="6399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18312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344760" y="6399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49740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659040" y="6399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1780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97980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13244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29408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45140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61340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76568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92768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092560" y="64040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245200" y="64058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407200" y="64040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55948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72148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87376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3576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19272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35472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50736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6900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827760" y="64040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98976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142040" y="64040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30404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461360" y="64040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62336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775640" y="64040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93764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809784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8259840" y="6399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841680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8578800" y="6399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73144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8893080" y="6399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904716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19080" y="5877000"/>
              <a:ext cx="9124920" cy="458280"/>
              <a:chOff x="19080" y="5877000"/>
              <a:chExt cx="9124920" cy="45828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19080" y="6232680"/>
                <a:ext cx="9124920" cy="102600"/>
                <a:chOff x="19080" y="6232680"/>
                <a:chExt cx="9124920" cy="10260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908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108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3336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9536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5232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1432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96696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12860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287360" y="62370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4936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601640" y="62370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76364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920960" y="62370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08296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235240" y="62370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39724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54952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711520" y="6232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86380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025800" y="6232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18312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344760" y="6232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49740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659040" y="6232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81780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397980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13244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29408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45140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61340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76568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92768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092560" y="62370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245200" y="62388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407200" y="62370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55948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72148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87376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03576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19272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35472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50736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66900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827760" y="62370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98976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142040" y="62370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30404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461360" y="62370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62336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775640" y="62370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93764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09784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8259840" y="6232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41680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578800" y="6232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73144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893080" y="6232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904716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19080" y="6054840"/>
                <a:ext cx="9124920" cy="103320"/>
                <a:chOff x="19080" y="6054840"/>
                <a:chExt cx="9124920" cy="1033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908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8108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3336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9536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5232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1432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96696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12860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287360" y="6059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44936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601640" y="6059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76364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920960" y="6059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08296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235240" y="6059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39724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54952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711520" y="60548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86380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25800" y="60548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18312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344760" y="60548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49740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659040" y="60548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81780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97980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13244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29408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45140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61340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76568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92768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092560" y="6059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245200" y="60613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407200" y="6059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55948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72148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87376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03576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19272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35472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650736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6900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827760" y="6059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98976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142040" y="6059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30404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461360" y="6059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62336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775640" y="6059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93764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09784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8259840" y="60548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841680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8578800" y="60548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73144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893080" y="60548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904716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19080" y="5877000"/>
                <a:ext cx="9124920" cy="103320"/>
                <a:chOff x="19080" y="5877000"/>
                <a:chExt cx="9124920" cy="10332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1908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8108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3336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9536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5232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1432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96696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12860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287360" y="58816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44936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601640" y="58816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76364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920960" y="58816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08296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235240" y="58816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39724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54952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711520" y="58770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86380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025800" y="58770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18312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344760" y="58770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49740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659040" y="58770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81780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97980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13244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29408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45140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61340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76568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92768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092560" y="58816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245200" y="58834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407200" y="58816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55948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72148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87376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3576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19272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35472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50736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66900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827760" y="58816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698976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142040" y="58816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730404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461360" y="58816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62336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775640" y="58816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93764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09784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259840" y="58770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41680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578800" y="58770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73144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8893080" y="58770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904716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8" name=""/>
            <p:cNvGrpSpPr/>
            <p:nvPr/>
          </p:nvGrpSpPr>
          <p:grpSpPr>
            <a:xfrm>
              <a:off x="19080" y="4994280"/>
              <a:ext cx="9124920" cy="636120"/>
              <a:chOff x="19080" y="4994280"/>
              <a:chExt cx="9124920" cy="636120"/>
            </a:xfrm>
          </p:grpSpPr>
          <p:grpSp>
            <p:nvGrpSpPr>
              <p:cNvPr id="519" name=""/>
              <p:cNvGrpSpPr/>
              <p:nvPr/>
            </p:nvGrpSpPr>
            <p:grpSpPr>
              <a:xfrm>
                <a:off x="19080" y="5527800"/>
                <a:ext cx="9124920" cy="102600"/>
                <a:chOff x="19080" y="5527800"/>
                <a:chExt cx="9124920" cy="1026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1908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8108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3336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9536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5232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81432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96696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12860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287360" y="5532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44936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601640" y="5532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76364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920960" y="5532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08296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235240" y="5532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39724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54952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711520" y="55278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86380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025800" y="55278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18312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344760" y="55278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49740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659040" y="55278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81780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97980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13244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29408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45140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61340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76568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92768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5092560" y="5532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5245200" y="5533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407200" y="5532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55948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72148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87376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03576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19272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35472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50736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6900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6827760" y="5532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98976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142040" y="5532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730404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461360" y="5532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62336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775640" y="5532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93764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09784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8259840" y="55278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41680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578800" y="55278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873144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8893080" y="55278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904716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19080" y="5349960"/>
                <a:ext cx="9124920" cy="102600"/>
                <a:chOff x="19080" y="5349960"/>
                <a:chExt cx="9124920" cy="10260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1908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8108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3336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9536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65232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81432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96696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12860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287360" y="53542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44936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601640" y="53542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76364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920960" y="53542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08296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235240" y="53542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39724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54952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711520" y="53499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86380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025800" y="53499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18312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344760" y="53499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49740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659040" y="53499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81780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97980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13244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429408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445140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61340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76568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92768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092560" y="53542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245200" y="53560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407200" y="53542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55948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572148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587376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603576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619272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35472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50736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66900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827760" y="53542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98976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142040" y="53542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30404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461360" y="53542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762336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7775640" y="53542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93764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09784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259840" y="53499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841680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578800" y="53499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73144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8893080" y="53499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904716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19080" y="5172120"/>
                <a:ext cx="9124920" cy="103320"/>
                <a:chOff x="19080" y="5172120"/>
                <a:chExt cx="9124920" cy="1033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1908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8108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3336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9536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5232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1432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96696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12860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287360" y="5176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44936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601640" y="5176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76364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920960" y="5176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08296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235240" y="5176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39724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254952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2711520" y="51721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86380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025800" y="51721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18312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344760" y="51721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49740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3659040" y="51721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81780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97980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13244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29408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45140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1340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76568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92768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092560" y="5176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245200" y="5178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407200" y="5176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55948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72148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87376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03576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19272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35472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50736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66900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6827760" y="5176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98976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7142040" y="5176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730404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7461360" y="5176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762336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7775640" y="5176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793764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809784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8259840" y="51721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841680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8578800" y="51721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873144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8893080" y="51721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904716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19080" y="4994280"/>
                <a:ext cx="9124920" cy="103320"/>
                <a:chOff x="19080" y="4994280"/>
                <a:chExt cx="9124920" cy="10332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1908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8108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3336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9536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5232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81432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96696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12860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287360" y="49989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44936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601640" y="49989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76364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920960" y="49989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208296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2235240" y="49989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239724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254952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711520" y="4994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286380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3025800" y="4994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318312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344760" y="4994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49740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3659040" y="4994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381780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97980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413244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29408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45140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61340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76568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492768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092560" y="49989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245200" y="50007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407200" y="49989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55948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72148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87376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03576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619272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35472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50736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66900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827760" y="49989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698976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142040" y="49989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30404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461360" y="49989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62336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775640" y="49989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93764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09784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8259840" y="4994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841680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8578800" y="4994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873144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8893080" y="4994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904716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5" name=""/>
            <p:cNvGrpSpPr/>
            <p:nvPr/>
          </p:nvGrpSpPr>
          <p:grpSpPr>
            <a:xfrm>
              <a:off x="14400" y="3583080"/>
              <a:ext cx="9124920" cy="1341000"/>
              <a:chOff x="14400" y="3583080"/>
              <a:chExt cx="9124920" cy="1341000"/>
            </a:xfrm>
          </p:grpSpPr>
          <p:grpSp>
            <p:nvGrpSpPr>
              <p:cNvPr id="756" name=""/>
              <p:cNvGrpSpPr/>
              <p:nvPr/>
            </p:nvGrpSpPr>
            <p:grpSpPr>
              <a:xfrm>
                <a:off x="14400" y="4287960"/>
                <a:ext cx="9124920" cy="636120"/>
                <a:chOff x="14400" y="4287960"/>
                <a:chExt cx="9124920" cy="636120"/>
              </a:xfrm>
            </p:grpSpPr>
            <p:grpSp>
              <p:nvGrpSpPr>
                <p:cNvPr id="757" name=""/>
                <p:cNvGrpSpPr/>
                <p:nvPr/>
              </p:nvGrpSpPr>
              <p:grpSpPr>
                <a:xfrm>
                  <a:off x="14400" y="4821480"/>
                  <a:ext cx="9124920" cy="102600"/>
                  <a:chOff x="14400" y="4821480"/>
                  <a:chExt cx="9124920" cy="10260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>
                    <a:off x="1440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17640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32868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49068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64764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80964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96228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112392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1282680" y="48258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144468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1596960" y="48258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175896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1916280" y="48258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207828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2230560" y="48258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239256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254484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2706840" y="4821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285912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3021120" y="4821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317844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3340080" y="4821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349272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3654360" y="4821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381312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397512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412776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428940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444672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460872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476100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492300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5087880" y="48258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5240520" y="48276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5402520" y="48258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555480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571680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586908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603108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618804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635004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650268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666432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6823080" y="48258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698508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7137360" y="48258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729936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7456680" y="48258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761868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7770960" y="48258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793296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809316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8255160" y="4821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841212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8574120" y="4821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872676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8888400" y="4821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904248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6" name=""/>
                <p:cNvGrpSpPr/>
                <p:nvPr/>
              </p:nvGrpSpPr>
              <p:grpSpPr>
                <a:xfrm>
                  <a:off x="14400" y="4643640"/>
                  <a:ext cx="9124920" cy="102600"/>
                  <a:chOff x="14400" y="4643640"/>
                  <a:chExt cx="9124920" cy="10260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>
                    <a:off x="1440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17640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32868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49068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64764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80964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96228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112392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1282680" y="46479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144468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1596960" y="46479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175896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1916280" y="46479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207828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2230560" y="46479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239256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254484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2706840" y="4643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285912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3021120" y="4643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317844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3340080" y="4643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49272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654360" y="4643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381312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397512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412776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428940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444672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460872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476100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492300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5087880" y="46479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5240520" y="46497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5402520" y="46479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555480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571680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586908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603108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618804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635004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650268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666432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6823080" y="46479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698508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7137360" y="46479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729936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7456680" y="46479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761868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7770960" y="46479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793296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809316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8255160" y="4643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841212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8574120" y="4643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872676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8888400" y="4643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904248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5" name=""/>
                <p:cNvGrpSpPr/>
                <p:nvPr/>
              </p:nvGrpSpPr>
              <p:grpSpPr>
                <a:xfrm>
                  <a:off x="14400" y="4465800"/>
                  <a:ext cx="9124920" cy="103320"/>
                  <a:chOff x="14400" y="4465800"/>
                  <a:chExt cx="9124920" cy="10332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1440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17640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32868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49068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64764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80964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96228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112392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1282680" y="44704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144468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1596960" y="44704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175896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1916280" y="44704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207828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2230560" y="44704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239256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254484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2706840" y="44658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285912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3021120" y="44658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317844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3340080" y="44658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349272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3654360" y="44658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381312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397512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412776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428940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444672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460872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476100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492300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087880" y="44704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5240520" y="44722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5402520" y="44704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555480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571680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586908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603108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618804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635004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650268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666432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6823080" y="44704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698508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7137360" y="44704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729936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7456680" y="44704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761868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7770960" y="44704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793296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809316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8255160" y="44658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841212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8574120" y="44658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872676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8888400" y="44658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904248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4" name=""/>
                <p:cNvGrpSpPr/>
                <p:nvPr/>
              </p:nvGrpSpPr>
              <p:grpSpPr>
                <a:xfrm>
                  <a:off x="14400" y="4287960"/>
                  <a:ext cx="9124920" cy="103320"/>
                  <a:chOff x="14400" y="4287960"/>
                  <a:chExt cx="9124920" cy="103320"/>
                </a:xfrm>
              </p:grpSpPr>
              <p:sp>
                <p:nvSpPr>
                  <p:cNvPr id="935" name=""/>
                  <p:cNvSpPr/>
                  <p:nvPr/>
                </p:nvSpPr>
                <p:spPr>
                  <a:xfrm>
                    <a:off x="1440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17640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2868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49068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64764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80964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96228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112392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1282680" y="42926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144468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596960" y="42926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175896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916280" y="42926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07828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230560" y="42926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239256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254484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2706840" y="42879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285912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3021120" y="42879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317844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3340080" y="42879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349272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3654360" y="42879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81312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397512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12776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28940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44672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460872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476100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492300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5087880" y="42926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5240520" y="42944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5402520" y="42926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555480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571680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586908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603108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618804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635004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50268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666432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823080" y="42926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698508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7137360" y="42926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729936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7456680" y="42926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761868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7770960" y="42926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793296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809316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8255160" y="42879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841212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8574120" y="42879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872676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8888400" y="42879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904248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3" name=""/>
              <p:cNvGrpSpPr/>
              <p:nvPr/>
            </p:nvGrpSpPr>
            <p:grpSpPr>
              <a:xfrm>
                <a:off x="14400" y="3583080"/>
                <a:ext cx="9124920" cy="636120"/>
                <a:chOff x="14400" y="3583080"/>
                <a:chExt cx="9124920" cy="636120"/>
              </a:xfrm>
            </p:grpSpPr>
            <p:grpSp>
              <p:nvGrpSpPr>
                <p:cNvPr id="994" name=""/>
                <p:cNvGrpSpPr/>
                <p:nvPr/>
              </p:nvGrpSpPr>
              <p:grpSpPr>
                <a:xfrm>
                  <a:off x="14400" y="4116600"/>
                  <a:ext cx="9124920" cy="102600"/>
                  <a:chOff x="14400" y="4116600"/>
                  <a:chExt cx="9124920" cy="10260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1440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17640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32868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49068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64764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80964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96228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112392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1282680" y="41209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144468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1596960" y="41209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175896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1916280" y="41209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207828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2230560" y="41209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239256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254484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2706840" y="41166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285912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3021120" y="41166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317844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3340080" y="41166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349272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3654360" y="41166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381312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397512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412776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428940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44672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460872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76100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492300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5087880" y="41209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5240520" y="4122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5402520" y="41209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555480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571680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586908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603108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618804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635004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650268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666432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6823080" y="41209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698508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7137360" y="41209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29936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7456680" y="41209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61868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7770960" y="41209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793296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809316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8255160" y="41166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841212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8574120" y="41166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872676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8888400" y="41166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904248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3" name=""/>
                <p:cNvGrpSpPr/>
                <p:nvPr/>
              </p:nvGrpSpPr>
              <p:grpSpPr>
                <a:xfrm>
                  <a:off x="14400" y="3938760"/>
                  <a:ext cx="9124920" cy="102600"/>
                  <a:chOff x="14400" y="3938760"/>
                  <a:chExt cx="9124920" cy="10260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1440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17640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2868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49068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64764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80964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96228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112392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1282680" y="39430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144468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1596960" y="39430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175896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1916280" y="39430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207828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2230560" y="39430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239256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254484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2706840" y="39387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285912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021120" y="39387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17844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340080" y="39387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49272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654360" y="39387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81312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97512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412776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428940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444672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460872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476100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492300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5087880" y="39430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5240520" y="39448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5402520" y="39430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555480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571680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586908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603108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618804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635004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650268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666432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6823080" y="39430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698508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7137360" y="39430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729936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7456680" y="39430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761868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7770960" y="39430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793296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809316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8255160" y="39387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841212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8574120" y="39387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872676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8888400" y="39387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904248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2" name=""/>
                <p:cNvGrpSpPr/>
                <p:nvPr/>
              </p:nvGrpSpPr>
              <p:grpSpPr>
                <a:xfrm>
                  <a:off x="14400" y="3760920"/>
                  <a:ext cx="9124920" cy="103320"/>
                  <a:chOff x="14400" y="3760920"/>
                  <a:chExt cx="9124920" cy="103320"/>
                </a:xfrm>
              </p:grpSpPr>
              <p:sp>
                <p:nvSpPr>
                  <p:cNvPr id="1113" name=""/>
                  <p:cNvSpPr/>
                  <p:nvPr/>
                </p:nvSpPr>
                <p:spPr>
                  <a:xfrm>
                    <a:off x="1440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17640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32868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9068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64764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80964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96228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112392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282680" y="37656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144468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596960" y="37656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175896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1916280" y="37656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207828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2230560" y="37656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239256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254484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2706840" y="37609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285912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3021120" y="37609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317844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3340080" y="37609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49272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3654360" y="37609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381312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397512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12776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428940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444672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460872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476100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492300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5087880" y="37656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5240520" y="3767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5402520" y="37656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55480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571680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86908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603108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18804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635004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50268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666432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6823080" y="37656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698508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7137360" y="37656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729936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7456680" y="37656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761868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7770960" y="37656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793296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809316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8255160" y="37609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841212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8574120" y="37609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872676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8888400" y="37609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904248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1" name=""/>
                <p:cNvGrpSpPr/>
                <p:nvPr/>
              </p:nvGrpSpPr>
              <p:grpSpPr>
                <a:xfrm>
                  <a:off x="14400" y="3583080"/>
                  <a:ext cx="9124920" cy="103320"/>
                  <a:chOff x="14400" y="3583080"/>
                  <a:chExt cx="9124920" cy="103320"/>
                </a:xfrm>
              </p:grpSpPr>
              <p:sp>
                <p:nvSpPr>
                  <p:cNvPr id="1172" name=""/>
                  <p:cNvSpPr/>
                  <p:nvPr/>
                </p:nvSpPr>
                <p:spPr>
                  <a:xfrm>
                    <a:off x="1440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17640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32868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49068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4764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80964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96228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112392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1282680" y="35877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144468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1596960" y="35877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175896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1916280" y="35877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207828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2230560" y="35877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239256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54484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706840" y="35830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85912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3021120" y="35830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317844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3340080" y="35830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49272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654360" y="35830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81312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97512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412776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428940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444672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460872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476100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492300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5087880" y="35877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5240520" y="35895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5402520" y="35877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555480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571680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586908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603108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618804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635004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0268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66432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823080" y="35877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698508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7137360" y="35877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729936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7456680" y="35877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761868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7770960" y="35877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793296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809316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8255160" y="35830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841212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8574120" y="35830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872676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8888400" y="35830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904248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230" name="" descr=""/>
          <p:cNvPicPr/>
          <p:nvPr/>
        </p:nvPicPr>
        <p:blipFill>
          <a:blip r:embed="rId2"/>
          <a:stretch/>
        </p:blipFill>
        <p:spPr>
          <a:xfrm>
            <a:off x="1338120" y="1781280"/>
            <a:ext cx="6477120" cy="3314520"/>
          </a:xfrm>
          <a:prstGeom prst="rect">
            <a:avLst/>
          </a:prstGeom>
          <a:ln w="0">
            <a:noFill/>
          </a:ln>
        </p:spPr>
      </p:pic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Verdana"/>
              </a:rPr>
              <a:t>Click to edit the title text format</a:t>
            </a:r>
            <a:endParaRPr b="1" i="1" lang="en-US" sz="38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2CA5-8201-47CB-8779-07D35C0C5FA2}" type="slidenum">
              <a:rPr b="0" lang="ko-KR" sz="1400" spc="-1" strike="noStrike">
                <a:solidFill>
                  <a:srgbClr val="5f5f5f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ccec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76e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76ec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b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Verdana"/>
                <a:ea typeface="Gulim"/>
              </a:rPr>
              <a:t>医疗</a:t>
            </a:r>
            <a:r>
              <a:rPr b="1" i="1" lang="zh-CN" sz="3800" spc="-1" strike="noStrike">
                <a:solidFill>
                  <a:srgbClr val="ccecff"/>
                </a:solidFill>
                <a:latin typeface="Verdana"/>
                <a:ea typeface="宋体"/>
              </a:rPr>
              <a:t>工作者</a:t>
            </a:r>
            <a:r>
              <a:rPr b="1" i="1" lang="zh-CN" sz="3800" spc="-1" strike="noStrike">
                <a:solidFill>
                  <a:srgbClr val="ccecff"/>
                </a:solidFill>
                <a:latin typeface="Verdana"/>
                <a:ea typeface="宋体"/>
              </a:rPr>
              <a:t>PPT</a:t>
            </a:r>
            <a:r>
              <a:rPr b="1" i="1" lang="zh-CN" sz="3800" spc="-1" strike="noStrike">
                <a:solidFill>
                  <a:srgbClr val="ccecff"/>
                </a:solidFill>
                <a:latin typeface="Verdana"/>
                <a:ea typeface="宋体"/>
              </a:rPr>
              <a:t>模板在线下载</a:t>
            </a:r>
            <a:endParaRPr b="1" i="1" lang="en-US" sz="38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1273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ccecff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ccec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1332000" y="5229000"/>
            <a:ext cx="6480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ecff"/>
                </a:solidFill>
                <a:latin typeface="Arial"/>
                <a:ea typeface="Gulim"/>
              </a:rPr>
              <a:t>Click to add title</a:t>
            </a: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80647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e76d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  <a:ea typeface="Gulim"/>
              </a:rPr>
              <a:t>Competitors 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e76d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  <a:ea typeface="Gulim"/>
              </a:rPr>
              <a:t>Strengths 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e76d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  <a:ea typeface="Gulim"/>
              </a:rPr>
              <a:t>Weaknesses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ecff"/>
                </a:solidFill>
                <a:latin typeface="Arial"/>
              </a:rPr>
              <a:t>使用规范说明</a:t>
            </a: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FCD4-01DA-4650-B225-1F3E0797BD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ecff"/>
                </a:solidFill>
                <a:latin typeface="Arial"/>
                <a:ea typeface="Gulim"/>
              </a:rPr>
              <a:t>Related Documents</a:t>
            </a: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81" name="" descr=""/>
          <p:cNvPicPr/>
          <p:nvPr/>
        </p:nvPicPr>
        <p:blipFill>
          <a:blip r:embed="rId2"/>
          <a:stretch/>
        </p:blipFill>
        <p:spPr>
          <a:xfrm>
            <a:off x="1547640" y="165420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128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2c1d4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9:22:3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02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