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4617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4617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4617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4617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4617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4617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4617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4617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4617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4617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4617b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4617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4617b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4617b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4617b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4617b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4617b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4617b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4617b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4617b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4617b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4617b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4617b"/>
                </a:solidFill>
                <a:latin typeface="Arial"/>
                <a:ea typeface="宋体"/>
              </a:rPr>
              <a:t>A Presentation</a:t>
            </a:r>
            <a:endParaRPr b="0" lang="en-US" sz="2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Arial"/>
                <a:ea typeface="宋体"/>
              </a:rPr>
              <a:t>Medical Montage</a:t>
            </a:r>
            <a:endParaRPr b="0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7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1096920" y="260280"/>
            <a:ext cx="628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92aa2"/>
                </a:solidFill>
                <a:latin typeface="Arial"/>
                <a:ea typeface="宋体"/>
              </a:rPr>
              <a:t>医疗急救</a:t>
            </a:r>
            <a:r>
              <a:rPr b="0" lang="zh-CN" sz="4000" spc="-1" strike="noStrike">
                <a:solidFill>
                  <a:srgbClr val="692aa2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692aa2"/>
                </a:solidFill>
                <a:latin typeface="Arial"/>
                <a:ea typeface="宋体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4617b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4617b"/>
                </a:solidFill>
                <a:latin typeface="Arial"/>
                <a:ea typeface="宋体"/>
              </a:rPr>
              <a:t>Your Sub Points</a:t>
            </a:r>
            <a:endParaRPr b="0" lang="en-US" sz="32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Arial"/>
                <a:ea typeface="宋体"/>
              </a:rPr>
              <a:t>Your Main Point</a:t>
            </a: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endParaRPr b="0" lang="en-US" sz="3200" spc="-1" strike="noStrike">
              <a:solidFill>
                <a:srgbClr val="04617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4406760"/>
            <a:ext cx="64008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1" lang="en-US" sz="4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14400" y="2906280"/>
            <a:ext cx="64008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2000" spc="-1" strike="noStrike">
              <a:solidFill>
                <a:srgbClr val="04617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4617b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4617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4617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4dd4f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4dd4f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4617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4617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4617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4617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4617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4617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4617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4617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4617b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4617b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4dd4f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4dd4f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4617b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4dd4f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4dd4f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4dd4f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4617b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4dd4f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4dd4f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4617b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4dd4f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4dd4f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4617b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4dd4f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4dd4f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4617b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4dd4f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4dd4f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4617b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4dd4f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4dd4f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4617b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4dd4f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4dd4f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4617b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4dd4f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4dd4f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4617b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4dd4f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4dd4f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4617b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4dd4f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4dd4f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4617b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4617b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4617b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4617b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4617b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4617b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4dd4f9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9T14:39:0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7:06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  <property fmtid="{D5CDD505-2E9C-101B-9397-08002B2CF9AE}" pid="3" name="_TemplateID">
    <vt:lpwstr>TC103368001033</vt:lpwstr>
  </property>
</Properties>
</file>