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2A0F-03FC-4627-927B-2FC9774E2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5935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D3C5-822C-4E5D-BA7B-BD7CDDFC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59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59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E26F-ECE4-4C7B-BC09-8B02D770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5935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5935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5935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5794-CC21-4C42-B7EC-CAE747D8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6BFE-154B-4596-A643-94DAEA078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C949-DBF0-4E6E-A5C8-84307164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5607-5510-4CF0-9289-29BBFF1A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1312-29F9-4C55-8011-8128CE2F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4B04-3CA0-464F-9B1A-B5859AB7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8EFB-440D-4146-B3BA-ED0F2C8D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59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C6C0-0322-4A04-B668-3AC07468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A016-C4F1-42DA-9D95-A91E80FE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59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5A44-100E-46F0-AF80-124D2A7F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5935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8B81-A5F8-426E-8FC1-68D0684C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5935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A243-9F5B-4CE7-B8F1-FACB5181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59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59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4D80-FA45-402D-8091-40E340ADE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5935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5935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5935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FD5F-B21A-4492-8D06-395F311FB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2566-A1C7-450B-8E75-D4EDA19B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1408-4BBA-4B1D-A63A-5D30F0C4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6674-D171-4791-A0AF-95CAD800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34B1-F77B-4C48-B508-21ED6CFA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59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128B-3596-42F5-A189-FC7BAA2C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59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191E-C9B2-4891-85D4-113572E5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5935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7BFD-A20A-41E1-A6B2-C6BA2A96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nbg11_3_2"/>
          <p:cNvPicPr/>
          <p:nvPr/>
        </p:nvPicPr>
        <p:blipFill>
          <a:blip r:embed="rId2"/>
          <a:stretch/>
        </p:blipFill>
        <p:spPr>
          <a:xfrm>
            <a:off x="0" y="0"/>
            <a:ext cx="2209680" cy="1600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nbg11_3_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머리정체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머리정체B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머리정체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머리정체B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머리정체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머리정체B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머리정체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머리정체B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머리정체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머리정체B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머리정체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머리정체B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머리정체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머리정체B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59436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70CA-12EC-48F7-A017-7D6222DDE1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nbg11_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nbg11_3_1"/>
          <p:cNvPicPr/>
          <p:nvPr/>
        </p:nvPicPr>
        <p:blipFill>
          <a:blip r:embed="rId3"/>
          <a:stretch/>
        </p:blipFill>
        <p:spPr>
          <a:xfrm>
            <a:off x="0" y="4448160"/>
            <a:ext cx="9144000" cy="885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머리정체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머리정체B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머리정체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머리정체B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머리정체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머리정체B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머리정체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머리정체B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머리정체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머리정체B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머리정체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머리정체B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머리정체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머리정체B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8603-40EA-4E8E-AE7E-9F7C4AACABB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9"/>
          <p:cNvSpPr/>
          <p:nvPr/>
        </p:nvSpPr>
        <p:spPr>
          <a:xfrm>
            <a:off x="108000" y="404640"/>
            <a:ext cx="871380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-머리정체B"/>
                <a:ea typeface="宋体"/>
              </a:rPr>
              <a:t>医疗教育化学试剂精美</a:t>
            </a:r>
            <a:r>
              <a:rPr b="0" lang="zh-CN" sz="4000" spc="-1" strike="noStrike">
                <a:solidFill>
                  <a:srgbClr val="000000"/>
                </a:solidFill>
                <a:latin typeface="-머리정체B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-머리정체B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-머리정체B"/>
              </a:rPr>
              <a:t>站点介绍</a:t>
            </a:r>
            <a:r>
              <a:rPr b="1" lang="ko-KR" sz="1400" spc="-1" strike="noStrike">
                <a:solidFill>
                  <a:srgbClr val="ededed"/>
                </a:solidFill>
                <a:latin typeface="-머리정체B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-머리정체B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-머리정체B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-머리정체B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-머리정체B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-머리정체B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-머리정체B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-머리정체B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-머리정체B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-머리정체B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-머리정체B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-머리정체B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-머리정체B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-머리정체B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-머리정체B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-머리정체B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-머리정체B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-머리정체B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-머리정체B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-머리정체B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-머리정체B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-머리정체B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-머리정체B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-머리정체B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-머리정체B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-머리정체B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-머리정체B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-머리정체B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-머리정체B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-머리정체B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-머리정체B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-머리정체B"/>
              </a:rPr>
              <a:t>栏目推荐</a:t>
            </a:r>
            <a:r>
              <a:rPr b="1" lang="ko-KR" sz="1400" spc="-1" strike="noStrike">
                <a:solidFill>
                  <a:srgbClr val="ededed"/>
                </a:solidFill>
                <a:latin typeface="-머리정체B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17E4-998C-4458-B433-544608DF9C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93" name=""/>
          <p:cNvSpPr/>
          <p:nvPr/>
        </p:nvSpPr>
        <p:spPr>
          <a:xfrm>
            <a:off x="1116000" y="2637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Gulim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Gulim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4T02:41:22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7:07Z</dcterms:modified>
  <cp:revision>2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