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CDF87-E366-4DEF-A04F-1A55D3BE67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518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2332800"/>
            <a:ext cx="518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4A45B-4777-4DFF-8A44-36AE7DB3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6240" y="213372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233280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36240" y="233280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C14C8-6C5D-4203-B9A3-009372C1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166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133000" y="2133720"/>
            <a:ext cx="166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885120" y="2133720"/>
            <a:ext cx="166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2332800"/>
            <a:ext cx="166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133000" y="2332800"/>
            <a:ext cx="166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3885120" y="2332800"/>
            <a:ext cx="166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328CA-8143-4B61-B605-55F3A4FBD0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2FE2A-BB7B-4BB1-916A-00E534A2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80880" y="2133720"/>
            <a:ext cx="5181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8C159-FA6C-4DC1-87EB-C16C99DA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5181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6255A-9B17-49C8-B4D8-5BA56CE0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2528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36240" y="2133720"/>
            <a:ext cx="2528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BA5AE-2B24-40B1-84BF-2C44B778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7D8AB-3780-4E7A-BCBA-D922C762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533520" y="40381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6EE6E-935E-4137-9A3F-B28E3A05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36240" y="2133720"/>
            <a:ext cx="2528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233280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4B418-C5AA-4C37-82C2-225D59B8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2133720"/>
            <a:ext cx="5181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F0568-2B94-493A-9B09-96BFCA54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2528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6240" y="213372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36240" y="233280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4C1EC-078A-4C4D-A578-DE26E949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6240" y="213372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0880" y="2332800"/>
            <a:ext cx="518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69924-72B9-4700-98B9-4AE968B2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518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0880" y="2332800"/>
            <a:ext cx="518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D566D-B410-46E6-80A8-8B1AA68E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36240" y="213372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80880" y="233280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36240" y="233280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E4D89-0EA9-4246-BA77-D96C87EA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166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133000" y="2133720"/>
            <a:ext cx="166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85120" y="2133720"/>
            <a:ext cx="166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80880" y="2332800"/>
            <a:ext cx="166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133000" y="2332800"/>
            <a:ext cx="166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3885120" y="2332800"/>
            <a:ext cx="166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0808E-E998-47FE-965E-741D4484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5181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38F03-3ACF-4175-B0CF-88BC4DCC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2528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036240" y="2133720"/>
            <a:ext cx="2528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FB02E-DED0-4F69-9363-16D902FC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E4F23-5C72-4B20-AE13-C6C0B141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520" y="40381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EB700-D522-4378-AA03-68193820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036240" y="2133720"/>
            <a:ext cx="2528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233280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FB611-C1D1-4788-8F4D-C88D42B1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2528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36240" y="213372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36240" y="233280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4D7CB-4305-4034-93E2-04AC60B8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36240" y="213372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2332800"/>
            <a:ext cx="518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10EA6-77E4-47AA-B1DA-020462C5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2600" y="990720"/>
            <a:ext cx="9131400" cy="5866920"/>
            <a:chOff x="12600" y="990720"/>
            <a:chExt cx="9131400" cy="5866920"/>
          </a:xfrm>
        </p:grpSpPr>
        <p:sp>
          <p:nvSpPr>
            <p:cNvPr id="1" name=""/>
            <p:cNvSpPr/>
            <p:nvPr/>
          </p:nvSpPr>
          <p:spPr>
            <a:xfrm>
              <a:off x="12600" y="1316520"/>
              <a:ext cx="9131400" cy="5541120"/>
            </a:xfrm>
            <a:prstGeom prst="rect">
              <a:avLst/>
            </a:prstGeom>
            <a:solidFill>
              <a:srgbClr val="7a7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600" y="990720"/>
              <a:ext cx="9131400" cy="325800"/>
            </a:xfrm>
            <a:prstGeom prst="rect">
              <a:avLst/>
            </a:prstGeom>
            <a:gradFill rotWithShape="0">
              <a:gsLst>
                <a:gs pos="0">
                  <a:srgbClr val="383623"/>
                </a:gs>
                <a:gs pos="100000">
                  <a:srgbClr val="7a76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2600" y="12600"/>
            <a:ext cx="9131400" cy="457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365040" y="1142640"/>
            <a:ext cx="832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04920" y="6477120"/>
            <a:ext cx="2133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428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8C5D-B275-4E96-A3CE-0F029CB9F4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04920"/>
            <a:ext cx="8321760" cy="685800"/>
          </a:xfrm>
          <a:prstGeom prst="rect">
            <a:avLst/>
          </a:pr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6248520" y="299880"/>
          <a:ext cx="2209680" cy="6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299880"/>
                    <a:ext cx="22096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" name=""/>
          <p:cNvGraphicFramePr/>
          <p:nvPr/>
        </p:nvGraphicFramePr>
        <p:xfrm>
          <a:off x="7772400" y="0"/>
          <a:ext cx="1371600" cy="131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72400" y="0"/>
                    <a:ext cx="137160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924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743200"/>
            <a:ext cx="9144000" cy="4114800"/>
            <a:chOff x="0" y="2743200"/>
            <a:chExt cx="9144000" cy="4114800"/>
          </a:xfrm>
        </p:grpSpPr>
        <p:sp>
          <p:nvSpPr>
            <p:cNvPr id="50" name=""/>
            <p:cNvSpPr/>
            <p:nvPr/>
          </p:nvSpPr>
          <p:spPr>
            <a:xfrm>
              <a:off x="0" y="2971800"/>
              <a:ext cx="9144000" cy="3886200"/>
            </a:xfrm>
            <a:prstGeom prst="rect">
              <a:avLst/>
            </a:prstGeom>
            <a:solidFill>
              <a:srgbClr val="7a7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27432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383623"/>
                </a:gs>
                <a:gs pos="100000">
                  <a:srgbClr val="7a76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2" name=""/>
          <p:cNvGraphicFramePr/>
          <p:nvPr/>
        </p:nvGraphicFramePr>
        <p:xfrm>
          <a:off x="609480" y="571680"/>
          <a:ext cx="5410440" cy="147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71680"/>
                    <a:ext cx="5410440" cy="14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6172200" y="0"/>
          <a:ext cx="2971800" cy="2209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72200" y="0"/>
                    <a:ext cx="29718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0" y="2057400"/>
            <a:ext cx="9144000" cy="685800"/>
          </a:xfrm>
          <a:prstGeom prst="rect">
            <a:avLst/>
          </a:pr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00" y="2057400"/>
            <a:ext cx="6159600" cy="5335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456840" y="63241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580920" y="6324120"/>
            <a:ext cx="2667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7924320" y="632412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2931-3334-478A-AA0E-E8F1BFAB68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49960" y="21337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0"/>
            <a:ext cx="228600" cy="25909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924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医疗科技幻灯片打包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80880" y="2133720"/>
            <a:ext cx="5181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38080" y="2133720"/>
            <a:ext cx="7391520" cy="3581280"/>
            <a:chOff x="838080" y="2133720"/>
            <a:chExt cx="7391520" cy="3581280"/>
          </a:xfrm>
        </p:grpSpPr>
        <p:sp>
          <p:nvSpPr>
            <p:cNvPr id="235" name=""/>
            <p:cNvSpPr/>
            <p:nvPr/>
          </p:nvSpPr>
          <p:spPr>
            <a:xfrm flipH="1" rot="16200000">
              <a:off x="2809440" y="32472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rot="5400000">
              <a:off x="5680440" y="319284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rot="10800000">
              <a:off x="424836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2236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68520" y="227808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cc99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6d5200"/>
                </a:gs>
                <a:gs pos="50000">
                  <a:srgbClr val="cc9900"/>
                </a:gs>
                <a:gs pos="100000">
                  <a:srgbClr val="6d52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8080" y="3733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5425"/>
                </a:gs>
                <a:gs pos="50000">
                  <a:srgbClr val="72b852"/>
                </a:gs>
                <a:gs pos="100000">
                  <a:srgbClr val="3454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8080" y="320040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5425"/>
                </a:gs>
                <a:gs pos="50000">
                  <a:srgbClr val="72b852"/>
                </a:gs>
                <a:gs pos="100000">
                  <a:srgbClr val="3454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8080" y="266724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5425"/>
                </a:gs>
                <a:gs pos="50000">
                  <a:srgbClr val="72b852"/>
                </a:gs>
                <a:gs pos="100000">
                  <a:srgbClr val="3454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24480" y="3733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e4a58"/>
                </a:gs>
                <a:gs pos="50000">
                  <a:srgbClr val="42a2c0"/>
                </a:gs>
                <a:gs pos="100000">
                  <a:srgbClr val="1e4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24480" y="320040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e4a58"/>
                </a:gs>
                <a:gs pos="50000">
                  <a:srgbClr val="42a2c0"/>
                </a:gs>
                <a:gs pos="100000">
                  <a:srgbClr val="1e4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24480" y="266724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e4a58"/>
                </a:gs>
                <a:gs pos="50000">
                  <a:srgbClr val="42a2c0"/>
                </a:gs>
                <a:gs pos="100000">
                  <a:srgbClr val="1e4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3200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57440" y="518184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4600"/>
                </a:gs>
                <a:gs pos="50000">
                  <a:srgbClr val="cc9900"/>
                </a:gs>
                <a:gs pos="100000">
                  <a:srgbClr val="5e460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730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730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730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926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926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926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14400" y="1752480"/>
            <a:ext cx="7467480" cy="3886200"/>
            <a:chOff x="914400" y="1752480"/>
            <a:chExt cx="7467480" cy="3886200"/>
          </a:xfrm>
        </p:grpSpPr>
        <p:sp>
          <p:nvSpPr>
            <p:cNvPr id="260" name=""/>
            <p:cNvSpPr/>
            <p:nvPr/>
          </p:nvSpPr>
          <p:spPr>
            <a:xfrm>
              <a:off x="7761240" y="17524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21120" y="175248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43840" y="2727360"/>
              <a:ext cx="612720" cy="9745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36960" y="2727360"/>
              <a:ext cx="3827520" cy="6253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24640" y="369072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10120" y="46576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78000" y="466236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914400" y="5632200"/>
              <a:ext cx="1263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914400" y="4657680"/>
              <a:ext cx="214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914400" y="3695760"/>
              <a:ext cx="303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914400" y="2735280"/>
              <a:ext cx="3914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914400" y="1758960"/>
              <a:ext cx="4797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104840" y="1752480"/>
              <a:ext cx="0" cy="101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04840" y="276372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04840" y="370980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04840" y="465768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08360" y="194148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27600" y="237960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38760" y="335268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59280" y="3690720"/>
              <a:ext cx="408276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60720" y="432252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76560" y="529092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42280" y="2128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4228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42280" y="4087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42280" y="502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523880"/>
            <a:ext cx="5943600" cy="4496040"/>
          </a:xfrm>
          <a:prstGeom prst="rightArrow">
            <a:avLst>
              <a:gd name="adj1" fmla="val 79306"/>
              <a:gd name="adj2" fmla="val 32743"/>
            </a:avLst>
          </a:prstGeom>
          <a:solidFill>
            <a:srgbClr val="080808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2b852"/>
              </a:gs>
              <a:gs pos="100000">
                <a:srgbClr val="34542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55640" y="2127240"/>
            <a:ext cx="7632720" cy="3054240"/>
            <a:chOff x="755640" y="2127240"/>
            <a:chExt cx="7632720" cy="3054240"/>
          </a:xfrm>
        </p:grpSpPr>
        <p:sp>
          <p:nvSpPr>
            <p:cNvPr id="294" name=""/>
            <p:cNvSpPr/>
            <p:nvPr/>
          </p:nvSpPr>
          <p:spPr>
            <a:xfrm>
              <a:off x="291636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5164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cc99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cc990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69120" y="227484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6d5200"/>
                </a:gs>
                <a:gs pos="50000">
                  <a:srgbClr val="cc9900"/>
                </a:gs>
                <a:gs pos="100000">
                  <a:srgbClr val="6d52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0800" y="2286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cc9900">
                    <a:alpha val="0"/>
                  </a:srgbClr>
                </a:gs>
                <a:gs pos="100000">
                  <a:srgbClr val="816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706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cccc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cccc0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96760" y="2268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d6d00"/>
                </a:gs>
                <a:gs pos="50000">
                  <a:srgbClr val="cccc00"/>
                </a:gs>
                <a:gs pos="100000">
                  <a:srgbClr val="6d6d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98560" y="2271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cccc00">
                    <a:alpha val="0"/>
                  </a:srgbClr>
                </a:gs>
                <a:gs pos="100000">
                  <a:srgbClr val="8181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90720" y="23623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1017720" y="2387520"/>
              <a:ext cx="1636560" cy="1636920"/>
              <a:chOff x="1017720" y="2387520"/>
              <a:chExt cx="1636560" cy="1636920"/>
            </a:xfrm>
          </p:grpSpPr>
          <p:sp>
            <p:nvSpPr>
              <p:cNvPr id="307" name=""/>
              <p:cNvSpPr/>
              <p:nvPr/>
            </p:nvSpPr>
            <p:spPr>
              <a:xfrm>
                <a:off x="101772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03860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05552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14444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2a2c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1e4a58"/>
                </a:gs>
                <a:gs pos="100000">
                  <a:srgbClr val="42a2c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33840" y="2274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35767"/>
                </a:gs>
                <a:gs pos="50000">
                  <a:srgbClr val="42a2c0"/>
                </a:gs>
                <a:gs pos="100000">
                  <a:srgbClr val="23576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35280" y="22780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42a2c0">
                    <a:alpha val="0"/>
                  </a:srgbClr>
                </a:gs>
                <a:gs pos="100000">
                  <a:srgbClr val="2966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274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3754440" y="2387520"/>
              <a:ext cx="1636560" cy="1636920"/>
              <a:chOff x="3754440" y="2387520"/>
              <a:chExt cx="1636560" cy="1636920"/>
            </a:xfrm>
          </p:grpSpPr>
          <p:sp>
            <p:nvSpPr>
              <p:cNvPr id="317" name=""/>
              <p:cNvSpPr/>
              <p:nvPr/>
            </p:nvSpPr>
            <p:spPr>
              <a:xfrm>
                <a:off x="375444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77532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79224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88116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500880" y="2387520"/>
              <a:ext cx="1636560" cy="1636920"/>
              <a:chOff x="6500880" y="2387520"/>
              <a:chExt cx="1636560" cy="1636920"/>
            </a:xfrm>
          </p:grpSpPr>
          <p:sp>
            <p:nvSpPr>
              <p:cNvPr id="322" name=""/>
              <p:cNvSpPr/>
              <p:nvPr/>
            </p:nvSpPr>
            <p:spPr>
              <a:xfrm>
                <a:off x="650088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2176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53868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62760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8049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3844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913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522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954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9386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066680" y="1498680"/>
            <a:ext cx="7010280" cy="4521240"/>
            <a:chOff x="1066680" y="1498680"/>
            <a:chExt cx="7010280" cy="4521240"/>
          </a:xfrm>
        </p:grpSpPr>
        <p:sp>
          <p:nvSpPr>
            <p:cNvPr id="334" name=""/>
            <p:cNvSpPr/>
            <p:nvPr/>
          </p:nvSpPr>
          <p:spPr>
            <a:xfrm>
              <a:off x="1066680" y="198144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42a2c0"/>
                </a:gs>
                <a:gs pos="100000">
                  <a:srgbClr val="72b852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62360" y="327672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3314520" y="3708360"/>
              <a:ext cx="1704960" cy="2028960"/>
              <a:chOff x="3314520" y="3708360"/>
              <a:chExt cx="1704960" cy="2028960"/>
            </a:xfrm>
          </p:grpSpPr>
          <p:sp>
            <p:nvSpPr>
              <p:cNvPr id="337" name=""/>
              <p:cNvSpPr/>
              <p:nvPr/>
            </p:nvSpPr>
            <p:spPr>
              <a:xfrm rot="20876400">
                <a:off x="3382920" y="492768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314520" y="370836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335040" y="371772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352680" y="373392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444840" y="377820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32120" y="433548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1477800" y="3327480"/>
              <a:ext cx="1371240" cy="1718640"/>
              <a:chOff x="1477800" y="3327480"/>
              <a:chExt cx="1371240" cy="1718640"/>
            </a:xfrm>
          </p:grpSpPr>
          <p:sp>
            <p:nvSpPr>
              <p:cNvPr id="344" name=""/>
              <p:cNvSpPr/>
              <p:nvPr/>
            </p:nvSpPr>
            <p:spPr>
              <a:xfrm rot="20826600">
                <a:off x="1554120" y="431784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1477800" y="3327480"/>
                <a:ext cx="1371240" cy="1441080"/>
                <a:chOff x="1477800" y="3327480"/>
                <a:chExt cx="1371240" cy="14410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1477800" y="332748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495800" y="333576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508760" y="334908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580400" y="338580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58240" y="383364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ex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1218960" y="1955880"/>
              <a:ext cx="1100160" cy="1139760"/>
              <a:chOff x="1218960" y="1955880"/>
              <a:chExt cx="1100160" cy="1139760"/>
            </a:xfrm>
          </p:grpSpPr>
          <p:sp>
            <p:nvSpPr>
              <p:cNvPr id="352" name=""/>
              <p:cNvSpPr/>
              <p:nvPr/>
            </p:nvSpPr>
            <p:spPr>
              <a:xfrm>
                <a:off x="1218960" y="256248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295280" y="1955880"/>
                <a:ext cx="1023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07880" y="196056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19040" y="197172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73040" y="199728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492200" y="230508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2514600" y="1498680"/>
              <a:ext cx="804240" cy="762120"/>
              <a:chOff x="2514600" y="1498680"/>
              <a:chExt cx="804240" cy="762120"/>
            </a:xfrm>
          </p:grpSpPr>
          <p:sp>
            <p:nvSpPr>
              <p:cNvPr id="359" name=""/>
              <p:cNvSpPr/>
              <p:nvPr/>
            </p:nvSpPr>
            <p:spPr>
              <a:xfrm>
                <a:off x="2514600" y="2032200"/>
                <a:ext cx="68544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636640" y="1498680"/>
                <a:ext cx="68220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646000" y="150192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652480" y="1508040"/>
                <a:ext cx="63288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688840" y="152712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706840" y="17226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5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914760" y="1905120"/>
            <a:ext cx="7282440" cy="3770280"/>
            <a:chOff x="914760" y="1905120"/>
            <a:chExt cx="7282440" cy="3770280"/>
          </a:xfrm>
        </p:grpSpPr>
        <p:sp>
          <p:nvSpPr>
            <p:cNvPr id="368" name=""/>
            <p:cNvSpPr/>
            <p:nvPr/>
          </p:nvSpPr>
          <p:spPr>
            <a:xfrm rot="17973000">
              <a:off x="4723560" y="261036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3465600">
              <a:off x="4773960" y="47206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4368800">
              <a:off x="3555000" y="26326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534800">
              <a:off x="3516840" y="468720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56080" y="368784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0800000">
              <a:off x="2945880" y="368100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666880" y="193068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18240" y="19051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29160" y="19051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32640" y="36576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18240" y="5257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14760" y="36576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52840" y="51958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23960" y="37083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9dbaa"/>
                </a:gs>
                <a:gs pos="100000">
                  <a:srgbClr val="72b8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38360" y="20574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9dbaa"/>
                </a:gs>
                <a:gs pos="100000">
                  <a:srgbClr val="72b8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43480" y="20574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9dbaa"/>
                </a:gs>
                <a:gs pos="100000">
                  <a:srgbClr val="72b8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62400" y="5257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9dbaa"/>
                </a:gs>
                <a:gs pos="100000">
                  <a:srgbClr val="72b8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343480" y="5257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9dbaa"/>
                </a:gs>
                <a:gs pos="100000">
                  <a:srgbClr val="72b8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57880" y="3695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9dbaa"/>
                </a:gs>
                <a:gs pos="100000">
                  <a:srgbClr val="72b8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06920" y="296064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cccc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06920" y="296064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cccc0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17800" y="30704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6d6d00"/>
                </a:gs>
                <a:gs pos="50000">
                  <a:srgbClr val="cccc00"/>
                </a:gs>
                <a:gs pos="100000">
                  <a:srgbClr val="6d6d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19600" y="307368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cccc00">
                    <a:alpha val="0"/>
                  </a:srgbClr>
                </a:gs>
                <a:gs pos="100000">
                  <a:srgbClr val="8181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92320" y="314496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13200" y="3164040"/>
              <a:ext cx="1290600" cy="1278000"/>
              <a:chOff x="3913200" y="3164040"/>
              <a:chExt cx="1290600" cy="1278000"/>
            </a:xfrm>
          </p:grpSpPr>
          <p:sp>
            <p:nvSpPr>
              <p:cNvPr id="393" name=""/>
              <p:cNvSpPr/>
              <p:nvPr/>
            </p:nvSpPr>
            <p:spPr>
              <a:xfrm>
                <a:off x="3913200" y="31640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929760" y="31708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943080" y="31834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12920" y="32158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4176360" y="36370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168560" y="2039760"/>
            <a:ext cx="2163600" cy="3165480"/>
            <a:chOff x="1168560" y="2039760"/>
            <a:chExt cx="2163600" cy="3165480"/>
          </a:xfrm>
        </p:grpSpPr>
        <p:sp>
          <p:nvSpPr>
            <p:cNvPr id="400" name=""/>
            <p:cNvSpPr/>
            <p:nvPr/>
          </p:nvSpPr>
          <p:spPr>
            <a:xfrm>
              <a:off x="116856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0204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1932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1932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1913040" y="2039760"/>
              <a:ext cx="642960" cy="642960"/>
              <a:chOff x="1913040" y="2039760"/>
              <a:chExt cx="642960" cy="642960"/>
            </a:xfrm>
          </p:grpSpPr>
          <p:sp>
            <p:nvSpPr>
              <p:cNvPr id="405" name=""/>
              <p:cNvSpPr/>
              <p:nvPr/>
            </p:nvSpPr>
            <p:spPr>
              <a:xfrm>
                <a:off x="1913040" y="203976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919520" y="204444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927440" y="2048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933920" y="205416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967760" y="206964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205308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4488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892840" y="2039760"/>
            <a:ext cx="2163600" cy="3165480"/>
            <a:chOff x="5892840" y="2039760"/>
            <a:chExt cx="2163600" cy="3165480"/>
          </a:xfrm>
        </p:grpSpPr>
        <p:sp>
          <p:nvSpPr>
            <p:cNvPr id="413" name=""/>
            <p:cNvSpPr/>
            <p:nvPr/>
          </p:nvSpPr>
          <p:spPr>
            <a:xfrm>
              <a:off x="589284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2632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4360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4360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6637320" y="2039760"/>
              <a:ext cx="642960" cy="642960"/>
              <a:chOff x="6637320" y="2039760"/>
              <a:chExt cx="642960" cy="642960"/>
            </a:xfrm>
          </p:grpSpPr>
          <p:sp>
            <p:nvSpPr>
              <p:cNvPr id="418" name=""/>
              <p:cNvSpPr/>
              <p:nvPr/>
            </p:nvSpPr>
            <p:spPr>
              <a:xfrm>
                <a:off x="6637320" y="203976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643800" y="204444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651720" y="2048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658200" y="205416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92040" y="206964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677736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96916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530520" y="2039760"/>
            <a:ext cx="2163600" cy="3165480"/>
            <a:chOff x="3530520" y="2039760"/>
            <a:chExt cx="2163600" cy="3165480"/>
          </a:xfrm>
        </p:grpSpPr>
        <p:sp>
          <p:nvSpPr>
            <p:cNvPr id="426" name=""/>
            <p:cNvSpPr/>
            <p:nvPr/>
          </p:nvSpPr>
          <p:spPr>
            <a:xfrm>
              <a:off x="353052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6400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8128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128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75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81480" y="204444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89400" y="204768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95520" y="205416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30800" y="207000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41504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60684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0" y="1600200"/>
            <a:ext cx="9144000" cy="4366080"/>
            <a:chOff x="0" y="1600200"/>
            <a:chExt cx="9144000" cy="4366080"/>
          </a:xfrm>
        </p:grpSpPr>
        <p:sp>
          <p:nvSpPr>
            <p:cNvPr id="439" name=""/>
            <p:cNvSpPr/>
            <p:nvPr/>
          </p:nvSpPr>
          <p:spPr>
            <a:xfrm>
              <a:off x="0" y="28893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0" y="294156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396720" y="2292480"/>
              <a:ext cx="2183040" cy="3600720"/>
              <a:chOff x="396720" y="2292480"/>
              <a:chExt cx="2183040" cy="3600720"/>
            </a:xfrm>
          </p:grpSpPr>
          <p:grpSp>
            <p:nvGrpSpPr>
              <p:cNvPr id="442" name=""/>
              <p:cNvGrpSpPr/>
              <p:nvPr/>
            </p:nvGrpSpPr>
            <p:grpSpPr>
              <a:xfrm>
                <a:off x="873720" y="3211560"/>
                <a:ext cx="1706040" cy="2681640"/>
                <a:chOff x="873720" y="3211560"/>
                <a:chExt cx="1706040" cy="2681640"/>
              </a:xfrm>
            </p:grpSpPr>
            <p:grpSp>
              <p:nvGrpSpPr>
                <p:cNvPr id="443" name=""/>
                <p:cNvGrpSpPr/>
                <p:nvPr/>
              </p:nvGrpSpPr>
              <p:grpSpPr>
                <a:xfrm>
                  <a:off x="873720" y="3390480"/>
                  <a:ext cx="1578600" cy="2502720"/>
                  <a:chOff x="873720" y="3390480"/>
                  <a:chExt cx="1578600" cy="25027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rot="3876600">
                    <a:off x="410040" y="43624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rot="3876600">
                    <a:off x="1915920" y="53312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1368360" y="3211560"/>
                  <a:ext cx="1211400" cy="1920240"/>
                  <a:chOff x="1368360" y="3211560"/>
                  <a:chExt cx="1211400" cy="192024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flipV="1" rot="3876600">
                    <a:off x="1012680" y="39574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V="1" rot="3876600">
                    <a:off x="215064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9" name=""/>
              <p:cNvGrpSpPr/>
              <p:nvPr/>
            </p:nvGrpSpPr>
            <p:grpSpPr>
              <a:xfrm>
                <a:off x="396720" y="2292480"/>
                <a:ext cx="1441800" cy="1440720"/>
                <a:chOff x="396720" y="2292480"/>
                <a:chExt cx="1441800" cy="14407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9672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9672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92120" y="23860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92120" y="238932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54040" y="244980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5" name=""/>
                <p:cNvGrpSpPr/>
                <p:nvPr/>
              </p:nvGrpSpPr>
              <p:grpSpPr>
                <a:xfrm>
                  <a:off x="571320" y="2467080"/>
                  <a:ext cx="1092240" cy="1092960"/>
                  <a:chOff x="571320" y="2467080"/>
                  <a:chExt cx="1092240" cy="109296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>
                    <a:off x="571320" y="24670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85360" y="24732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96520" y="24836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655920" y="25113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0" name=""/>
              <p:cNvSpPr/>
              <p:nvPr/>
            </p:nvSpPr>
            <p:spPr>
              <a:xfrm rot="3925800">
                <a:off x="89784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3925800">
                <a:off x="1401840" y="3945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2379600" y="2292480"/>
              <a:ext cx="2183040" cy="3600720"/>
              <a:chOff x="2379600" y="2292480"/>
              <a:chExt cx="2183040" cy="360072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2856600" y="3211560"/>
                <a:ext cx="1706040" cy="2681640"/>
                <a:chOff x="2856600" y="3211560"/>
                <a:chExt cx="1706040" cy="2681640"/>
              </a:xfrm>
            </p:grpSpPr>
            <p:grpSp>
              <p:nvGrpSpPr>
                <p:cNvPr id="464" name=""/>
                <p:cNvGrpSpPr/>
                <p:nvPr/>
              </p:nvGrpSpPr>
              <p:grpSpPr>
                <a:xfrm>
                  <a:off x="2856600" y="3390480"/>
                  <a:ext cx="1578600" cy="2502720"/>
                  <a:chOff x="2856600" y="3390480"/>
                  <a:chExt cx="1578600" cy="250272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3876600">
                    <a:off x="2392920" y="43624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3876600">
                    <a:off x="3898800" y="53312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3351240" y="3211560"/>
                  <a:ext cx="1211400" cy="1920240"/>
                  <a:chOff x="3351240" y="3211560"/>
                  <a:chExt cx="1211400" cy="192024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flipV="1" rot="3876600">
                    <a:off x="2995560" y="39574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V="1" rot="3876600">
                    <a:off x="413352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0" name=""/>
              <p:cNvGrpSpPr/>
              <p:nvPr/>
            </p:nvGrpSpPr>
            <p:grpSpPr>
              <a:xfrm>
                <a:off x="2379600" y="2292480"/>
                <a:ext cx="1441800" cy="1440720"/>
                <a:chOff x="2379600" y="2292480"/>
                <a:chExt cx="1441800" cy="144072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237960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37960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475000" y="23860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475000" y="238932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536920" y="244980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"/>
                <p:cNvGrpSpPr/>
                <p:nvPr/>
              </p:nvGrpSpPr>
              <p:grpSpPr>
                <a:xfrm>
                  <a:off x="2554200" y="2467080"/>
                  <a:ext cx="1092240" cy="1092960"/>
                  <a:chOff x="2554200" y="2467080"/>
                  <a:chExt cx="1092240" cy="109296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>
                    <a:off x="2554200" y="24670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2568240" y="24732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2579400" y="24836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2638800" y="25113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1" name=""/>
              <p:cNvSpPr/>
              <p:nvPr/>
            </p:nvSpPr>
            <p:spPr>
              <a:xfrm rot="3925800">
                <a:off x="287496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3925800">
                <a:off x="3378240" y="3945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4427640" y="2292480"/>
              <a:ext cx="2182680" cy="3600720"/>
              <a:chOff x="4427640" y="2292480"/>
              <a:chExt cx="2182680" cy="360072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4904280" y="3211560"/>
                <a:ext cx="1706040" cy="2681640"/>
                <a:chOff x="4904280" y="3211560"/>
                <a:chExt cx="1706040" cy="2681640"/>
              </a:xfrm>
            </p:grpSpPr>
            <p:grpSp>
              <p:nvGrpSpPr>
                <p:cNvPr id="485" name=""/>
                <p:cNvGrpSpPr/>
                <p:nvPr/>
              </p:nvGrpSpPr>
              <p:grpSpPr>
                <a:xfrm>
                  <a:off x="4904280" y="3390480"/>
                  <a:ext cx="1578600" cy="2502720"/>
                  <a:chOff x="4904280" y="3390480"/>
                  <a:chExt cx="1578600" cy="250272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rot="3876600">
                    <a:off x="4440600" y="43624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3876600">
                    <a:off x="5946480" y="53312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5398920" y="3211560"/>
                  <a:ext cx="1211400" cy="1920240"/>
                  <a:chOff x="5398920" y="3211560"/>
                  <a:chExt cx="1211400" cy="192024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 flipV="1" rot="3876600">
                    <a:off x="5043240" y="39574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flipV="1" rot="3876600">
                    <a:off x="618120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1" name=""/>
              <p:cNvGrpSpPr/>
              <p:nvPr/>
            </p:nvGrpSpPr>
            <p:grpSpPr>
              <a:xfrm>
                <a:off x="4427640" y="2292480"/>
                <a:ext cx="1441440" cy="1440720"/>
                <a:chOff x="4427640" y="2292480"/>
                <a:chExt cx="1441440" cy="144072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4427640" y="229248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427640" y="229248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523040" y="238608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523040" y="238932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584960" y="2449800"/>
                  <a:ext cx="112644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97" name=""/>
                <p:cNvGrpSpPr/>
                <p:nvPr/>
              </p:nvGrpSpPr>
              <p:grpSpPr>
                <a:xfrm>
                  <a:off x="4602240" y="2467080"/>
                  <a:ext cx="1091880" cy="1092960"/>
                  <a:chOff x="4602240" y="2467080"/>
                  <a:chExt cx="1091880" cy="109296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>
                    <a:off x="4602240" y="2467080"/>
                    <a:ext cx="109188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4616280" y="2473200"/>
                    <a:ext cx="106560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4627440" y="2483640"/>
                    <a:ext cx="101340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4686840" y="2511360"/>
                    <a:ext cx="90072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2" name=""/>
              <p:cNvSpPr/>
              <p:nvPr/>
            </p:nvSpPr>
            <p:spPr>
              <a:xfrm rot="3925800">
                <a:off x="493200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3925800">
                <a:off x="5435640" y="3945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442200" y="2133720"/>
              <a:ext cx="2399760" cy="3832560"/>
              <a:chOff x="6442200" y="2133720"/>
              <a:chExt cx="2399760" cy="3832560"/>
            </a:xfrm>
          </p:grpSpPr>
          <p:grpSp>
            <p:nvGrpSpPr>
              <p:cNvPr id="505" name=""/>
              <p:cNvGrpSpPr/>
              <p:nvPr/>
            </p:nvGrpSpPr>
            <p:grpSpPr>
              <a:xfrm>
                <a:off x="7136280" y="3284640"/>
                <a:ext cx="1705680" cy="2681640"/>
                <a:chOff x="7136280" y="3284640"/>
                <a:chExt cx="1705680" cy="2681640"/>
              </a:xfrm>
            </p:grpSpPr>
            <p:grpSp>
              <p:nvGrpSpPr>
                <p:cNvPr id="506" name=""/>
                <p:cNvGrpSpPr/>
                <p:nvPr/>
              </p:nvGrpSpPr>
              <p:grpSpPr>
                <a:xfrm>
                  <a:off x="7136280" y="3463560"/>
                  <a:ext cx="1578600" cy="2502720"/>
                  <a:chOff x="7136280" y="3463560"/>
                  <a:chExt cx="1578600" cy="250272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 rot="3876600">
                    <a:off x="6672600" y="443556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3876600">
                    <a:off x="8178480" y="540432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7630560" y="3284640"/>
                  <a:ext cx="1211400" cy="1920240"/>
                  <a:chOff x="7630560" y="3284640"/>
                  <a:chExt cx="1211400" cy="192024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 flipV="1" rot="3876600">
                    <a:off x="7274880" y="403056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flipV="1" rot="3876600">
                    <a:off x="8412840" y="478224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2" name=""/>
              <p:cNvSpPr/>
              <p:nvPr/>
            </p:nvSpPr>
            <p:spPr>
              <a:xfrm>
                <a:off x="6442200" y="21337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442200" y="21337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558120" y="224640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559560" y="224964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632640" y="2322720"/>
                <a:ext cx="1354320" cy="1350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6653160" y="2343240"/>
                <a:ext cx="1312920" cy="1310400"/>
                <a:chOff x="6653160" y="2343240"/>
                <a:chExt cx="1312920" cy="131040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6653160" y="2343240"/>
                  <a:ext cx="131292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669720" y="2350440"/>
                  <a:ext cx="128124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683400" y="2363040"/>
                  <a:ext cx="1218600" cy="119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754680" y="239652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2" name=""/>
              <p:cNvSpPr/>
              <p:nvPr/>
            </p:nvSpPr>
            <p:spPr>
              <a:xfrm rot="3925800">
                <a:off x="7147080" y="43966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3925800">
                <a:off x="7649640" y="4105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77796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6840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4984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795000" y="16002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8" name=""/>
            <p:cNvCxnSpPr>
              <a:stCxn id="524" idx="3"/>
              <a:endCxn id="525" idx="1"/>
            </p:cNvCxnSpPr>
            <p:nvPr/>
          </p:nvCxnSpPr>
          <p:spPr>
            <a:xfrm>
              <a:off x="1514160" y="182700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9" name=""/>
            <p:cNvCxnSpPr>
              <a:stCxn id="525" idx="3"/>
              <a:endCxn id="526" idx="1"/>
            </p:cNvCxnSpPr>
            <p:nvPr/>
          </p:nvCxnSpPr>
          <p:spPr>
            <a:xfrm>
              <a:off x="3504960" y="182700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30" name=""/>
            <p:cNvCxnSpPr>
              <a:stCxn id="526" idx="3"/>
              <a:endCxn id="527" idx="1"/>
            </p:cNvCxnSpPr>
            <p:nvPr/>
          </p:nvCxnSpPr>
          <p:spPr>
            <a:xfrm>
              <a:off x="5486040" y="182736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142280" y="1173600"/>
            <a:ext cx="6879600" cy="4804560"/>
            <a:chOff x="1142280" y="1173600"/>
            <a:chExt cx="6879600" cy="4804560"/>
          </a:xfrm>
        </p:grpSpPr>
        <p:sp>
          <p:nvSpPr>
            <p:cNvPr id="533" name=""/>
            <p:cNvSpPr/>
            <p:nvPr/>
          </p:nvSpPr>
          <p:spPr>
            <a:xfrm>
              <a:off x="2209680" y="4343400"/>
              <a:ext cx="5562720" cy="1325520"/>
            </a:xfrm>
            <a:prstGeom prst="ellipse">
              <a:avLst/>
            </a:prstGeom>
            <a:solidFill>
              <a:srgbClr val="000000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0601600">
              <a:off x="148428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20601600">
              <a:off x="1541160" y="20379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20601600">
              <a:off x="1455480" y="202392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rot="20602200">
              <a:off x="1433520" y="205488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20601600">
              <a:off x="1465200" y="203508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20602200">
              <a:off x="1447560" y="204264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0601600">
              <a:off x="3002040" y="27525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31732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2244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9860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24480" y="305100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539200">
              <a:off x="1459800" y="205344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624200" y="353232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89860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4612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4100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601600">
              <a:off x="3103560" y="300528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7a764c"/>
                </a:gs>
                <a:gs pos="100000">
                  <a:srgbClr val="242316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800600" y="392760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562720" y="25146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cc990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20040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72b852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3808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42a2c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06668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42a2c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38616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72b852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71500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06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2b852"/>
                </a:gs>
                <a:gs pos="100000">
                  <a:srgbClr val="e0efd9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2b85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1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9900"/>
                </a:gs>
                <a:gs pos="100000">
                  <a:srgbClr val="f0e2b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16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2b852"/>
                </a:gs>
                <a:gs pos="100000">
                  <a:srgbClr val="e0efd9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72b85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1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9900"/>
                </a:gs>
                <a:gs pos="100000">
                  <a:srgbClr val="f3e8c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0FF20-52D4-41BA-A3DF-77AAD142D7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924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1676520" y="34290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7a764c"/>
                    </a:gs>
                  </a:gsLst>
                  <a:lin ang="10800000"/>
                </a:gradFill>
                <a:effectLst>
                  <a:outerShdw dist="91658" dir="3382340" blurRad="0" rotWithShape="0">
                    <a:srgbClr val="080808"/>
                  </a:outerShdw>
                </a:effectLst>
                <a:latin typeface="Arial Black"/>
              </a:rPr>
              <a:t>Thank You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7a764c"/>
                  </a:gs>
                </a:gsLst>
                <a:lin ang="10800000"/>
              </a:gradFill>
              <a:effectLst>
                <a:outerShdw dist="91658" dir="338234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380880" y="2133720"/>
            <a:ext cx="5181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1200" y="1517400"/>
            <a:ext cx="8007480" cy="41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5791320"/>
            <a:ext cx="6324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 - Themegalle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1219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43000" y="3200400"/>
            <a:ext cx="2286000" cy="2666880"/>
            <a:chOff x="1143000" y="3200400"/>
            <a:chExt cx="2286000" cy="2666880"/>
          </a:xfrm>
        </p:grpSpPr>
        <p:sp>
          <p:nvSpPr>
            <p:cNvPr id="131" name=""/>
            <p:cNvSpPr/>
            <p:nvPr/>
          </p:nvSpPr>
          <p:spPr>
            <a:xfrm>
              <a:off x="1143000" y="32004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38400" y="34005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22272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dddad"/>
              </a:gs>
              <a:gs pos="100000">
                <a:srgbClr val="cc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48120" y="1476360"/>
            <a:ext cx="2998440" cy="1601280"/>
            <a:chOff x="3048120" y="1476360"/>
            <a:chExt cx="2998440" cy="1601280"/>
          </a:xfrm>
        </p:grpSpPr>
        <p:grpSp>
          <p:nvGrpSpPr>
            <p:cNvPr id="135" name=""/>
            <p:cNvGrpSpPr/>
            <p:nvPr/>
          </p:nvGrpSpPr>
          <p:grpSpPr>
            <a:xfrm>
              <a:off x="3048120" y="1476360"/>
              <a:ext cx="2998440" cy="1601280"/>
              <a:chOff x="3048120" y="1476360"/>
              <a:chExt cx="2998440" cy="160128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3048120" y="1619280"/>
                <a:ext cx="2998440" cy="1458360"/>
                <a:chOff x="3048120" y="1619280"/>
                <a:chExt cx="2998440" cy="145836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080880" y="16657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4a00"/>
                    </a:gs>
                    <a:gs pos="100000">
                      <a:srgbClr val="cc99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048120" y="161928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9900"/>
                    </a:gs>
                    <a:gs pos="100000">
                      <a:srgbClr val="e7d08d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>
                <a:off x="3189240" y="147636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2a2c0"/>
                  </a:gs>
                  <a:gs pos="100000">
                    <a:srgbClr val="1e4a5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24160" y="148428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cdde8"/>
                  </a:gs>
                  <a:gs pos="100000">
                    <a:srgbClr val="42a2c0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51160" y="149688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42a2c0">
                      <a:alpha val="48235"/>
                    </a:srgbClr>
                  </a:gs>
                  <a:gs pos="100000">
                    <a:srgbClr val="347f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382920" y="152388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42a2c0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3882960" y="16765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562720" y="3200400"/>
            <a:ext cx="2286000" cy="2666880"/>
            <a:chOff x="5562720" y="3200400"/>
            <a:chExt cx="2286000" cy="2666880"/>
          </a:xfrm>
        </p:grpSpPr>
        <p:sp>
          <p:nvSpPr>
            <p:cNvPr id="145" name=""/>
            <p:cNvSpPr/>
            <p:nvPr/>
          </p:nvSpPr>
          <p:spPr>
            <a:xfrm>
              <a:off x="5562720" y="32004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15000" y="33814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 flipH="1">
            <a:off x="487440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2e0ea"/>
              </a:gs>
              <a:gs pos="100000">
                <a:srgbClr val="42a2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15600" y="1479600"/>
            <a:ext cx="7932240" cy="5225040"/>
            <a:chOff x="615600" y="1479600"/>
            <a:chExt cx="7932240" cy="5225040"/>
          </a:xfrm>
        </p:grpSpPr>
        <p:sp>
          <p:nvSpPr>
            <p:cNvPr id="150" name=""/>
            <p:cNvSpPr/>
            <p:nvPr/>
          </p:nvSpPr>
          <p:spPr>
            <a:xfrm rot="20241600">
              <a:off x="1236600" y="2690280"/>
              <a:ext cx="6853320" cy="280296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72b852"/>
                </a:gs>
                <a:gs pos="100000">
                  <a:srgbClr val="f0f7ed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056200">
              <a:off x="4572000" y="2666520"/>
              <a:ext cx="1066680" cy="304200"/>
            </a:xfrm>
            <a:prstGeom prst="ellipse">
              <a:avLst/>
            </a:prstGeom>
            <a:solidFill>
              <a:srgbClr val="080808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056200">
              <a:off x="7467480" y="2895120"/>
              <a:ext cx="1067040" cy="304200"/>
            </a:xfrm>
            <a:prstGeom prst="ellipse">
              <a:avLst/>
            </a:prstGeom>
            <a:solidFill>
              <a:srgbClr val="080808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056200">
              <a:off x="2971800" y="5866920"/>
              <a:ext cx="1066680" cy="304200"/>
            </a:xfrm>
            <a:prstGeom prst="ellipse">
              <a:avLst/>
            </a:prstGeom>
            <a:solidFill>
              <a:srgbClr val="080808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056200">
              <a:off x="5714640" y="5257080"/>
              <a:ext cx="1066680" cy="304560"/>
            </a:xfrm>
            <a:prstGeom prst="ellipse">
              <a:avLst/>
            </a:prstGeom>
            <a:solidFill>
              <a:srgbClr val="080808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056200">
              <a:off x="2057040" y="4190400"/>
              <a:ext cx="1066680" cy="304560"/>
            </a:xfrm>
            <a:prstGeom prst="ellipse">
              <a:avLst/>
            </a:prstGeom>
            <a:solidFill>
              <a:srgbClr val="080808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68640" y="182844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7a764c"/>
                </a:gs>
                <a:gs pos="100000">
                  <a:srgbClr val="2928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4040" y="335268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42a2c0"/>
                </a:gs>
                <a:gs pos="100000">
                  <a:srgbClr val="14323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36760" y="5049720"/>
              <a:ext cx="1282680" cy="1274400"/>
            </a:xfrm>
            <a:prstGeom prst="ellipse">
              <a:avLst/>
            </a:prstGeom>
            <a:gradFill rotWithShape="0">
              <a:gsLst>
                <a:gs pos="0">
                  <a:srgbClr val="72b852"/>
                </a:gs>
                <a:gs pos="100000">
                  <a:srgbClr val="2841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11640" y="441936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64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40440" y="2057040"/>
              <a:ext cx="1212840" cy="127440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46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61480" y="3809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07760" y="2285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41400" y="2563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50760" y="4876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29800" y="5500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87760" y="381456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31960" y="2115720"/>
              <a:ext cx="1793880" cy="161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8" name=""/>
            <p:cNvCxnSpPr/>
            <p:nvPr/>
          </p:nvCxnSpPr>
          <p:spPr>
            <a:xfrm flipH="1">
              <a:off x="615600" y="211536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69" name=""/>
            <p:cNvSpPr/>
            <p:nvPr/>
          </p:nvSpPr>
          <p:spPr>
            <a:xfrm>
              <a:off x="741600" y="1676520"/>
              <a:ext cx="178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752480" y="1523880"/>
            <a:ext cx="5562720" cy="1306440"/>
            <a:chOff x="1752480" y="1523880"/>
            <a:chExt cx="5562720" cy="1306440"/>
          </a:xfrm>
        </p:grpSpPr>
        <p:sp>
          <p:nvSpPr>
            <p:cNvPr id="173" name=""/>
            <p:cNvSpPr/>
            <p:nvPr/>
          </p:nvSpPr>
          <p:spPr>
            <a:xfrm>
              <a:off x="1752480" y="152388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74880" y="164448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68d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41480" y="171288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ae2"/>
                </a:gs>
                <a:gs pos="50000">
                  <a:srgbClr val="0066cc">
                    <a:alpha val="0"/>
                  </a:srgbClr>
                </a:gs>
                <a:gs pos="100000">
                  <a:srgbClr val="73aa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72080" y="193680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92400" y="1725480"/>
              <a:ext cx="408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752480" y="2967120"/>
            <a:ext cx="5562720" cy="1306440"/>
            <a:chOff x="1752480" y="2967120"/>
            <a:chExt cx="5562720" cy="1306440"/>
          </a:xfrm>
        </p:grpSpPr>
        <p:sp>
          <p:nvSpPr>
            <p:cNvPr id="179" name=""/>
            <p:cNvSpPr/>
            <p:nvPr/>
          </p:nvSpPr>
          <p:spPr>
            <a:xfrm>
              <a:off x="1752480" y="2967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74880" y="3087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41480" y="3156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72080" y="33814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92400" y="314496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752480" y="4427640"/>
            <a:ext cx="5562720" cy="1306440"/>
            <a:chOff x="1752480" y="4427640"/>
            <a:chExt cx="5562720" cy="1306440"/>
          </a:xfrm>
        </p:grpSpPr>
        <p:sp>
          <p:nvSpPr>
            <p:cNvPr id="185" name=""/>
            <p:cNvSpPr/>
            <p:nvPr/>
          </p:nvSpPr>
          <p:spPr>
            <a:xfrm>
              <a:off x="1752480" y="44276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74880" y="45482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46614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41480" y="461664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4ca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72080" y="48405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92400" y="460548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838080" y="1676520"/>
            <a:ext cx="7383960" cy="4420800"/>
            <a:chOff x="838080" y="1676520"/>
            <a:chExt cx="7383960" cy="4420800"/>
          </a:xfrm>
        </p:grpSpPr>
        <p:grpSp>
          <p:nvGrpSpPr>
            <p:cNvPr id="192" name=""/>
            <p:cNvGrpSpPr/>
            <p:nvPr/>
          </p:nvGrpSpPr>
          <p:grpSpPr>
            <a:xfrm>
              <a:off x="2361960" y="1676520"/>
              <a:ext cx="4419360" cy="4376160"/>
              <a:chOff x="2361960" y="1676520"/>
              <a:chExt cx="4419360" cy="4376160"/>
            </a:xfrm>
          </p:grpSpPr>
          <p:sp>
            <p:nvSpPr>
              <p:cNvPr id="193" name="Puzzle3"/>
              <p:cNvSpPr/>
              <p:nvPr/>
            </p:nvSpPr>
            <p:spPr>
              <a:xfrm>
                <a:off x="4513680" y="1676520"/>
                <a:ext cx="1737360" cy="2325600"/>
              </a:xfrm>
              <a:prstGeom prst="pie">
                <a:avLst/>
              </a:prstGeom>
              <a:gradFill rotWithShape="0">
                <a:gsLst>
                  <a:gs pos="0">
                    <a:srgbClr val="296679"/>
                  </a:gs>
                  <a:gs pos="100000">
                    <a:srgbClr val="42a2c0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Puzzle2"/>
              <p:cNvSpPr/>
              <p:nvPr/>
            </p:nvSpPr>
            <p:spPr>
              <a:xfrm>
                <a:off x="4008960" y="337068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beddaf"/>
                  </a:gs>
                  <a:gs pos="100000">
                    <a:srgbClr val="72b852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Puzzle4"/>
              <p:cNvSpPr/>
              <p:nvPr/>
            </p:nvSpPr>
            <p:spPr>
              <a:xfrm>
                <a:off x="2935800" y="3344760"/>
                <a:ext cx="1671480" cy="2707920"/>
              </a:xfrm>
              <a:prstGeom prst="pie">
                <a:avLst/>
              </a:prstGeom>
              <a:gradFill rotWithShape="0">
                <a:gsLst>
                  <a:gs pos="0">
                    <a:srgbClr val="e3c97b"/>
                  </a:gs>
                  <a:gs pos="100000">
                    <a:srgbClr val="cc9900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Puzzle1"/>
              <p:cNvSpPr/>
              <p:nvPr/>
            </p:nvSpPr>
            <p:spPr>
              <a:xfrm>
                <a:off x="2361960" y="2379960"/>
                <a:ext cx="2807280" cy="1614240"/>
              </a:xfrm>
              <a:prstGeom prst="pie">
                <a:avLst/>
              </a:prstGeom>
              <a:gradFill rotWithShape="0">
                <a:gsLst>
                  <a:gs pos="0">
                    <a:srgbClr val="5e5e00"/>
                  </a:gs>
                  <a:gs pos="100000">
                    <a:srgbClr val="cccc00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6477840" y="40525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8080" y="34430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90560" y="17524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67080" y="57290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143000" y="1752480"/>
            <a:ext cx="7086600" cy="3833640"/>
            <a:chOff x="1143000" y="1752480"/>
            <a:chExt cx="7086600" cy="3833640"/>
          </a:xfrm>
        </p:grpSpPr>
        <p:sp>
          <p:nvSpPr>
            <p:cNvPr id="203" name=""/>
            <p:cNvSpPr/>
            <p:nvPr/>
          </p:nvSpPr>
          <p:spPr>
            <a:xfrm>
              <a:off x="1143000" y="1752480"/>
              <a:ext cx="3833640" cy="3833640"/>
            </a:xfrm>
            <a:prstGeom prst="donut">
              <a:avLst>
                <a:gd name="adj" fmla="val 8861"/>
              </a:avLst>
            </a:prstGeom>
            <a:gradFill rotWithShape="0">
              <a:gsLst>
                <a:gs pos="0">
                  <a:srgbClr val="345425"/>
                </a:gs>
                <a:gs pos="50000">
                  <a:srgbClr val="72b852"/>
                </a:gs>
                <a:gs pos="100000">
                  <a:srgbClr val="3454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47920" y="20574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42a2c0"/>
                </a:gs>
                <a:gs pos="100000">
                  <a:srgbClr val="93c9d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52720" y="208260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bf8ef"/>
                </a:gs>
                <a:gs pos="100000">
                  <a:srgbClr val="cc990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83200" y="27446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bfbef"/>
                </a:gs>
                <a:gs pos="100000">
                  <a:srgbClr val="cccc0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9600" y="34052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bf8ef"/>
                </a:gs>
                <a:gs pos="100000">
                  <a:srgbClr val="cc990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83200" y="40654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bfbef"/>
                </a:gs>
                <a:gs pos="100000">
                  <a:srgbClr val="cccc0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52720" y="47275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bf8ef"/>
                </a:gs>
                <a:gs pos="100000">
                  <a:srgbClr val="cc990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720" y="2819160"/>
              <a:ext cx="1535400" cy="1556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You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loga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er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13" name="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14" name=""/>
              <p:cNvSpPr/>
              <p:nvPr/>
            </p:nvSpPr>
            <p:spPr>
              <a:xfrm>
                <a:off x="3404160" y="1862280"/>
                <a:ext cx="2340720" cy="1945800"/>
              </a:xfrm>
              <a:prstGeom prst="hexagon">
                <a:avLst>
                  <a:gd name="adj" fmla="val 300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384720" y="1828800"/>
                <a:ext cx="2340360" cy="1945440"/>
              </a:xfrm>
              <a:prstGeom prst="hexagon">
                <a:avLst>
                  <a:gd name="adj" fmla="val 300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521880" y="1945800"/>
                <a:ext cx="2057040" cy="1711080"/>
              </a:xfrm>
              <a:prstGeom prst="hexagon">
                <a:avLst>
                  <a:gd name="adj" fmla="val 30055"/>
                  <a:gd name="vf" fmla="val 115470"/>
                </a:avLst>
              </a:prstGeom>
              <a:gradFill rotWithShape="0">
                <a:gsLst>
                  <a:gs pos="0">
                    <a:srgbClr val="2614aa"/>
                  </a:gs>
                  <a:gs pos="100000">
                    <a:srgbClr val="7262e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614600" y="2814480"/>
              <a:ext cx="2361960" cy="1979280"/>
              <a:chOff x="1614600" y="2814480"/>
              <a:chExt cx="2361960" cy="1979280"/>
            </a:xfrm>
          </p:grpSpPr>
          <p:sp>
            <p:nvSpPr>
              <p:cNvPr id="218" name=""/>
              <p:cNvSpPr/>
              <p:nvPr/>
            </p:nvSpPr>
            <p:spPr>
              <a:xfrm>
                <a:off x="1634040" y="284796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751760" y="293148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5181840" y="2819520"/>
              <a:ext cx="2361600" cy="1979280"/>
              <a:chOff x="5181840" y="2819520"/>
              <a:chExt cx="2361600" cy="1979280"/>
            </a:xfrm>
          </p:grpSpPr>
          <p:sp>
            <p:nvSpPr>
              <p:cNvPr id="224" name=""/>
              <p:cNvSpPr/>
              <p:nvPr/>
            </p:nvSpPr>
            <p:spPr>
              <a:xfrm>
                <a:off x="5201280" y="2853000"/>
                <a:ext cx="2342160" cy="194580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181840" y="281952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319000" y="2936520"/>
                <a:ext cx="2058120" cy="1711080"/>
              </a:xfrm>
              <a:prstGeom prst="hexagon">
                <a:avLst>
                  <a:gd name="adj" fmla="val 30070"/>
                  <a:gd name="vf" fmla="val 115470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6c440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3400560" y="3795840"/>
              <a:ext cx="2361960" cy="1979280"/>
              <a:chOff x="3400560" y="3795840"/>
              <a:chExt cx="2361960" cy="1979280"/>
            </a:xfrm>
          </p:grpSpPr>
          <p:sp>
            <p:nvSpPr>
              <p:cNvPr id="229" name=""/>
              <p:cNvSpPr/>
              <p:nvPr/>
            </p:nvSpPr>
            <p:spPr>
              <a:xfrm>
                <a:off x="3420000" y="382932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537720" y="391284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08:26:5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09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