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93D3-7914-453E-897C-C4D33017E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2AC7-CBB6-423B-BC70-FFD4A40EB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EA8E-A896-4111-8149-E437D9A8F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12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9056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51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12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8009-1202-4885-A431-59A57D42B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21D98-3677-43FD-8427-9EAFC1C34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2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9056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1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12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2A73-6C22-478A-BD0F-0C1EA883F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BA17-B61F-47F4-A974-F7534F45D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FE28-4907-48EA-9664-20F83AB6B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D736-E352-4645-897B-4200F69E8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D844-5493-46C3-936A-6DEA8150A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B164-7737-4AA4-BC78-C58A14836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0E9B-1A02-4150-839D-98390889A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843280" y="2749680"/>
            <a:ext cx="6300720" cy="4108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24720" y="7920"/>
            <a:ext cx="1619280" cy="792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596360" cy="79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26080"/>
            <a:ext cx="8351640" cy="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3a8e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16F6-A7AB-49F7-9BD8-B318239D1735}" type="slidenum">
              <a:rPr b="0" lang="zh-CN" sz="1400" spc="-1" strike="noStrike">
                <a:solidFill>
                  <a:srgbClr val="1c3a8e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7849440" y="1224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19560" y="65275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3a8e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58672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a8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c3a8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3a8e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3a8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3a8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3a8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507440" cy="102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医疗器械蓝色经典幻灯片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5805360"/>
            <a:ext cx="507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9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38f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e4168"/>
                </a:gs>
                <a:gs pos="100000">
                  <a:srgbClr val="438f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44d7a"/>
                </a:gs>
                <a:gs pos="50000">
                  <a:srgbClr val="438fe3"/>
                </a:gs>
                <a:gs pos="100000">
                  <a:srgbClr val="244d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38fe3">
                    <a:alpha val="0"/>
                  </a:srgbClr>
                </a:gs>
                <a:gs pos="100000">
                  <a:srgbClr val="2a5a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98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1022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8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60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65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73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85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90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cxnSp>
            <p:nvCxnSpPr>
              <p:cNvPr id="490" name=""/>
              <p:cNvCxnSpPr>
                <a:stCxn id="486" idx="3"/>
                <a:endCxn id="487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1" name=""/>
              <p:cNvCxnSpPr>
                <a:stCxn id="487" idx="3"/>
                <a:endCxn id="488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5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7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2e63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c1ee"/>
                  </a:gs>
                  <a:gs pos="50000">
                    <a:srgbClr val="438fe3">
                      <a:alpha val="0"/>
                    </a:srgbClr>
                  </a:gs>
                  <a:gs pos="100000">
                    <a:srgbClr val="97c1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ad9d9"/>
                  </a:gs>
                  <a:gs pos="100000">
                    <a:srgbClr val="33cc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cc">
                      <a:alpha val="0"/>
                    </a:srgbClr>
                  </a:gs>
                  <a:gs pos="100000">
                    <a:srgbClr val="a7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9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622764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3240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49400" y="32050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203840" y="1634760"/>
            <a:ext cx="6215400" cy="1324800"/>
            <a:chOff x="1203840" y="1634760"/>
            <a:chExt cx="6215400" cy="1324800"/>
          </a:xfrm>
        </p:grpSpPr>
        <p:sp>
          <p:nvSpPr>
            <p:cNvPr id="521" name=""/>
            <p:cNvSpPr/>
            <p:nvPr/>
          </p:nvSpPr>
          <p:spPr>
            <a:xfrm rot="3418800">
              <a:off x="141156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2334600" y="2016000"/>
              <a:ext cx="901080" cy="124200"/>
              <a:chOff x="2334600" y="2016000"/>
              <a:chExt cx="901080" cy="124200"/>
            </a:xfrm>
          </p:grpSpPr>
          <p:sp>
            <p:nvSpPr>
              <p:cNvPr id="523" name=""/>
              <p:cNvSpPr/>
              <p:nvPr/>
            </p:nvSpPr>
            <p:spPr>
              <a:xfrm>
                <a:off x="233460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42100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9924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7232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3418800">
              <a:off x="3076200" y="1780560"/>
              <a:ext cx="874080" cy="97092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999240" y="2016000"/>
              <a:ext cx="901080" cy="124200"/>
              <a:chOff x="3999240" y="2016000"/>
              <a:chExt cx="901080" cy="12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399924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8564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6388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3696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rot="3418800">
              <a:off x="4672080" y="17802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663880" y="2016000"/>
              <a:ext cx="1178640" cy="124200"/>
              <a:chOff x="5663880" y="2016000"/>
              <a:chExt cx="1178640" cy="12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566388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77692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6396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5936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rot="3418800">
              <a:off x="6336720" y="1780200"/>
              <a:ext cx="874080" cy="97128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51884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140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602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558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24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1912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143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09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914400" y="201132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c3a8e"/>
                      </a:solidFill>
                    </a:lnR>
                    <a:lnT>
                      <a:noFill/>
                    </a:lnT>
                    <a:lnB w="5760">
                      <a:solidFill>
                        <a:srgbClr val="1c3a8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2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5300"/>
                </a:gs>
                <a:gs pos="100000">
                  <a:srgbClr val="cc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6" name=""/>
              <p:cNvSpPr/>
              <p:nvPr/>
            </p:nvSpPr>
            <p:spPr>
              <a:xfrm rot="20601600">
                <a:off x="1388160" y="2001960"/>
                <a:ext cx="5699160" cy="29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95" y="2248"/>
                    </a:moveTo>
                    <a:arcTo wR="10800" hR="10800" stAng="-3141777" swAng="515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95" y="2248"/>
                    </a:moveTo>
                    <a:arcTo wR="10800" hR="10800" stAng="-3141777" swAng="5155523"/>
                  </a:path>
                </a:pathLst>
              </a:custGeom>
              <a:gradFill rotWithShape="0">
                <a:gsLst>
                  <a:gs pos="0">
                    <a:srgbClr val="76dcdc"/>
                  </a:gs>
                  <a:gs pos="100000">
                    <a:srgbClr val="33cccc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20602200">
                <a:off x="1437840" y="2001240"/>
                <a:ext cx="5644080" cy="295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28" y="12048"/>
                    </a:moveTo>
                    <a:arcTo wR="10800" hR="10800" stAng="398260" swAng="55868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28" y="12048"/>
                    </a:moveTo>
                    <a:arcTo wR="10800" hR="10800" stAng="398260" swAng="5586891"/>
                  </a:path>
                </a:pathLst>
              </a:custGeom>
              <a:gradFill rotWithShape="0">
                <a:gsLst>
                  <a:gs pos="0">
                    <a:srgbClr val="285689"/>
                  </a:gs>
                  <a:gs pos="100000">
                    <a:srgbClr val="438fe3"/>
                  </a:gs>
                </a:gsLst>
                <a:lin ang="125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601600">
                <a:off x="1395720" y="2013840"/>
                <a:ext cx="5681520" cy="283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7" y="1342"/>
                    </a:moveTo>
                    <a:arcTo wR="10800" hR="10800" stAng="-7131749" swAng="40321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7" y="1342"/>
                    </a:moveTo>
                    <a:arcTo wR="10800" hR="10800" stAng="-7131749" swAng="4032112"/>
                  </a:path>
                </a:pathLst>
              </a:custGeom>
              <a:gradFill rotWithShape="0">
                <a:gsLst>
                  <a:gs pos="0">
                    <a:srgbClr val="306069"/>
                  </a:gs>
                  <a:gs pos="100000">
                    <a:srgbClr val="5cb8ca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29320" y="21909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5812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604080" y="504360"/>
                <a:ext cx="7379640" cy="5581800"/>
                <a:chOff x="604080" y="504360"/>
                <a:chExt cx="7379640" cy="5581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5448240" y="3448440"/>
                  <a:ext cx="177300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5a5a5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20539200">
                  <a:off x="1022400" y="1408320"/>
                  <a:ext cx="6542640" cy="37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08" y="16758"/>
                      </a:moveTo>
                      <a:arcTo wR="10800" hR="10800" stAng="2008784" swAng="28002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08" y="16758"/>
                      </a:moveTo>
                      <a:arcTo wR="10800" hR="10800" stAng="2008784" swAng="2800242"/>
                    </a:path>
                  </a:pathLst>
                </a:custGeom>
                <a:gradFill rotWithShape="0">
                  <a:gsLst>
                    <a:gs pos="0">
                      <a:srgbClr val="454545"/>
                    </a:gs>
                    <a:gs pos="100000">
                      <a:srgbClr val="969696"/>
                    </a:gs>
                  </a:gsLst>
                  <a:lin ang="118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582800" y="3924720"/>
                  <a:ext cx="92412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4545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353200" y="371520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314352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27280" y="3990960"/>
                <a:ext cx="83844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c3a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601600">
                <a:off x="3036600" y="2981520"/>
                <a:ext cx="2587680" cy="1112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573" name="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d4d4d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8fe3"/>
                </a:gs>
                <a:gs pos="50000">
                  <a:srgbClr val="d0e2f7"/>
                </a:gs>
                <a:gs pos="100000">
                  <a:srgbClr val="438f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5616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2249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905120"/>
            <a:ext cx="5410080" cy="664920"/>
            <a:chOff x="1905120" y="1905120"/>
            <a:chExt cx="5410080" cy="664920"/>
          </a:xfrm>
        </p:grpSpPr>
        <p:grpSp>
          <p:nvGrpSpPr>
            <p:cNvPr id="89" name=""/>
            <p:cNvGrpSpPr/>
            <p:nvPr/>
          </p:nvGrpSpPr>
          <p:grpSpPr>
            <a:xfrm>
              <a:off x="1905120" y="1905120"/>
              <a:ext cx="762120" cy="664920"/>
              <a:chOff x="1905120" y="1905120"/>
              <a:chExt cx="762120" cy="664920"/>
            </a:xfrm>
          </p:grpSpPr>
          <p:sp>
            <p:nvSpPr>
              <p:cNvPr id="90" name=""/>
              <p:cNvSpPr/>
              <p:nvPr/>
            </p:nvSpPr>
            <p:spPr>
              <a:xfrm>
                <a:off x="1911240" y="19162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905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49400" y="1944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514600" y="251424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08560" y="1981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200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05120" y="2819520"/>
            <a:ext cx="5410080" cy="664920"/>
            <a:chOff x="1905120" y="2819520"/>
            <a:chExt cx="5410080" cy="664920"/>
          </a:xfrm>
        </p:grpSpPr>
        <p:grpSp>
          <p:nvGrpSpPr>
            <p:cNvPr id="97" name=""/>
            <p:cNvGrpSpPr/>
            <p:nvPr/>
          </p:nvGrpSpPr>
          <p:grpSpPr>
            <a:xfrm>
              <a:off x="1905120" y="2819520"/>
              <a:ext cx="762120" cy="664920"/>
              <a:chOff x="1905120" y="2819520"/>
              <a:chExt cx="762120" cy="664920"/>
            </a:xfrm>
          </p:grpSpPr>
          <p:sp>
            <p:nvSpPr>
              <p:cNvPr id="98" name=""/>
              <p:cNvSpPr/>
              <p:nvPr/>
            </p:nvSpPr>
            <p:spPr>
              <a:xfrm>
                <a:off x="1911240" y="28306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5120" y="28195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49400" y="2858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514600" y="342864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8560" y="2895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03840" y="291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05120" y="3711600"/>
            <a:ext cx="5410080" cy="665280"/>
            <a:chOff x="1905120" y="371160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905120" y="3711600"/>
              <a:ext cx="762120" cy="665280"/>
              <a:chOff x="1905120" y="371160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911240" y="37227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5120" y="3711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9400" y="375084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514600" y="4321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8560" y="3787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038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05120" y="4626000"/>
            <a:ext cx="5410080" cy="665280"/>
            <a:chOff x="1905120" y="4626000"/>
            <a:chExt cx="5410080" cy="665280"/>
          </a:xfrm>
        </p:grpSpPr>
        <p:grpSp>
          <p:nvGrpSpPr>
            <p:cNvPr id="113" name=""/>
            <p:cNvGrpSpPr/>
            <p:nvPr/>
          </p:nvGrpSpPr>
          <p:grpSpPr>
            <a:xfrm>
              <a:off x="1905120" y="4626000"/>
              <a:ext cx="762120" cy="665280"/>
              <a:chOff x="1905120" y="4626000"/>
              <a:chExt cx="762120" cy="665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911240" y="4637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05120" y="4626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49400" y="466524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514600" y="52354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8560" y="4702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384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3a8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9DE5-C154-472B-9A7B-153EE2E8D1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c3a8e"/>
                    </a:gs>
                    <a:gs pos="100000">
                      <a:srgbClr val="cc99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c3a8e"/>
                  </a:gs>
                  <a:gs pos="100000">
                    <a:srgbClr val="cc990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1" name=""/>
          <p:cNvSpPr/>
          <p:nvPr/>
        </p:nvSpPr>
        <p:spPr>
          <a:xfrm>
            <a:off x="234000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1c3a8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fe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438fe3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d5c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62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a3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cd7f4"/>
                  </a:gs>
                  <a:gs pos="100000">
                    <a:srgbClr val="438f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48235"/>
                    </a:srgbClr>
                  </a:gs>
                  <a:gs pos="100000">
                    <a:srgbClr val="3470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ede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1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38fe3"/>
                </a:gs>
                <a:gs pos="100000">
                  <a:srgbClr val="14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8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c3a8e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1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cc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1b6d6d"/>
                  </a:gs>
                  <a:gs pos="50000">
                    <a:srgbClr val="33cccc"/>
                  </a:gs>
                  <a:gs pos="100000">
                    <a:srgbClr val="1b6d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0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00"/>
                  </a:gs>
                  <a:gs pos="50000">
                    <a:srgbClr val="cc9900"/>
                  </a:gs>
                  <a:gs pos="100000">
                    <a:srgbClr val="5e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e4168"/>
                  </a:gs>
                  <a:gs pos="5000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38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6e00"/>
                  </a:gs>
                  <a:gs pos="50000">
                    <a:srgbClr val="cc9900"/>
                  </a:gs>
                  <a:gs pos="100000">
                    <a:srgbClr val="93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49393"/>
                  </a:gs>
                  <a:gs pos="50000">
                    <a:srgbClr val="33cccc"/>
                  </a:gs>
                  <a:gs pos="100000">
                    <a:srgbClr val="2493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067a4"/>
                  </a:gs>
                  <a:gs pos="50000">
                    <a:srgbClr val="438fe3"/>
                  </a:gs>
                  <a:gs pos="100000">
                    <a:srgbClr val="3067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5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45cfc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600"/>
                </a:gs>
                <a:gs pos="50000">
                  <a:srgbClr val="cc9900"/>
                </a:gs>
                <a:gs pos="100000">
                  <a:srgbClr val="5e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c3a8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57:0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