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4EC-ED11-4F25-902A-8441012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7DF-5CE7-4ED3-A3D8-DAE7F8F2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999-6692-4084-A814-654BBE33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9920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208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9920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208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D05-4ABC-4D23-896A-E887F617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D926-7CCF-40CA-AEFD-B850101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B22-EEE1-4EFB-BB58-0F58436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A57-271E-43F2-AE6F-21CE6EA6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85F5-FF3B-4D2F-B60C-D184755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1F3-7B78-4FF4-A114-D854428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533160"/>
            <a:ext cx="4800600" cy="13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4EA-8B63-4FFA-8192-5DC4B3C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F0A-1617-41A2-85F8-3D0933F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B43-22FB-4E03-9DFD-AAE50B8B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1414-31EE-43BA-9DEA-E73779A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1515-6EC4-456A-9838-A63E38E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058-DC7D-4E56-B578-0B7ACCA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8C52-5B37-4144-BA2F-14B1C2C7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9920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22080" y="342900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9920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322080" y="366804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5EE0-4BE5-4B40-A1CE-89E834A0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5AB-289B-4BD8-948C-ED368E0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F83-7DB9-4C4D-AECC-8D5C91B9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2E4-508B-477B-8B7B-B6C05BAC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533160"/>
            <a:ext cx="4800600" cy="13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0BA-1A5C-4860-9C48-B0EEBD6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D4E-CEFA-4960-A379-0CA7C8E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5840" y="366804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7B9-DD22-4E6A-A340-BEDB6FD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35840" y="342900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366804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B08-442B-4B05-8B7E-2EA52E8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21E-D237-455D-983F-FB2B1750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F06-25F9-463D-8D87-3D6880457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d7e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7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vessel" descr=""/>
          <p:cNvPicPr/>
          <p:nvPr/>
        </p:nvPicPr>
        <p:blipFill>
          <a:blip r:embed="rId2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A Mad Scientist’s Chemistry Presentation</a:t>
            </a:r>
            <a:endParaRPr b="0" lang="en-US" sz="44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320" y="27432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Your Subtitle Goes Here</a:t>
            </a:r>
            <a:endParaRPr b="0" lang="en-US" sz="24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mad_scientist_swirling_beaker_example" descr=""/>
          <p:cNvPicPr/>
          <p:nvPr/>
        </p:nvPicPr>
        <p:blipFill>
          <a:blip r:embed="rId3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50520" y="338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实验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80" y="533520"/>
            <a:ext cx="1828800" cy="1828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mad_scientist_shaking_test_tube_examp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molecule" descr="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olecule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ad_scientist_head_inquisitive_example" descr=""/>
          <p:cNvPicPr/>
          <p:nvPr/>
        </p:nvPicPr>
        <p:blipFill>
          <a:blip r:embed="rId3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685800"/>
            <a:ext cx="29527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have several expressions and can provide additional comments for your presentation, search the Premium Gold Site for more animations of 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87720" y="6310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mad_scientist_thinking_equation_example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molecule" descr="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d7e"/>
                </a:solidFill>
                <a:latin typeface="Hemi Head 426"/>
              </a:rPr>
              <a:t>使用规范说明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B6E-0208-4F89-BE04-3E82AE15156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438280" y="1143000"/>
            <a:ext cx="1828800" cy="990720"/>
          </a:xfrm>
          <a:prstGeom prst="wedgeRectCallout">
            <a:avLst>
              <a:gd name="adj1" fmla="val -41231"/>
              <a:gd name="adj2" fmla="val 80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Elements Page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514240" y="1218960"/>
            <a:ext cx="1676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d7e"/>
                </a:solidFill>
                <a:latin typeface="Arial Black"/>
              </a:rPr>
              <a:t>I’m a real caffeine molecule</a:t>
            </a: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pic>
        <p:nvPicPr>
          <p:cNvPr id="112" name="beeker_coverslide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2438280" cy="1950840"/>
          </a:xfrm>
          <a:prstGeom prst="rect">
            <a:avLst/>
          </a:prstGeom>
          <a:ln w="0">
            <a:noFill/>
          </a:ln>
        </p:spPr>
      </p:pic>
      <p:pic>
        <p:nvPicPr>
          <p:cNvPr id="113" name="printslide" descr=""/>
          <p:cNvPicPr/>
          <p:nvPr/>
        </p:nvPicPr>
        <p:blipFill>
          <a:blip r:embed="rId2"/>
          <a:stretch/>
        </p:blipFill>
        <p:spPr>
          <a:xfrm>
            <a:off x="6400800" y="4648320"/>
            <a:ext cx="2514600" cy="2012760"/>
          </a:xfrm>
          <a:prstGeom prst="rect">
            <a:avLst/>
          </a:prstGeom>
          <a:ln w="0">
            <a:noFill/>
          </a:ln>
        </p:spPr>
      </p:pic>
      <p:pic>
        <p:nvPicPr>
          <p:cNvPr id="114" name="slide" descr=""/>
          <p:cNvPicPr/>
          <p:nvPr/>
        </p:nvPicPr>
        <p:blipFill>
          <a:blip r:embed="rId3"/>
          <a:stretch/>
        </p:blipFill>
        <p:spPr>
          <a:xfrm>
            <a:off x="3581280" y="464832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15" name="vessel" descr=""/>
          <p:cNvPicPr/>
          <p:nvPr/>
        </p:nvPicPr>
        <p:blipFill>
          <a:blip r:embed="rId4"/>
          <a:stretch/>
        </p:blipFill>
        <p:spPr>
          <a:xfrm>
            <a:off x="4191120" y="2438280"/>
            <a:ext cx="28861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molecule" descr=""/>
          <p:cNvPicPr/>
          <p:nvPr/>
        </p:nvPicPr>
        <p:blipFill>
          <a:blip r:embed="rId5"/>
          <a:stretch/>
        </p:blipFill>
        <p:spPr>
          <a:xfrm>
            <a:off x="762120" y="2362320"/>
            <a:ext cx="320040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mad_scientist_swirling_beaker_example" descr=""/>
          <p:cNvPicPr/>
          <p:nvPr/>
        </p:nvPicPr>
        <p:blipFill>
          <a:blip r:embed="rId6"/>
          <a:stretch/>
        </p:blipFill>
        <p:spPr>
          <a:xfrm>
            <a:off x="5105520" y="304920"/>
            <a:ext cx="857160" cy="1257120"/>
          </a:xfrm>
          <a:prstGeom prst="rect">
            <a:avLst/>
          </a:prstGeom>
          <a:ln w="0">
            <a:noFill/>
          </a:ln>
        </p:spPr>
      </p:pic>
      <p:pic>
        <p:nvPicPr>
          <p:cNvPr id="118" name="mad_scientist_shaking_test_tube_example" descr=""/>
          <p:cNvPicPr/>
          <p:nvPr/>
        </p:nvPicPr>
        <p:blipFill>
          <a:blip r:embed="rId7"/>
          <a:stretch/>
        </p:blipFill>
        <p:spPr>
          <a:xfrm>
            <a:off x="6095880" y="3049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mad_scientist_head_inquisitive_example" descr=""/>
          <p:cNvPicPr/>
          <p:nvPr/>
        </p:nvPicPr>
        <p:blipFill>
          <a:blip r:embed="rId8"/>
          <a:stretch/>
        </p:blipFill>
        <p:spPr>
          <a:xfrm>
            <a:off x="7162920" y="304920"/>
            <a:ext cx="1028520" cy="971280"/>
          </a:xfrm>
          <a:prstGeom prst="rect">
            <a:avLst/>
          </a:prstGeom>
          <a:ln w="0">
            <a:noFill/>
          </a:ln>
        </p:spPr>
      </p:pic>
      <p:pic>
        <p:nvPicPr>
          <p:cNvPr id="120" name="mad_scientist_thinking_equation_example" descr=""/>
          <p:cNvPicPr/>
          <p:nvPr/>
        </p:nvPicPr>
        <p:blipFill>
          <a:blip r:embed="rId9"/>
          <a:stretch/>
        </p:blipFill>
        <p:spPr>
          <a:xfrm>
            <a:off x="7162920" y="13716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5:19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