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58880" y="196560"/>
            <a:ext cx="59436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950-4520-4074-AEF4-8EA0B375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B42-0204-4CC2-A20E-09DCF523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7AB-26C2-42B6-8239-AC1F18F3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DF7-BA7C-445E-9247-C247362C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864-C1A3-440D-8467-A793240B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58880" y="196560"/>
            <a:ext cx="59436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5FF-68ED-486F-A8EF-9F3C81D5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B6E-32C9-4B57-806C-DE296574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4E3-155B-43AC-A1E8-231FB5D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AC1-A206-4E91-864E-E7ED3F8F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AD2-DA7B-45ED-B302-0CE045A9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68C-A193-4315-A779-76BE734F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76D-3638-4F01-BA0F-D3DCBA92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8880" y="196560"/>
            <a:ext cx="59436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steth"/>
          <p:cNvPicPr/>
          <p:nvPr/>
        </p:nvPicPr>
        <p:blipFill>
          <a:blip r:embed="rId2"/>
          <a:srcRect l="34982" t="25725" r="6735" b="17471"/>
          <a:stretch/>
        </p:blipFill>
        <p:spPr>
          <a:xfrm>
            <a:off x="12600" y="1066680"/>
            <a:ext cx="2667240" cy="4038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5" descr="flower"/>
          <p:cNvPicPr/>
          <p:nvPr/>
        </p:nvPicPr>
        <p:blipFill>
          <a:blip r:embed="rId3"/>
          <a:stretch/>
        </p:blipFill>
        <p:spPr>
          <a:xfrm>
            <a:off x="12600" y="6243480"/>
            <a:ext cx="596880" cy="586080"/>
          </a:xfrm>
          <a:prstGeom prst="rect">
            <a:avLst/>
          </a:prstGeom>
          <a:ln w="0">
            <a:noFill/>
          </a:ln>
        </p:spPr>
      </p:pic>
      <p:sp>
        <p:nvSpPr>
          <p:cNvPr id="2" name="Line 29"/>
          <p:cNvSpPr/>
          <p:nvPr/>
        </p:nvSpPr>
        <p:spPr>
          <a:xfrm>
            <a:off x="2514600" y="741240"/>
            <a:ext cx="66294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Oval 30"/>
          <p:cNvSpPr/>
          <p:nvPr/>
        </p:nvSpPr>
        <p:spPr>
          <a:xfrm>
            <a:off x="2362320" y="6224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cecf5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5" name="Text Box 35"/>
          <p:cNvSpPr/>
          <p:nvPr/>
        </p:nvSpPr>
        <p:spPr>
          <a:xfrm>
            <a:off x="7315200" y="6392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teth"/>
          <p:cNvPicPr/>
          <p:nvPr/>
        </p:nvPicPr>
        <p:blipFill>
          <a:blip r:embed="rId2"/>
          <a:srcRect l="34982" t="25725" r="6735" b="17471"/>
          <a:stretch/>
        </p:blipFill>
        <p:spPr>
          <a:xfrm>
            <a:off x="12600" y="1066680"/>
            <a:ext cx="2667240" cy="403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lower"/>
          <p:cNvPicPr/>
          <p:nvPr/>
        </p:nvPicPr>
        <p:blipFill>
          <a:blip r:embed="rId3"/>
          <a:stretch/>
        </p:blipFill>
        <p:spPr>
          <a:xfrm>
            <a:off x="12600" y="6243480"/>
            <a:ext cx="596880" cy="586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8880" y="196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ct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ct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E7E1-823A-4398-9926-D14DF078FB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rebuchet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69D-71F4-4B84-8E2D-055B6B739D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320" y="5943600"/>
            <a:ext cx="507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>
            <a:off x="2498400" y="304920"/>
            <a:ext cx="381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医疗</a:t>
            </a:r>
            <a:r>
              <a:rPr b="0" lang="zh-CN" sz="4000" spc="-1" strike="noStrike">
                <a:solidFill>
                  <a:srgbClr val="000000"/>
                </a:solidFill>
                <a:latin typeface="Trebuchet MS"/>
                <a:ea typeface="宋体"/>
              </a:rPr>
              <a:t>听诊器</a:t>
            </a:r>
            <a:r>
              <a:rPr b="0" lang="zh-CN" sz="4000" spc="-1" strike="noStrike">
                <a:solidFill>
                  <a:srgbClr val="000000"/>
                </a:solidFill>
                <a:latin typeface="Trebuchet MS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rebuchet MS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1:43:5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8Z</dcterms:modified>
  <cp:revision>38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