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BD5A-D7D7-4CDE-BA15-86C4DBC98C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480" y="584100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1330-A196-4DEF-88C4-F074F455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296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8C69-AB5B-45B0-8855-6C595F27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33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14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33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14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048F-6AA0-4FBA-8CA4-6964F3A4F5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E22BD-C5FF-46A5-BC61-017DFF2B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52480" y="55623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F5657-9409-4D66-A476-32C55438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423DB-0300-403E-9C36-33F371B4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BD38E-08B5-4356-B703-F4815BB9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047A8-D4E2-4178-B904-4D350FCF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4849920"/>
            <a:ext cx="7391520" cy="33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95E3B-E989-43FB-95DD-73C85AA1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D8284-8758-499A-A4AF-EB734D0C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480" y="55623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51F6-4E4E-499A-8B13-84CE5CFF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296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B96F7-A8C4-4CE1-854F-D122D75A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1ACB9-C56A-4AE6-A6FA-C8A64DA9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52480" y="584100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40613-8F42-434B-843F-9DEC07D5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296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B0961-A773-4E4B-96AF-76303260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33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14480" y="556236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52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33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14480" y="5841000"/>
            <a:ext cx="1791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4BD1D-3F5E-4556-8455-A864914A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E615-6A72-4316-AB1F-12D311BB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BE7D-0650-4B8E-A60E-889EAD12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652C-7888-474D-9C48-0CEDD40D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849920"/>
            <a:ext cx="7391520" cy="33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5973-4702-4B21-9407-5CBDEBE6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2362-58FD-412F-8C3E-766849A2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2960" y="584100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58B9-39ED-4E8B-A611-9BB3F63E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2960" y="5562360"/>
            <a:ext cx="2714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480" y="5841000"/>
            <a:ext cx="55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317B-26A0-440C-BC84-9E28FB14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90920" y="228600"/>
            <a:ext cx="655308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5257800" cy="577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380880"/>
            <a:ext cx="7696440" cy="685800"/>
          </a:xfrm>
          <a:prstGeom prst="roundRect">
            <a:avLst>
              <a:gd name="adj" fmla="val 34722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2bb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96c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4828-CEED-4829-8AE3-7B0584562B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4120"/>
            <a:ext cx="7086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724280"/>
            <a:ext cx="754380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4876920"/>
            <a:ext cx="7467480" cy="685800"/>
          </a:xfrm>
          <a:prstGeom prst="roundRect">
            <a:avLst>
              <a:gd name="adj" fmla="val 347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1066680" y="64609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7009920" y="6476760"/>
            <a:ext cx="1839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609120" y="64609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7C3B-F560-4AC3-A147-4705EBB2E0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228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52280" y="990720"/>
            <a:ext cx="6858000" cy="3390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596c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849920"/>
            <a:ext cx="7391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Power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52480" y="55623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1160" y="2286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医疗药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 rot="18480600">
            <a:off x="1344960" y="35611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887480" y="273672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979880" y="2782800"/>
            <a:ext cx="209736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202280" y="2732040"/>
            <a:ext cx="625320" cy="2103480"/>
            <a:chOff x="4202280" y="2732040"/>
            <a:chExt cx="625320" cy="2103480"/>
          </a:xfrm>
        </p:grpSpPr>
        <p:sp>
          <p:nvSpPr>
            <p:cNvPr id="305" name=""/>
            <p:cNvSpPr/>
            <p:nvPr/>
          </p:nvSpPr>
          <p:spPr>
            <a:xfrm>
              <a:off x="4202280" y="27320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97040" y="32050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386080" y="29671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996160" y="3083040"/>
            <a:ext cx="529920" cy="56016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413388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524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22480" y="427032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122480" y="42703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242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24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74760" y="42991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455120" y="5278320"/>
            <a:ext cx="1082880" cy="492840"/>
            <a:chOff x="1455120" y="5278320"/>
            <a:chExt cx="1082880" cy="492840"/>
          </a:xfrm>
        </p:grpSpPr>
        <p:sp>
          <p:nvSpPr>
            <p:cNvPr id="315" name=""/>
            <p:cNvSpPr/>
            <p:nvPr/>
          </p:nvSpPr>
          <p:spPr>
            <a:xfrm flipH="1" flipV="1" rot="3964800">
              <a:off x="2044800" y="513072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55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4780200">
              <a:off x="1923120" y="517968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472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5076000">
              <a:off x="1848600" y="518904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44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5608200">
              <a:off x="1758240" y="519876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38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226520" y="5286600"/>
            <a:ext cx="1080720" cy="515520"/>
            <a:chOff x="1226520" y="5286600"/>
            <a:chExt cx="1080720" cy="515520"/>
          </a:xfrm>
        </p:grpSpPr>
        <p:sp>
          <p:nvSpPr>
            <p:cNvPr id="320" name=""/>
            <p:cNvSpPr/>
            <p:nvPr/>
          </p:nvSpPr>
          <p:spPr>
            <a:xfrm flipH="1" flipV="1" rot="5318400">
              <a:off x="1816560" y="519768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 rot="6133800">
              <a:off x="1685160" y="519624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 rot="6429600">
              <a:off x="1612440" y="517644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6961800">
              <a:off x="1526760" y="515016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08328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5636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215040" y="42703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215040" y="42703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53542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5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67320" y="42991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320520" y="5281560"/>
            <a:ext cx="1310040" cy="522000"/>
            <a:chOff x="6320520" y="5281560"/>
            <a:chExt cx="1310040" cy="522000"/>
          </a:xfrm>
        </p:grpSpPr>
        <p:grpSp>
          <p:nvGrpSpPr>
            <p:cNvPr id="330" name=""/>
            <p:cNvGrpSpPr/>
            <p:nvPr/>
          </p:nvGrpSpPr>
          <p:grpSpPr>
            <a:xfrm>
              <a:off x="6549840" y="5281560"/>
              <a:ext cx="1080720" cy="491400"/>
              <a:chOff x="6549840" y="5281560"/>
              <a:chExt cx="1080720" cy="491400"/>
            </a:xfrm>
          </p:grpSpPr>
          <p:sp>
            <p:nvSpPr>
              <p:cNvPr id="331" name=""/>
              <p:cNvSpPr/>
              <p:nvPr/>
            </p:nvSpPr>
            <p:spPr>
              <a:xfrm flipH="1" flipV="1" rot="3964800">
                <a:off x="713808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 rot="4780200">
                <a:off x="7017480" y="51818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 rot="5076000">
                <a:off x="694260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 rot="5608200">
                <a:off x="685224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0520" y="5287680"/>
              <a:ext cx="1080000" cy="515880"/>
              <a:chOff x="6320520" y="5287680"/>
              <a:chExt cx="1080000" cy="515880"/>
            </a:xfrm>
          </p:grpSpPr>
          <p:sp>
            <p:nvSpPr>
              <p:cNvPr id="336" name=""/>
              <p:cNvSpPr/>
              <p:nvPr/>
            </p:nvSpPr>
            <p:spPr>
              <a:xfrm flipH="1" flipV="1" rot="5317800">
                <a:off x="6909840" y="51998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 rot="6133800">
                <a:off x="6778800" y="51984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 rot="6429000">
                <a:off x="670608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 rot="6961200">
                <a:off x="661968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"/>
          <p:cNvSpPr/>
          <p:nvPr/>
        </p:nvSpPr>
        <p:spPr>
          <a:xfrm>
            <a:off x="3611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8460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743280" y="42703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743280" y="42703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235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23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95560" y="42991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848760" y="5281560"/>
            <a:ext cx="1310040" cy="522000"/>
            <a:chOff x="3848760" y="5281560"/>
            <a:chExt cx="1310040" cy="522000"/>
          </a:xfrm>
        </p:grpSpPr>
        <p:grpSp>
          <p:nvGrpSpPr>
            <p:cNvPr id="346" name=""/>
            <p:cNvGrpSpPr/>
            <p:nvPr/>
          </p:nvGrpSpPr>
          <p:grpSpPr>
            <a:xfrm>
              <a:off x="4078080" y="5281560"/>
              <a:ext cx="1080720" cy="491400"/>
              <a:chOff x="4078080" y="5281560"/>
              <a:chExt cx="1080720" cy="491400"/>
            </a:xfrm>
          </p:grpSpPr>
          <p:sp>
            <p:nvSpPr>
              <p:cNvPr id="347" name=""/>
              <p:cNvSpPr/>
              <p:nvPr/>
            </p:nvSpPr>
            <p:spPr>
              <a:xfrm flipH="1" flipV="1" rot="3964800">
                <a:off x="466632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 rot="4780200">
                <a:off x="4545720" y="51818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 rot="5076000">
                <a:off x="447084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 rot="5608200">
                <a:off x="438048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3848760" y="5287680"/>
              <a:ext cx="1080000" cy="515880"/>
              <a:chOff x="3848760" y="5287680"/>
              <a:chExt cx="1080000" cy="515880"/>
            </a:xfrm>
          </p:grpSpPr>
          <p:sp>
            <p:nvSpPr>
              <p:cNvPr id="352" name=""/>
              <p:cNvSpPr/>
              <p:nvPr/>
            </p:nvSpPr>
            <p:spPr>
              <a:xfrm flipH="1" flipV="1" rot="5317800">
                <a:off x="4438080" y="51998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 rot="6133800">
                <a:off x="4307040" y="51984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 rot="6429000">
                <a:off x="423432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 rot="6961200">
                <a:off x="414792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 rot="3050400">
            <a:off x="4367520" y="3561480"/>
            <a:ext cx="3255840" cy="441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9585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107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350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286000" y="1523880"/>
            <a:ext cx="4266720" cy="617400"/>
            <a:chOff x="2286000" y="1523880"/>
            <a:chExt cx="4266720" cy="617400"/>
          </a:xfrm>
        </p:grpSpPr>
        <p:grpSp>
          <p:nvGrpSpPr>
            <p:cNvPr id="361" name=""/>
            <p:cNvGrpSpPr/>
            <p:nvPr/>
          </p:nvGrpSpPr>
          <p:grpSpPr>
            <a:xfrm>
              <a:off x="2286000" y="1523880"/>
              <a:ext cx="4266720" cy="617400"/>
              <a:chOff x="2286000" y="1523880"/>
              <a:chExt cx="4266720" cy="617400"/>
            </a:xfrm>
          </p:grpSpPr>
          <p:sp>
            <p:nvSpPr>
              <p:cNvPr id="362" name=""/>
              <p:cNvSpPr/>
              <p:nvPr/>
            </p:nvSpPr>
            <p:spPr>
              <a:xfrm>
                <a:off x="228600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b9ca"/>
                  </a:gs>
                  <a:gs pos="50000">
                    <a:srgbClr val="003366">
                      <a:alpha val="90196"/>
                    </a:srgbClr>
                  </a:gs>
                  <a:gs pos="100000">
                    <a:srgbClr val="a8b9c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348640" y="157644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66">
                      <a:alpha val="90196"/>
                    </a:srgbClr>
                  </a:gs>
                  <a:gs pos="50000">
                    <a:srgbClr val="829bb3"/>
                  </a:gs>
                  <a:gs pos="100000">
                    <a:srgbClr val="003366">
                      <a:alpha val="9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3201480" y="172404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438280" y="22096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742760" y="861840"/>
            <a:ext cx="4983480" cy="3741840"/>
            <a:chOff x="1742760" y="861840"/>
            <a:chExt cx="4983480" cy="3741840"/>
          </a:xfrm>
        </p:grpSpPr>
        <p:sp>
          <p:nvSpPr>
            <p:cNvPr id="368" name="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0601600">
              <a:off x="232200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0601600">
              <a:off x="226512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ef965f"/>
                </a:gs>
                <a:gs pos="100000">
                  <a:srgbClr val="f3bb9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rot="20602200">
              <a:off x="230148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2bb39"/>
                </a:gs>
                <a:gs pos="100000">
                  <a:srgbClr val="2d8227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20601600">
              <a:off x="226800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ac6c44"/>
                </a:gs>
                <a:gs pos="100000">
                  <a:srgbClr val="ef965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20602200">
              <a:off x="227628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1f455e"/>
                </a:gs>
                <a:gs pos="100000">
                  <a:srgbClr val="4596c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c6b3e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539200">
              <a:off x="201996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d2964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c6b3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0740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0601600">
              <a:off x="337968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/>
          <p:nvPr/>
        </p:nvCxnSpPr>
        <p:spPr>
          <a:xfrm flipV="1" rot="10800000">
            <a:off x="569196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2494080" y="233208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"/>
          <p:cNvCxnSpPr/>
          <p:nvPr/>
        </p:nvCxnSpPr>
        <p:spPr>
          <a:xfrm>
            <a:off x="392256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/>
          <p:nvPr/>
        </p:nvCxnSpPr>
        <p:spPr>
          <a:xfrm rot="10800000">
            <a:off x="588420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94" idx="3"/>
          </p:cNvCxnSpPr>
          <p:nvPr/>
        </p:nvCxnSpPr>
        <p:spPr>
          <a:xfrm flipV="1">
            <a:off x="3200040" y="3938400"/>
            <a:ext cx="34380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1295280" y="4487400"/>
            <a:ext cx="6359400" cy="1708560"/>
            <a:chOff x="1295280" y="4487400"/>
            <a:chExt cx="6359400" cy="1708560"/>
          </a:xfrm>
        </p:grpSpPr>
        <p:grpSp>
          <p:nvGrpSpPr>
            <p:cNvPr id="397" name=""/>
            <p:cNvGrpSpPr/>
            <p:nvPr/>
          </p:nvGrpSpPr>
          <p:grpSpPr>
            <a:xfrm>
              <a:off x="1295280" y="4724280"/>
              <a:ext cx="6359400" cy="1471680"/>
              <a:chOff x="1295280" y="4724280"/>
              <a:chExt cx="6359400" cy="1471680"/>
            </a:xfrm>
          </p:grpSpPr>
          <p:sp>
            <p:nvSpPr>
              <p:cNvPr id="398" name=""/>
              <p:cNvSpPr/>
              <p:nvPr/>
            </p:nvSpPr>
            <p:spPr>
              <a:xfrm>
                <a:off x="129528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9528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ef96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2184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9528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2900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4328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4328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42bb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3648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43280" y="525132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29528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dddddd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425760" y="4487400"/>
              <a:ext cx="187200" cy="20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343120" y="4492440"/>
              <a:ext cx="190440" cy="22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4f4f4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"/>
          <p:cNvCxnSpPr>
            <a:stCxn id="417" idx="1"/>
            <a:endCxn id="419" idx="0"/>
          </p:cNvCxnSpPr>
          <p:nvPr/>
        </p:nvCxnSpPr>
        <p:spPr>
          <a:xfrm flipV="1" rot="10800000">
            <a:off x="5104800" y="1980000"/>
            <a:ext cx="24840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420" name=""/>
          <p:cNvCxnSpPr>
            <a:stCxn id="416" idx="1"/>
            <a:endCxn id="421" idx="0"/>
          </p:cNvCxnSpPr>
          <p:nvPr/>
        </p:nvCxnSpPr>
        <p:spPr>
          <a:xfrm flipV="1" rot="10800000">
            <a:off x="5601600" y="2284920"/>
            <a:ext cx="437400" cy="367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422" name=""/>
          <p:cNvGrpSpPr/>
          <p:nvPr/>
        </p:nvGrpSpPr>
        <p:grpSpPr>
          <a:xfrm>
            <a:off x="457200" y="2202120"/>
            <a:ext cx="2881800" cy="2881800"/>
            <a:chOff x="457200" y="2202120"/>
            <a:chExt cx="2881800" cy="2881800"/>
          </a:xfrm>
        </p:grpSpPr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533520" y="2306520"/>
              <a:ext cx="26985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flipV="1" rot="5400000">
              <a:off x="561600" y="2281680"/>
              <a:ext cx="2667240" cy="271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9" y="7224"/>
                  </a:moveTo>
                  <a:arcTo wR="10800" hR="10800" stAng="-9639693" swAng="9670153"/>
                  <a:lnTo>
                    <a:pt x="10800" y="10800"/>
                  </a:lnTo>
                  <a:close/>
                </a:path>
                <a:path fill="none" w="21600" h="21600">
                  <a:moveTo>
                    <a:pt x="609" y="7224"/>
                  </a:moveTo>
                  <a:arcTo wR="10800" hR="10800" stAng="-9639693" swAng="9670153"/>
                </a:path>
              </a:pathLst>
            </a:custGeom>
            <a:solidFill>
              <a:srgbClr val="42bb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 rot="16490400">
              <a:off x="563760" y="2310840"/>
              <a:ext cx="2666160" cy="266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" y="11649"/>
                  </a:moveTo>
                  <a:arcTo wR="10800" hR="10800" stAng="10529578" swAng="119482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" y="11649"/>
                  </a:moveTo>
                  <a:arcTo wR="10800" hR="10800" stAng="10529578" swAng="11948203"/>
                </a:path>
              </a:pathLst>
            </a:custGeom>
            <a:solidFill>
              <a:srgbClr val="4596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1760" y="314064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81080" y="359856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441440" y="3259080"/>
              <a:ext cx="1897560" cy="1729440"/>
              <a:chOff x="1441440" y="3259080"/>
              <a:chExt cx="1897560" cy="17294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1879200" y="3259080"/>
                <a:ext cx="1459800" cy="1712880"/>
                <a:chOff x="1879200" y="3259080"/>
                <a:chExt cx="1459800" cy="1712880"/>
              </a:xfrm>
            </p:grpSpPr>
            <p:sp>
              <p:nvSpPr>
                <p:cNvPr id="430" name=""/>
                <p:cNvSpPr/>
                <p:nvPr/>
              </p:nvSpPr>
              <p:spPr>
                <a:xfrm flipH="1" flipV="1" rot="1528800">
                  <a:off x="2692080" y="3264480"/>
                  <a:ext cx="3474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 flipV="1" rot="2344200">
                  <a:off x="2581920" y="3473640"/>
                  <a:ext cx="3474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 flipV="1" rot="2640000">
                  <a:off x="2490840" y="3574440"/>
                  <a:ext cx="3474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 flipV="1" rot="3172200">
                  <a:off x="2377080" y="3692880"/>
                  <a:ext cx="34704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1441440" y="3729600"/>
                <a:ext cx="1833840" cy="1258920"/>
                <a:chOff x="1441440" y="3729600"/>
                <a:chExt cx="1833840" cy="1258920"/>
              </a:xfrm>
            </p:grpSpPr>
            <p:sp>
              <p:nvSpPr>
                <p:cNvPr id="435" name=""/>
                <p:cNvSpPr/>
                <p:nvPr/>
              </p:nvSpPr>
              <p:spPr>
                <a:xfrm flipH="1" flipV="1" rot="2881800">
                  <a:off x="2454840" y="3623760"/>
                  <a:ext cx="34920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 rot="3697200">
                  <a:off x="2272680" y="3774960"/>
                  <a:ext cx="34920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 flipV="1" rot="3993000">
                  <a:off x="2148480" y="3832920"/>
                  <a:ext cx="34920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 flipV="1" rot="4525200">
                  <a:off x="1999440" y="3898440"/>
                  <a:ext cx="34920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9" name=""/>
          <p:cNvGrpSpPr/>
          <p:nvPr/>
        </p:nvGrpSpPr>
        <p:grpSpPr>
          <a:xfrm>
            <a:off x="2835720" y="1779480"/>
            <a:ext cx="3745800" cy="3744720"/>
            <a:chOff x="2835720" y="1779480"/>
            <a:chExt cx="3745800" cy="3744720"/>
          </a:xfrm>
        </p:grpSpPr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3352680" y="2306880"/>
              <a:ext cx="2702160" cy="267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 flipH="1" flipV="1" rot="5400000">
              <a:off x="3382920" y="2280240"/>
              <a:ext cx="2666160" cy="272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9" y="7224"/>
                  </a:moveTo>
                  <a:arcTo wR="10800" hR="10800" stAng="-9639693" swAng="9670153"/>
                  <a:lnTo>
                    <a:pt x="10800" y="10800"/>
                  </a:lnTo>
                  <a:close/>
                </a:path>
                <a:path fill="none" w="21600" h="21600">
                  <a:moveTo>
                    <a:pt x="609" y="7224"/>
                  </a:moveTo>
                  <a:arcTo wR="10800" hR="10800" stAng="-9639693" swAng="9670153"/>
                </a:path>
              </a:pathLst>
            </a:custGeom>
            <a:solidFill>
              <a:srgbClr val="42bb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 rot="16490400">
              <a:off x="3385080" y="2309400"/>
              <a:ext cx="2667240" cy="266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8" y="36"/>
                  </a:moveTo>
                  <a:arcTo wR="10800" hR="10800" stAng="-5681096" swAng="6558877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8" y="36"/>
                  </a:moveTo>
                  <a:arcTo wR="10800" hR="10800" stAng="-5681096" swAng="6558877"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 rot="11090400">
              <a:off x="3380760" y="2313000"/>
              <a:ext cx="2666160" cy="266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82" y="244"/>
                  </a:moveTo>
                  <a:arcTo wR="10800" hR="10800" stAng="-4667986" swAng="14880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82" y="244"/>
                  </a:moveTo>
                  <a:arcTo wR="10800" hR="10800" stAng="-4667986" swAng="1488023"/>
                </a:path>
              </a:pathLst>
            </a:custGeom>
            <a:solidFill>
              <a:srgbClr val="4596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 rot="13924200">
              <a:off x="3375360" y="2315520"/>
              <a:ext cx="2665440" cy="267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81" y="172"/>
                  </a:moveTo>
                  <a:arcTo wR="10800" hR="10800" stAng="-6013970" swAng="2874677"/>
                  <a:lnTo>
                    <a:pt x="10800" y="10800"/>
                  </a:lnTo>
                  <a:close/>
                </a:path>
                <a:path fill="none" w="21600" h="21600">
                  <a:moveTo>
                    <a:pt x="8881" y="172"/>
                  </a:moveTo>
                  <a:arcTo wR="10800" hR="10800" stAng="-6013970" swAng="2874677"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 rot="9746400">
              <a:off x="3384000" y="2305440"/>
              <a:ext cx="2667600" cy="26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16" y="522"/>
                  </a:moveTo>
                  <a:arcTo wR="10800" hR="10800" stAng="-4327303" swAng="9994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16" y="522"/>
                  </a:moveTo>
                  <a:arcTo wR="10800" hR="10800" stAng="-4327303" swAng="999462"/>
                </a:path>
              </a:pathLst>
            </a:custGeom>
            <a:solidFill>
              <a:srgbClr val="ef96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52840" y="3217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97280" y="390384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02560" y="314100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263120" y="3259440"/>
              <a:ext cx="1898640" cy="1729800"/>
              <a:chOff x="4263120" y="3259440"/>
              <a:chExt cx="1898640" cy="172980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4700880" y="3259440"/>
                <a:ext cx="1460880" cy="1712880"/>
                <a:chOff x="4700880" y="3259440"/>
                <a:chExt cx="1460880" cy="1712880"/>
              </a:xfrm>
            </p:grpSpPr>
            <p:sp>
              <p:nvSpPr>
                <p:cNvPr id="449" name=""/>
                <p:cNvSpPr/>
                <p:nvPr/>
              </p:nvSpPr>
              <p:spPr>
                <a:xfrm flipH="1" flipV="1" rot="1528800">
                  <a:off x="5514120" y="3264840"/>
                  <a:ext cx="34776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flipV="1" rot="2344200">
                  <a:off x="5403960" y="3474000"/>
                  <a:ext cx="34776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 rot="2640000">
                  <a:off x="5312520" y="3575160"/>
                  <a:ext cx="34776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flipV="1" rot="3172200">
                  <a:off x="5198400" y="3692880"/>
                  <a:ext cx="34776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263120" y="3730320"/>
                <a:ext cx="1834560" cy="1258920"/>
                <a:chOff x="4263120" y="3730320"/>
                <a:chExt cx="1834560" cy="1258920"/>
              </a:xfrm>
            </p:grpSpPr>
            <p:sp>
              <p:nvSpPr>
                <p:cNvPr id="454" name=""/>
                <p:cNvSpPr/>
                <p:nvPr/>
              </p:nvSpPr>
              <p:spPr>
                <a:xfrm flipH="1" flipV="1" rot="2881800">
                  <a:off x="5276520" y="3623760"/>
                  <a:ext cx="34956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 flipV="1" rot="3697200">
                  <a:off x="5093640" y="3775680"/>
                  <a:ext cx="34920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 flipV="1" rot="3993000">
                  <a:off x="4970160" y="3834720"/>
                  <a:ext cx="34956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 rot="4525200">
                  <a:off x="4820400" y="3898800"/>
                  <a:ext cx="34956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8" name="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4f4f4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2bb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2bb3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2bb3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596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596c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596c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f96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965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f965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855a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5ada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855ada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3825720"/>
            <a:ext cx="4362480" cy="1265400"/>
          </a:xfrm>
          <a:prstGeom prst="ellipse">
            <a:avLst/>
          </a:prstGeom>
          <a:gradFill rotWithShape="0">
            <a:gsLst>
              <a:gs pos="0">
                <a:srgbClr val="b4b4b4"/>
              </a:gs>
              <a:gs pos="100000">
                <a:srgbClr val="c0c0c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2536560" y="1866600"/>
            <a:ext cx="1536480" cy="40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2673360" y="1765440"/>
            <a:ext cx="1379160" cy="390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f7d1ba"/>
              </a:gs>
              <a:gs pos="100000">
                <a:srgbClr val="ef96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2610720" y="1865880"/>
            <a:ext cx="137916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855ada"/>
              </a:gs>
              <a:gs pos="100000">
                <a:srgbClr val="c2ae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2603160" y="1854720"/>
            <a:ext cx="1414080" cy="384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b3d3e9"/>
              </a:gs>
              <a:gs pos="100000">
                <a:srgbClr val="4596c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14880" y="38736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14920" y="35672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33960" y="400680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9600" y="426564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476440" y="375768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2567520" y="1484280"/>
            <a:ext cx="1844280" cy="47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15f1d"/>
              </a:gs>
              <a:gs pos="100000">
                <a:srgbClr val="42bb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321624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42b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2577600" y="1319760"/>
            <a:ext cx="184500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42bb39"/>
              </a:gs>
              <a:gs pos="100000">
                <a:srgbClr val="b2e2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2987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endCxn id="479" idx="3"/>
          </p:cNvCxnSpPr>
          <p:nvPr/>
        </p:nvCxnSpPr>
        <p:spPr>
          <a:xfrm flipV="1" rot="10800000">
            <a:off x="3907800" y="2301480"/>
            <a:ext cx="2416680" cy="88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endCxn id="472" idx="3"/>
          </p:cNvCxnSpPr>
          <p:nvPr/>
        </p:nvCxnSpPr>
        <p:spPr>
          <a:xfrm rot="10800000">
            <a:off x="5250600" y="3718800"/>
            <a:ext cx="1226520" cy="183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282840" y="3987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141768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324480" y="2119320"/>
            <a:ext cx="2028960" cy="482400"/>
            <a:chOff x="6324480" y="2119320"/>
            <a:chExt cx="2028960" cy="482400"/>
          </a:xfrm>
        </p:grpSpPr>
        <p:sp>
          <p:nvSpPr>
            <p:cNvPr id="485" name=""/>
            <p:cNvSpPr/>
            <p:nvPr/>
          </p:nvSpPr>
          <p:spPr>
            <a:xfrm>
              <a:off x="6444000" y="23972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24480" y="21193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33922c"/>
                </a:gs>
                <a:gs pos="100000">
                  <a:srgbClr val="42bb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324480" y="3673440"/>
            <a:ext cx="2028960" cy="482400"/>
            <a:chOff x="6324480" y="3673440"/>
            <a:chExt cx="2028960" cy="482400"/>
          </a:xfrm>
        </p:grpSpPr>
        <p:sp>
          <p:nvSpPr>
            <p:cNvPr id="488" name=""/>
            <p:cNvSpPr/>
            <p:nvPr/>
          </p:nvSpPr>
          <p:spPr>
            <a:xfrm>
              <a:off x="6444000" y="39513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24480" y="36734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bb754a"/>
                </a:gs>
                <a:gs pos="100000">
                  <a:srgbClr val="ef96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324480" y="5045040"/>
            <a:ext cx="2028960" cy="482400"/>
            <a:chOff x="6324480" y="5045040"/>
            <a:chExt cx="2028960" cy="482400"/>
          </a:xfrm>
        </p:grpSpPr>
        <p:sp>
          <p:nvSpPr>
            <p:cNvPr id="491" name=""/>
            <p:cNvSpPr/>
            <p:nvPr/>
          </p:nvSpPr>
          <p:spPr>
            <a:xfrm>
              <a:off x="6444000" y="5322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24480" y="50450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846ab"/>
                </a:gs>
                <a:gs pos="100000">
                  <a:srgbClr val="855ad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5273640"/>
            <a:ext cx="2028960" cy="482400"/>
            <a:chOff x="1143000" y="5273640"/>
            <a:chExt cx="2028960" cy="482400"/>
          </a:xfrm>
        </p:grpSpPr>
        <p:sp>
          <p:nvSpPr>
            <p:cNvPr id="494" name=""/>
            <p:cNvSpPr/>
            <p:nvPr/>
          </p:nvSpPr>
          <p:spPr>
            <a:xfrm>
              <a:off x="1262520" y="5551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43000" y="52736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3675a0"/>
                </a:gs>
                <a:gs pos="100000">
                  <a:srgbClr val="4596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96" name=""/>
          <p:cNvCxnSpPr/>
          <p:nvPr/>
        </p:nvCxnSpPr>
        <p:spPr>
          <a:xfrm rot="10800000">
            <a:off x="4799880" y="405360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"/>
          <p:cNvCxnSpPr/>
          <p:nvPr/>
        </p:nvCxnSpPr>
        <p:spPr>
          <a:xfrm flipH="1" flipV="1" rot="5400000">
            <a:off x="2698560" y="4755600"/>
            <a:ext cx="1204200" cy="25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6628320" y="4130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675840" y="25765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04280" y="55022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051640" y="2271600"/>
            <a:ext cx="996120" cy="1294560"/>
            <a:chOff x="2051640" y="2271600"/>
            <a:chExt cx="996120" cy="1294560"/>
          </a:xfrm>
        </p:grpSpPr>
        <p:grpSp>
          <p:nvGrpSpPr>
            <p:cNvPr id="502" name=""/>
            <p:cNvGrpSpPr/>
            <p:nvPr/>
          </p:nvGrpSpPr>
          <p:grpSpPr>
            <a:xfrm>
              <a:off x="2051640" y="2274120"/>
              <a:ext cx="991080" cy="1292040"/>
              <a:chOff x="2051640" y="2274120"/>
              <a:chExt cx="991080" cy="1292040"/>
            </a:xfrm>
          </p:grpSpPr>
          <p:sp>
            <p:nvSpPr>
              <p:cNvPr id="503" name=""/>
              <p:cNvSpPr/>
              <p:nvPr/>
            </p:nvSpPr>
            <p:spPr>
              <a:xfrm>
                <a:off x="2051640" y="2780640"/>
                <a:ext cx="991080" cy="785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19480" y="227412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2057400" y="2776320"/>
              <a:ext cx="990360" cy="7880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51800" y="282600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24880" y="227160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73480" y="228060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305800" y="2277720"/>
              <a:ext cx="344880" cy="359280"/>
              <a:chOff x="2305800" y="2277720"/>
              <a:chExt cx="344880" cy="35928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314080" y="2277720"/>
                <a:ext cx="336600" cy="273960"/>
                <a:chOff x="2314080" y="2277720"/>
                <a:chExt cx="336600" cy="273960"/>
              </a:xfrm>
            </p:grpSpPr>
            <p:sp>
              <p:nvSpPr>
                <p:cNvPr id="511" name=""/>
                <p:cNvSpPr/>
                <p:nvPr/>
              </p:nvSpPr>
              <p:spPr>
                <a:xfrm flipH="1" rot="15040200">
                  <a:off x="2466720" y="224460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 rot="14224200">
                  <a:off x="2427480" y="22600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 rot="13928400">
                  <a:off x="2409120" y="227700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 rot="13396200">
                  <a:off x="2387520" y="229932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305800" y="2299320"/>
                <a:ext cx="271800" cy="337680"/>
                <a:chOff x="2305800" y="2299320"/>
                <a:chExt cx="271800" cy="337680"/>
              </a:xfrm>
            </p:grpSpPr>
            <p:sp>
              <p:nvSpPr>
                <p:cNvPr id="516" name=""/>
                <p:cNvSpPr/>
                <p:nvPr/>
              </p:nvSpPr>
              <p:spPr>
                <a:xfrm flipH="1" rot="13687200">
                  <a:off x="2402280" y="22928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 rot="12871200">
                  <a:off x="2372040" y="23223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 rot="12576000">
                  <a:off x="2361600" y="23450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rot="12043800">
                  <a:off x="2350080" y="23745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0" name=""/>
            <p:cNvGrpSpPr/>
            <p:nvPr/>
          </p:nvGrpSpPr>
          <p:grpSpPr>
            <a:xfrm>
              <a:off x="2125440" y="2813400"/>
              <a:ext cx="429120" cy="517320"/>
              <a:chOff x="2125440" y="2813400"/>
              <a:chExt cx="429120" cy="51732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2125440" y="2813400"/>
                <a:ext cx="429120" cy="405000"/>
                <a:chOff x="2125440" y="2813400"/>
                <a:chExt cx="429120" cy="405000"/>
              </a:xfrm>
            </p:grpSpPr>
            <p:sp>
              <p:nvSpPr>
                <p:cNvPr id="522" name=""/>
                <p:cNvSpPr/>
                <p:nvPr/>
              </p:nvSpPr>
              <p:spPr>
                <a:xfrm flipH="1" rot="14424600">
                  <a:off x="2321280" y="276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 rot="13608600">
                  <a:off x="2269080" y="279396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rot="13313400">
                  <a:off x="2245680" y="282024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rot="12781200">
                  <a:off x="2217600" y="285264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2126880" y="2841840"/>
                <a:ext cx="307800" cy="488880"/>
                <a:chOff x="2126880" y="2841840"/>
                <a:chExt cx="307800" cy="488880"/>
              </a:xfrm>
            </p:grpSpPr>
            <p:sp>
              <p:nvSpPr>
                <p:cNvPr id="527" name=""/>
                <p:cNvSpPr/>
                <p:nvPr/>
              </p:nvSpPr>
              <p:spPr>
                <a:xfrm flipH="1" rot="13071600">
                  <a:off x="2234160" y="283248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 rot="12256200">
                  <a:off x="2198520" y="28818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 rot="11960400">
                  <a:off x="2185200" y="2914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rot="11428200">
                  <a:off x="2172600" y="2955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1" name=""/>
          <p:cNvSpPr/>
          <p:nvPr/>
        </p:nvSpPr>
        <p:spPr>
          <a:xfrm>
            <a:off x="1596240" y="35672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518480" y="2271600"/>
            <a:ext cx="995760" cy="1294560"/>
            <a:chOff x="1518480" y="2271600"/>
            <a:chExt cx="995760" cy="1294560"/>
          </a:xfrm>
        </p:grpSpPr>
        <p:grpSp>
          <p:nvGrpSpPr>
            <p:cNvPr id="533" name=""/>
            <p:cNvGrpSpPr/>
            <p:nvPr/>
          </p:nvGrpSpPr>
          <p:grpSpPr>
            <a:xfrm>
              <a:off x="1518480" y="2274120"/>
              <a:ext cx="990720" cy="1292040"/>
              <a:chOff x="1518480" y="2274120"/>
              <a:chExt cx="990720" cy="1292040"/>
            </a:xfrm>
          </p:grpSpPr>
          <p:sp>
            <p:nvSpPr>
              <p:cNvPr id="534" name=""/>
              <p:cNvSpPr/>
              <p:nvPr/>
            </p:nvSpPr>
            <p:spPr>
              <a:xfrm>
                <a:off x="1518480" y="2780640"/>
                <a:ext cx="990720" cy="785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785960" y="227412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1524240" y="2776320"/>
              <a:ext cx="990000" cy="7880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4596cd"/>
                </a:gs>
                <a:gs pos="100000">
                  <a:srgbClr val="1227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18280" y="282600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91360" y="227160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265372"/>
                </a:gs>
                <a:gs pos="50000">
                  <a:srgbClr val="4596cd"/>
                </a:gs>
                <a:gs pos="100000">
                  <a:srgbClr val="265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40320" y="228060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1772280" y="2277720"/>
              <a:ext cx="344880" cy="359280"/>
              <a:chOff x="1772280" y="2277720"/>
              <a:chExt cx="344880" cy="35928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1780920" y="2277720"/>
                <a:ext cx="336240" cy="273960"/>
                <a:chOff x="1780920" y="2277720"/>
                <a:chExt cx="336240" cy="273960"/>
              </a:xfrm>
            </p:grpSpPr>
            <p:sp>
              <p:nvSpPr>
                <p:cNvPr id="542" name=""/>
                <p:cNvSpPr/>
                <p:nvPr/>
              </p:nvSpPr>
              <p:spPr>
                <a:xfrm flipH="1" rot="15040200">
                  <a:off x="1933200" y="224460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 rot="14224200">
                  <a:off x="1893960" y="22600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 rot="13928400">
                  <a:off x="1875240" y="22777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13396200">
                  <a:off x="1854000" y="230004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1772280" y="2299320"/>
                <a:ext cx="271800" cy="337680"/>
                <a:chOff x="1772280" y="2299320"/>
                <a:chExt cx="271800" cy="337680"/>
              </a:xfrm>
            </p:grpSpPr>
            <p:sp>
              <p:nvSpPr>
                <p:cNvPr id="547" name=""/>
                <p:cNvSpPr/>
                <p:nvPr/>
              </p:nvSpPr>
              <p:spPr>
                <a:xfrm flipH="1" rot="13687200">
                  <a:off x="1868760" y="22928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rot="12871200">
                  <a:off x="1838880" y="23223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rot="12576000">
                  <a:off x="1828080" y="23457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rot="12043800">
                  <a:off x="1816920" y="23745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1" name=""/>
            <p:cNvGrpSpPr/>
            <p:nvPr/>
          </p:nvGrpSpPr>
          <p:grpSpPr>
            <a:xfrm>
              <a:off x="1592280" y="2813400"/>
              <a:ext cx="429120" cy="517320"/>
              <a:chOff x="1592280" y="2813400"/>
              <a:chExt cx="429120" cy="51732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1592280" y="2813400"/>
                <a:ext cx="429120" cy="405000"/>
                <a:chOff x="1592280" y="2813400"/>
                <a:chExt cx="429120" cy="405000"/>
              </a:xfrm>
            </p:grpSpPr>
            <p:sp>
              <p:nvSpPr>
                <p:cNvPr id="553" name=""/>
                <p:cNvSpPr/>
                <p:nvPr/>
              </p:nvSpPr>
              <p:spPr>
                <a:xfrm flipH="1" rot="14424600">
                  <a:off x="1788120" y="276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 rot="13608600">
                  <a:off x="1735920" y="279396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 rot="13313400">
                  <a:off x="1712520" y="282024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H="1" rot="12781200">
                  <a:off x="1684440" y="285264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1593720" y="2841840"/>
                <a:ext cx="307800" cy="488880"/>
                <a:chOff x="1593720" y="2841840"/>
                <a:chExt cx="307800" cy="488880"/>
              </a:xfrm>
            </p:grpSpPr>
            <p:sp>
              <p:nvSpPr>
                <p:cNvPr id="558" name=""/>
                <p:cNvSpPr/>
                <p:nvPr/>
              </p:nvSpPr>
              <p:spPr>
                <a:xfrm flipH="1" rot="13071600">
                  <a:off x="1701000" y="283248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 rot="12256200">
                  <a:off x="1665360" y="28818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rot="11960400">
                  <a:off x="1652040" y="2914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rot="11428200">
                  <a:off x="1639440" y="2955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2" name=""/>
          <p:cNvSpPr/>
          <p:nvPr/>
        </p:nvSpPr>
        <p:spPr>
          <a:xfrm>
            <a:off x="1446480" y="57610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883080" y="2358720"/>
            <a:ext cx="7348320" cy="3819240"/>
            <a:chOff x="883080" y="2358720"/>
            <a:chExt cx="7348320" cy="3819240"/>
          </a:xfrm>
        </p:grpSpPr>
        <p:sp>
          <p:nvSpPr>
            <p:cNvPr id="566" name=""/>
            <p:cNvSpPr/>
            <p:nvPr/>
          </p:nvSpPr>
          <p:spPr>
            <a:xfrm>
              <a:off x="2883600" y="3536640"/>
              <a:ext cx="3808440" cy="1524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374000" y="2703600"/>
              <a:ext cx="1141200" cy="12330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373640" y="3770640"/>
              <a:ext cx="3079080" cy="131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4408200" y="3902400"/>
              <a:ext cx="1314000" cy="1432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574720" y="3902760"/>
              <a:ext cx="1833480" cy="16322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501920" y="3902400"/>
              <a:ext cx="2906280" cy="100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1182400">
              <a:off x="2608920" y="3036600"/>
              <a:ext cx="3425040" cy="164592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08080"/>
                </a:gs>
              </a:gsLst>
              <a:lin ang="13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1256800">
              <a:off x="1327320" y="2667960"/>
              <a:ext cx="6233040" cy="303516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1256800">
              <a:off x="1291320" y="2662560"/>
              <a:ext cx="6250320" cy="300456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38280" y="3363120"/>
              <a:ext cx="2139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is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Design Digital Content &amp; Contents mall develop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883080" y="3661560"/>
              <a:ext cx="1391040" cy="770400"/>
              <a:chOff x="883080" y="3661560"/>
              <a:chExt cx="1391040" cy="770400"/>
            </a:xfrm>
          </p:grpSpPr>
          <p:sp>
            <p:nvSpPr>
              <p:cNvPr id="577" name=""/>
              <p:cNvSpPr/>
              <p:nvPr/>
            </p:nvSpPr>
            <p:spPr>
              <a:xfrm rot="21204600">
                <a:off x="917280" y="3783240"/>
                <a:ext cx="1328040" cy="57456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1204600">
                <a:off x="911520" y="3735720"/>
                <a:ext cx="1328760" cy="574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486880" y="2616120"/>
              <a:ext cx="1206720" cy="542160"/>
              <a:chOff x="2486880" y="2616120"/>
              <a:chExt cx="1206720" cy="542160"/>
            </a:xfrm>
          </p:grpSpPr>
          <p:sp>
            <p:nvSpPr>
              <p:cNvPr id="580" name=""/>
              <p:cNvSpPr/>
              <p:nvPr/>
            </p:nvSpPr>
            <p:spPr>
              <a:xfrm rot="21274800">
                <a:off x="2506680" y="2703240"/>
                <a:ext cx="1170720" cy="40032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1274800">
                <a:off x="2503080" y="2670120"/>
                <a:ext cx="117108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834440" y="2389680"/>
              <a:ext cx="1365840" cy="650880"/>
              <a:chOff x="4834440" y="2389680"/>
              <a:chExt cx="1365840" cy="650880"/>
            </a:xfrm>
          </p:grpSpPr>
          <p:sp>
            <p:nvSpPr>
              <p:cNvPr id="583" name=""/>
              <p:cNvSpPr/>
              <p:nvPr/>
            </p:nvSpPr>
            <p:spPr>
              <a:xfrm rot="21345000">
                <a:off x="4854960" y="2480040"/>
                <a:ext cx="132804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1345000">
                <a:off x="4851360" y="2438280"/>
                <a:ext cx="1328760" cy="51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6459120" y="3286080"/>
              <a:ext cx="1772280" cy="1010160"/>
              <a:chOff x="6459120" y="3286080"/>
              <a:chExt cx="1772280" cy="1010160"/>
            </a:xfrm>
          </p:grpSpPr>
          <p:sp>
            <p:nvSpPr>
              <p:cNvPr id="586" name=""/>
              <p:cNvSpPr/>
              <p:nvPr/>
            </p:nvSpPr>
            <p:spPr>
              <a:xfrm rot="21391800">
                <a:off x="6487920" y="3405960"/>
                <a:ext cx="1719720" cy="83880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21391800">
                <a:off x="6482880" y="3337200"/>
                <a:ext cx="1720440" cy="8388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4473720" y="4668120"/>
              <a:ext cx="2449080" cy="1498320"/>
              <a:chOff x="4473720" y="4668120"/>
              <a:chExt cx="2449080" cy="1498320"/>
            </a:xfrm>
          </p:grpSpPr>
          <p:sp>
            <p:nvSpPr>
              <p:cNvPr id="589" name=""/>
              <p:cNvSpPr/>
              <p:nvPr/>
            </p:nvSpPr>
            <p:spPr>
              <a:xfrm rot="21401400">
                <a:off x="4515120" y="4839120"/>
                <a:ext cx="2373120" cy="125964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1401400">
                <a:off x="4507920" y="4735440"/>
                <a:ext cx="2374200" cy="12596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598760" y="4957560"/>
              <a:ext cx="1954440" cy="1220400"/>
              <a:chOff x="1598760" y="4957560"/>
              <a:chExt cx="1954440" cy="1220400"/>
            </a:xfrm>
          </p:grpSpPr>
          <p:sp>
            <p:nvSpPr>
              <p:cNvPr id="592" name=""/>
              <p:cNvSpPr/>
              <p:nvPr/>
            </p:nvSpPr>
            <p:spPr>
              <a:xfrm rot="21307200">
                <a:off x="1644840" y="5116320"/>
                <a:ext cx="1869480" cy="98352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1307200">
                <a:off x="1636920" y="5035320"/>
                <a:ext cx="187056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2643120" y="26722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00480" y="250416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68520" y="353664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73640" y="51634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89800" y="5335560"/>
              <a:ext cx="86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21400" y="383652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3505320"/>
            <a:ext cx="8305920" cy="2971800"/>
          </a:xfrm>
          <a:custGeom>
            <a:avLst/>
            <a:gdLst/>
            <a:ahLst/>
            <a:rect l="l" t="t" r="r" b="b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9966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900600" y="1523880"/>
            <a:ext cx="1498320" cy="14842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3900600" y="152388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242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24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54320" y="15541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003560" y="2554920"/>
            <a:ext cx="1317960" cy="527760"/>
            <a:chOff x="4003560" y="2554920"/>
            <a:chExt cx="1317960" cy="527760"/>
          </a:xfrm>
        </p:grpSpPr>
        <p:grpSp>
          <p:nvGrpSpPr>
            <p:cNvPr id="606" name=""/>
            <p:cNvGrpSpPr/>
            <p:nvPr/>
          </p:nvGrpSpPr>
          <p:grpSpPr>
            <a:xfrm>
              <a:off x="4234320" y="2554920"/>
              <a:ext cx="1087200" cy="496800"/>
              <a:chOff x="4234320" y="2554920"/>
              <a:chExt cx="1087200" cy="49680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4824360" y="240840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4703040" y="24562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4626720" y="24656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4537080" y="24753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4003560" y="2561760"/>
              <a:ext cx="1084680" cy="520920"/>
              <a:chOff x="4003560" y="2561760"/>
              <a:chExt cx="1084680" cy="520920"/>
            </a:xfrm>
          </p:grpSpPr>
          <p:sp>
            <p:nvSpPr>
              <p:cNvPr id="612" name=""/>
              <p:cNvSpPr/>
              <p:nvPr/>
            </p:nvSpPr>
            <p:spPr>
              <a:xfrm flipH="1" flipV="1" rot="5318400">
                <a:off x="4593600" y="247572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4462920" y="247356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600">
                <a:off x="4389480" y="245412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800">
                <a:off x="4303080" y="24274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03848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495440" y="213372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495440" y="213372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22835">
                  <a:alpha val="90196"/>
                </a:srgbClr>
              </a:gs>
              <a:gs pos="50000">
                <a:srgbClr val="ff99cc">
                  <a:alpha val="45098"/>
                </a:srgbClr>
              </a:gs>
              <a:gs pos="100000">
                <a:srgbClr val="42283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649520" y="2163600"/>
            <a:ext cx="1170000" cy="516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598400" y="3164760"/>
            <a:ext cx="1317960" cy="527760"/>
            <a:chOff x="1598400" y="3164760"/>
            <a:chExt cx="1317960" cy="527760"/>
          </a:xfrm>
        </p:grpSpPr>
        <p:grpSp>
          <p:nvGrpSpPr>
            <p:cNvPr id="621" name=""/>
            <p:cNvGrpSpPr/>
            <p:nvPr/>
          </p:nvGrpSpPr>
          <p:grpSpPr>
            <a:xfrm>
              <a:off x="1829160" y="3164760"/>
              <a:ext cx="1087200" cy="496800"/>
              <a:chOff x="1829160" y="3164760"/>
              <a:chExt cx="1087200" cy="496800"/>
            </a:xfrm>
          </p:grpSpPr>
          <p:sp>
            <p:nvSpPr>
              <p:cNvPr id="622" name=""/>
              <p:cNvSpPr/>
              <p:nvPr/>
            </p:nvSpPr>
            <p:spPr>
              <a:xfrm flipH="1" flipV="1" rot="3964800">
                <a:off x="2419200" y="30182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4780200">
                <a:off x="2297880" y="30661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5076000">
                <a:off x="2221560" y="3075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 rot="5608200">
                <a:off x="2131920" y="3085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1598400" y="3171600"/>
              <a:ext cx="1084680" cy="520920"/>
              <a:chOff x="1598400" y="3171600"/>
              <a:chExt cx="1084680" cy="520920"/>
            </a:xfrm>
          </p:grpSpPr>
          <p:sp>
            <p:nvSpPr>
              <p:cNvPr id="627" name=""/>
              <p:cNvSpPr/>
              <p:nvPr/>
            </p:nvSpPr>
            <p:spPr>
              <a:xfrm flipH="1" flipV="1" rot="5318400">
                <a:off x="2188440" y="308556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 rot="6133800">
                <a:off x="2057760" y="308340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 rot="6429600">
                <a:off x="1984320" y="306396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 rot="6961800">
                <a:off x="1897920" y="303732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"/>
          <p:cNvSpPr/>
          <p:nvPr/>
        </p:nvSpPr>
        <p:spPr>
          <a:xfrm>
            <a:off x="1758960" y="276084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6165720" y="22096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165720" y="2209680"/>
            <a:ext cx="1489320" cy="1487520"/>
          </a:xfrm>
          <a:prstGeom prst="ellipse">
            <a:avLst/>
          </a:prstGeom>
          <a:gradFill rotWithShape="0">
            <a:gsLst>
              <a:gs pos="0">
                <a:srgbClr val="0d2842">
                  <a:alpha val="90196"/>
                </a:srgbClr>
              </a:gs>
              <a:gs pos="50000">
                <a:srgbClr val="3399ff">
                  <a:alpha val="45098"/>
                </a:srgbClr>
              </a:gs>
              <a:gs pos="100000">
                <a:srgbClr val="0d28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19800" y="22399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6268680" y="3240720"/>
            <a:ext cx="1317960" cy="527760"/>
            <a:chOff x="6268680" y="3240720"/>
            <a:chExt cx="1317960" cy="527760"/>
          </a:xfrm>
        </p:grpSpPr>
        <p:grpSp>
          <p:nvGrpSpPr>
            <p:cNvPr id="636" name=""/>
            <p:cNvGrpSpPr/>
            <p:nvPr/>
          </p:nvGrpSpPr>
          <p:grpSpPr>
            <a:xfrm>
              <a:off x="6499440" y="3240720"/>
              <a:ext cx="1087200" cy="496800"/>
              <a:chOff x="6499440" y="3240720"/>
              <a:chExt cx="1087200" cy="496800"/>
            </a:xfrm>
          </p:grpSpPr>
          <p:sp>
            <p:nvSpPr>
              <p:cNvPr id="637" name=""/>
              <p:cNvSpPr/>
              <p:nvPr/>
            </p:nvSpPr>
            <p:spPr>
              <a:xfrm flipH="1" flipV="1" rot="3964800">
                <a:off x="7089480" y="309420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 rot="4780200">
                <a:off x="6968160" y="31420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 rot="5076000">
                <a:off x="6891840" y="31514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 flipV="1" rot="5608200">
                <a:off x="6802200" y="31611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6268680" y="3247560"/>
              <a:ext cx="1084680" cy="520920"/>
              <a:chOff x="6268680" y="3247560"/>
              <a:chExt cx="1084680" cy="520920"/>
            </a:xfrm>
          </p:grpSpPr>
          <p:sp>
            <p:nvSpPr>
              <p:cNvPr id="642" name=""/>
              <p:cNvSpPr/>
              <p:nvPr/>
            </p:nvSpPr>
            <p:spPr>
              <a:xfrm flipH="1" flipV="1" rot="5318400">
                <a:off x="6858720" y="316152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 rot="6133800">
                <a:off x="6728040" y="315936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 flipV="1" rot="6429600">
                <a:off x="6654600" y="313992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 flipV="1" rot="6961800">
                <a:off x="6568200" y="31132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"/>
          <p:cNvSpPr/>
          <p:nvPr/>
        </p:nvSpPr>
        <p:spPr>
          <a:xfrm>
            <a:off x="626580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5591160"/>
            <a:ext cx="477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3124080"/>
            <a:ext cx="266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15000" y="3809880"/>
            <a:ext cx="251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f965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95480" y="2209680"/>
            <a:ext cx="3200400" cy="3200400"/>
          </a:xfrm>
          <a:prstGeom prst="ellipse">
            <a:avLst/>
          </a:prstGeom>
          <a:noFill/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3520" y="1905120"/>
            <a:ext cx="216360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8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828720" y="2642760"/>
            <a:ext cx="1773360" cy="2410200"/>
            <a:chOff x="828720" y="2642760"/>
            <a:chExt cx="1773360" cy="2410200"/>
          </a:xfrm>
        </p:grpSpPr>
        <p:sp>
          <p:nvSpPr>
            <p:cNvPr id="656" name=""/>
            <p:cNvSpPr/>
            <p:nvPr/>
          </p:nvSpPr>
          <p:spPr>
            <a:xfrm flipV="1">
              <a:off x="828720" y="2642400"/>
              <a:ext cx="177336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68686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32680" y="4038840"/>
              <a:ext cx="176940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533520" y="3432240"/>
            <a:ext cx="2719440" cy="812880"/>
          </a:xfrm>
          <a:prstGeom prst="rightArrow">
            <a:avLst>
              <a:gd name="adj1" fmla="val 54000"/>
              <a:gd name="adj2" fmla="val 68612"/>
            </a:avLst>
          </a:prstGeom>
          <a:gradFill rotWithShape="0">
            <a:gsLst>
              <a:gs pos="0">
                <a:srgbClr val="e5c037"/>
              </a:gs>
              <a:gs pos="100000">
                <a:srgbClr val="695819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2856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3e3e3"/>
              </a:gs>
              <a:gs pos="100000">
                <a:srgbClr val="c0c0c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281640" y="1925640"/>
            <a:ext cx="2162160" cy="386568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8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408360" y="2668320"/>
            <a:ext cx="1819800" cy="2401920"/>
            <a:chOff x="6408360" y="2668320"/>
            <a:chExt cx="1819800" cy="2401920"/>
          </a:xfrm>
        </p:grpSpPr>
        <p:sp>
          <p:nvSpPr>
            <p:cNvPr id="662" name=""/>
            <p:cNvSpPr/>
            <p:nvPr/>
          </p:nvSpPr>
          <p:spPr>
            <a:xfrm flipH="1" flipV="1">
              <a:off x="6408720" y="2667960"/>
              <a:ext cx="181944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38383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6408000" y="4059000"/>
              <a:ext cx="179892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38383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>
            <a:off x="5784840" y="3473280"/>
            <a:ext cx="2673360" cy="717840"/>
          </a:xfrm>
          <a:prstGeom prst="rightArrow">
            <a:avLst>
              <a:gd name="adj1" fmla="val 62213"/>
              <a:gd name="adj2" fmla="val 69397"/>
            </a:avLst>
          </a:prstGeom>
          <a:gradFill rotWithShape="0">
            <a:gsLst>
              <a:gs pos="0">
                <a:srgbClr val="4596cd"/>
              </a:gs>
              <a:gs pos="100000">
                <a:srgbClr val="1f455e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4124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54880" y="192564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98320" y="2967120"/>
            <a:ext cx="184176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ef96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ef96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46960" y="266688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9e9e9"/>
              </a:gs>
              <a:gs pos="100000">
                <a:srgbClr val="c0c0c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24640" y="294948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ef96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ef96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124080" y="2438280"/>
            <a:ext cx="2819160" cy="2819520"/>
            <a:chOff x="3124080" y="2438280"/>
            <a:chExt cx="2819160" cy="2819520"/>
          </a:xfrm>
        </p:grpSpPr>
        <p:grpSp>
          <p:nvGrpSpPr>
            <p:cNvPr id="671" name=""/>
            <p:cNvGrpSpPr/>
            <p:nvPr/>
          </p:nvGrpSpPr>
          <p:grpSpPr>
            <a:xfrm>
              <a:off x="3960000" y="2438280"/>
              <a:ext cx="1147320" cy="938880"/>
              <a:chOff x="3960000" y="2438280"/>
              <a:chExt cx="1147320" cy="93888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3960000" y="2438280"/>
                <a:ext cx="1147320" cy="938880"/>
                <a:chOff x="3960000" y="2438280"/>
                <a:chExt cx="1147320" cy="93888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3969360" y="245412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960000" y="243828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026600" y="249372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4207680" y="27014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3124080" y="2906280"/>
              <a:ext cx="1148400" cy="938880"/>
              <a:chOff x="3124080" y="2906280"/>
              <a:chExt cx="1148400" cy="93888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3124080" y="2906280"/>
                <a:ext cx="1148400" cy="938880"/>
                <a:chOff x="3124080" y="2906280"/>
                <a:chExt cx="1148400" cy="938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133440" y="292212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124080" y="290628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190680" y="296172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115d16"/>
                    </a:gs>
                    <a:gs pos="100000">
                      <a:srgbClr val="24b443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2" name=""/>
              <p:cNvSpPr/>
              <p:nvPr/>
            </p:nvSpPr>
            <p:spPr>
              <a:xfrm>
                <a:off x="3379320" y="3163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960000" y="3377160"/>
              <a:ext cx="1147320" cy="938880"/>
              <a:chOff x="3960000" y="3377160"/>
              <a:chExt cx="1147320" cy="9388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3960000" y="3377160"/>
                <a:ext cx="1147320" cy="938880"/>
                <a:chOff x="3960000" y="3377160"/>
                <a:chExt cx="1147320" cy="93888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3969360" y="339300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960000" y="337716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026600" y="343260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844820"/>
                    </a:gs>
                    <a:gs pos="100000">
                      <a:srgbClr val="cc7032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4188240" y="3645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794840" y="2906280"/>
              <a:ext cx="1148400" cy="938880"/>
              <a:chOff x="4794840" y="2906280"/>
              <a:chExt cx="1148400" cy="93888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4794840" y="2906280"/>
                <a:ext cx="1148400" cy="938880"/>
                <a:chOff x="4794840" y="2906280"/>
                <a:chExt cx="1148400" cy="93888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804200" y="292212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794840" y="290628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861440" y="296172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50080" y="3176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4794840" y="3848040"/>
              <a:ext cx="1148400" cy="938880"/>
              <a:chOff x="4794840" y="3848040"/>
              <a:chExt cx="1148400" cy="93888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4794840" y="3848040"/>
                <a:ext cx="1148400" cy="938880"/>
                <a:chOff x="4794840" y="3848040"/>
                <a:chExt cx="1148400" cy="9388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804200" y="386388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794840" y="384804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61440" y="390348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4dc9b1"/>
                    </a:gs>
                    <a:gs pos="100000">
                      <a:srgbClr val="235c51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5065560" y="4149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124080" y="3848040"/>
              <a:ext cx="1148400" cy="938880"/>
              <a:chOff x="3124080" y="3848040"/>
              <a:chExt cx="1148400" cy="93888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3124080" y="3848040"/>
                <a:ext cx="1148400" cy="938880"/>
                <a:chOff x="3124080" y="3848040"/>
                <a:chExt cx="1148400" cy="93888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133440" y="386388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124080" y="384804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190680" y="390348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>
                <a:off x="3379320" y="4103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3960000" y="4318920"/>
              <a:ext cx="1147320" cy="938880"/>
              <a:chOff x="3960000" y="4318920"/>
              <a:chExt cx="1147320" cy="938880"/>
            </a:xfrm>
          </p:grpSpPr>
          <p:grpSp>
            <p:nvGrpSpPr>
              <p:cNvPr id="708" name=""/>
              <p:cNvGrpSpPr/>
              <p:nvPr/>
            </p:nvGrpSpPr>
            <p:grpSpPr>
              <a:xfrm>
                <a:off x="3960000" y="4318920"/>
                <a:ext cx="1147320" cy="938880"/>
                <a:chOff x="3960000" y="4318920"/>
                <a:chExt cx="1147320" cy="93888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3969360" y="433476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960000" y="431892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026600" y="437436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bfaa4f"/>
                    </a:gs>
                    <a:gs pos="100000">
                      <a:srgbClr val="584e2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"/>
              <p:cNvSpPr/>
              <p:nvPr/>
            </p:nvSpPr>
            <p:spPr>
              <a:xfrm>
                <a:off x="4210560" y="45889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022480" y="2976480"/>
            <a:ext cx="930240" cy="2430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69960" y="6005520"/>
            <a:ext cx="1679760" cy="3952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880240" y="4552920"/>
            <a:ext cx="1182600" cy="27936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168720" y="4410000"/>
            <a:ext cx="2089080" cy="5479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 rot="17752800">
            <a:off x="5634360" y="2925720"/>
            <a:ext cx="1677600" cy="17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2" y="16773"/>
                </a:moveTo>
                <a:arcTo wR="10800" hR="10800" stAng="8785564" swAng="18754729"/>
                <a:lnTo>
                  <a:pt x="10800" y="10800"/>
                </a:lnTo>
                <a:close/>
              </a:path>
              <a:path fill="none" w="21600" h="21600">
                <a:moveTo>
                  <a:pt x="1802" y="16773"/>
                </a:moveTo>
                <a:arcTo wR="10800" hR="10800" stAng="8785564" swAng="1875472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1817280" y="1512000"/>
            <a:ext cx="1380240" cy="142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14" y="20987"/>
                </a:moveTo>
                <a:arcTo wR="10800" hR="10800" stAng="6563447" swAng="19875067"/>
                <a:lnTo>
                  <a:pt x="10800" y="10800"/>
                </a:lnTo>
                <a:close/>
              </a:path>
              <a:path fill="none" w="21600" h="21600">
                <a:moveTo>
                  <a:pt x="7214" y="20987"/>
                </a:moveTo>
                <a:arcTo wR="10800" hR="10800" stAng="6563447" swAng="19875067"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5789520" y="31082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5789520" y="31082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51a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51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929200" y="31352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5885640" y="4049640"/>
            <a:ext cx="1201680" cy="479160"/>
            <a:chOff x="5885640" y="4049640"/>
            <a:chExt cx="1201680" cy="479160"/>
          </a:xfrm>
        </p:grpSpPr>
        <p:grpSp>
          <p:nvGrpSpPr>
            <p:cNvPr id="724" name=""/>
            <p:cNvGrpSpPr/>
            <p:nvPr/>
          </p:nvGrpSpPr>
          <p:grpSpPr>
            <a:xfrm>
              <a:off x="6096240" y="4049640"/>
              <a:ext cx="991080" cy="453240"/>
              <a:chOff x="6096240" y="4049640"/>
              <a:chExt cx="991080" cy="453240"/>
            </a:xfrm>
          </p:grpSpPr>
          <p:sp>
            <p:nvSpPr>
              <p:cNvPr id="725" name=""/>
              <p:cNvSpPr/>
              <p:nvPr/>
            </p:nvSpPr>
            <p:spPr>
              <a:xfrm flipH="1" flipV="1" rot="3964800">
                <a:off x="6633720" y="3915720"/>
                <a:ext cx="17676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 rot="4780200">
                <a:off x="6522120" y="39607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 rot="5076000">
                <a:off x="6453720" y="39697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 rot="5608200">
                <a:off x="6371280" y="39776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5885640" y="4053240"/>
              <a:ext cx="988920" cy="475560"/>
              <a:chOff x="5885640" y="4053240"/>
              <a:chExt cx="988920" cy="475560"/>
            </a:xfrm>
          </p:grpSpPr>
          <p:sp>
            <p:nvSpPr>
              <p:cNvPr id="730" name=""/>
              <p:cNvSpPr/>
              <p:nvPr/>
            </p:nvSpPr>
            <p:spPr>
              <a:xfrm flipH="1" flipV="1" rot="5317800">
                <a:off x="6423480" y="3975840"/>
                <a:ext cx="17784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6133800">
                <a:off x="6303600" y="3974040"/>
                <a:ext cx="17784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 rot="6429000">
                <a:off x="6237720" y="3956760"/>
                <a:ext cx="17784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 rot="6961200">
                <a:off x="6158160" y="3931200"/>
                <a:ext cx="177840" cy="718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1920960" y="16444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1920960" y="1644480"/>
            <a:ext cx="1171440" cy="1171800"/>
          </a:xfrm>
          <a:prstGeom prst="ellipse">
            <a:avLst/>
          </a:prstGeom>
          <a:gradFill rotWithShape="0">
            <a:gsLst>
              <a:gs pos="0">
                <a:srgbClr val="3615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615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41560" y="166860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85560" y="202896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179760" y="36036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7240" y="21384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215120" y="35654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679480" y="2505240"/>
            <a:ext cx="1036440" cy="1048680"/>
            <a:chOff x="2679480" y="2505240"/>
            <a:chExt cx="1036440" cy="1048680"/>
          </a:xfrm>
        </p:grpSpPr>
        <p:sp>
          <p:nvSpPr>
            <p:cNvPr id="742" name=""/>
            <p:cNvSpPr/>
            <p:nvPr/>
          </p:nvSpPr>
          <p:spPr>
            <a:xfrm rot="19090200">
              <a:off x="2674800" y="2552400"/>
              <a:ext cx="160200" cy="4752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198c1"/>
                </a:gs>
                <a:gs pos="100000">
                  <a:srgbClr val="660066"/>
                </a:gs>
              </a:gsLst>
              <a:lin ang="133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8122200">
              <a:off x="3166200" y="2366640"/>
              <a:ext cx="87480" cy="1351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26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521600" y="3813840"/>
            <a:ext cx="1479240" cy="150120"/>
            <a:chOff x="4521600" y="3813840"/>
            <a:chExt cx="1479240" cy="150120"/>
          </a:xfrm>
        </p:grpSpPr>
        <p:sp>
          <p:nvSpPr>
            <p:cNvPr id="745" name=""/>
            <p:cNvSpPr/>
            <p:nvPr/>
          </p:nvSpPr>
          <p:spPr>
            <a:xfrm rot="5607000">
              <a:off x="5894640" y="386028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50000">
                  <a:srgbClr val="00ffff"/>
                </a:gs>
                <a:gs pos="100000">
                  <a:srgbClr val="003232"/>
                </a:gs>
              </a:gsLst>
              <a:lin ang="51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rot="16242000">
              <a:off x="5201640" y="3141360"/>
              <a:ext cx="100800" cy="14608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54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3352680" y="30430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3352680" y="30430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424200">
                  <a:alpha val="90196"/>
                </a:srgbClr>
              </a:gs>
              <a:gs pos="100000">
                <a:srgbClr val="ffff00">
                  <a:alpha val="4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522600" y="30765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467160" y="4184640"/>
            <a:ext cx="1455480" cy="580320"/>
            <a:chOff x="3467160" y="4184640"/>
            <a:chExt cx="1455480" cy="580320"/>
          </a:xfrm>
        </p:grpSpPr>
        <p:grpSp>
          <p:nvGrpSpPr>
            <p:cNvPr id="751" name=""/>
            <p:cNvGrpSpPr/>
            <p:nvPr/>
          </p:nvGrpSpPr>
          <p:grpSpPr>
            <a:xfrm>
              <a:off x="3722040" y="4184640"/>
              <a:ext cx="1200600" cy="549000"/>
              <a:chOff x="3722040" y="4184640"/>
              <a:chExt cx="1200600" cy="549000"/>
            </a:xfrm>
          </p:grpSpPr>
          <p:sp>
            <p:nvSpPr>
              <p:cNvPr id="752" name=""/>
              <p:cNvSpPr/>
              <p:nvPr/>
            </p:nvSpPr>
            <p:spPr>
              <a:xfrm flipH="1" flipV="1" rot="3964800">
                <a:off x="4373640" y="4023000"/>
                <a:ext cx="21384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flipV="1" rot="4780200">
                <a:off x="4238280" y="4077000"/>
                <a:ext cx="21384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 rot="5076000">
                <a:off x="4155840" y="4087440"/>
                <a:ext cx="21384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 rot="5608200">
                <a:off x="4056480" y="4097160"/>
                <a:ext cx="21384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467160" y="4190400"/>
              <a:ext cx="1198440" cy="574560"/>
              <a:chOff x="3467160" y="4190400"/>
              <a:chExt cx="1198440" cy="574560"/>
            </a:xfrm>
          </p:grpSpPr>
          <p:sp>
            <p:nvSpPr>
              <p:cNvPr id="757" name=""/>
              <p:cNvSpPr/>
              <p:nvPr/>
            </p:nvSpPr>
            <p:spPr>
              <a:xfrm flipH="1" flipV="1" rot="5317800">
                <a:off x="4119840" y="409572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 flipV="1" rot="6133800">
                <a:off x="3975120" y="4093920"/>
                <a:ext cx="21420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 rot="6429000">
                <a:off x="3893760" y="407268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flipV="1" rot="6961200">
                <a:off x="3798720" y="404172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1" name=""/>
          <p:cNvSpPr/>
          <p:nvPr/>
        </p:nvSpPr>
        <p:spPr>
          <a:xfrm>
            <a:off x="3848760" y="36338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2501280" y="4129920"/>
            <a:ext cx="1258560" cy="1019880"/>
            <a:chOff x="2501280" y="4129920"/>
            <a:chExt cx="1258560" cy="1019880"/>
          </a:xfrm>
        </p:grpSpPr>
        <p:sp>
          <p:nvSpPr>
            <p:cNvPr id="763" name=""/>
            <p:cNvSpPr/>
            <p:nvPr/>
          </p:nvSpPr>
          <p:spPr>
            <a:xfrm rot="3460800">
              <a:off x="3585600" y="4181400"/>
              <a:ext cx="174600" cy="954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5c198"/>
                </a:gs>
                <a:gs pos="100000">
                  <a:srgbClr val="996600"/>
                </a:gs>
              </a:gsLst>
              <a:lin ang="73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rot="13956000">
              <a:off x="3058920" y="393408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 flipH="1" rot="5910600">
            <a:off x="1591200" y="4469400"/>
            <a:ext cx="1677600" cy="17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20943"/>
                </a:moveTo>
                <a:arcTo wR="10800" hR="10800" stAng="6605145" swAng="19472499"/>
                <a:lnTo>
                  <a:pt x="10800" y="10800"/>
                </a:lnTo>
                <a:close/>
              </a:path>
              <a:path fill="none" w="21600" h="21600">
                <a:moveTo>
                  <a:pt x="7091" y="20943"/>
                </a:moveTo>
                <a:arcTo wR="10800" hR="10800" stAng="6605145" swAng="1947249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50626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724040" y="4643280"/>
            <a:ext cx="1432080" cy="141948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1724040" y="4643280"/>
            <a:ext cx="1422360" cy="1422720"/>
          </a:xfrm>
          <a:prstGeom prst="ellipse">
            <a:avLst/>
          </a:prstGeom>
          <a:gradFill rotWithShape="0">
            <a:gsLst>
              <a:gs pos="0">
                <a:srgbClr val="351a42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5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71640" y="46720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596cd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1824480" y="5631480"/>
            <a:ext cx="1258200" cy="502560"/>
            <a:chOff x="1824480" y="5631480"/>
            <a:chExt cx="1258200" cy="502560"/>
          </a:xfrm>
        </p:grpSpPr>
        <p:grpSp>
          <p:nvGrpSpPr>
            <p:cNvPr id="771" name=""/>
            <p:cNvGrpSpPr/>
            <p:nvPr/>
          </p:nvGrpSpPr>
          <p:grpSpPr>
            <a:xfrm>
              <a:off x="2045160" y="5631480"/>
              <a:ext cx="1037520" cy="474480"/>
              <a:chOff x="2045160" y="5631480"/>
              <a:chExt cx="1037520" cy="474480"/>
            </a:xfrm>
          </p:grpSpPr>
          <p:sp>
            <p:nvSpPr>
              <p:cNvPr id="772" name=""/>
              <p:cNvSpPr/>
              <p:nvPr/>
            </p:nvSpPr>
            <p:spPr>
              <a:xfrm flipH="1" flipV="1" rot="3964800">
                <a:off x="2608200" y="5491440"/>
                <a:ext cx="18468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 rot="4780200">
                <a:off x="2491560" y="5537880"/>
                <a:ext cx="18468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 rot="5076000">
                <a:off x="2419920" y="5547240"/>
                <a:ext cx="184680" cy="753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 flipV="1" rot="5608200">
                <a:off x="2334240" y="5554800"/>
                <a:ext cx="18468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1824480" y="5636520"/>
              <a:ext cx="1036080" cy="497520"/>
              <a:chOff x="1824480" y="5636520"/>
              <a:chExt cx="1036080" cy="497520"/>
            </a:xfrm>
          </p:grpSpPr>
          <p:sp>
            <p:nvSpPr>
              <p:cNvPr id="777" name=""/>
              <p:cNvSpPr/>
              <p:nvPr/>
            </p:nvSpPr>
            <p:spPr>
              <a:xfrm flipH="1" flipV="1" rot="5317800">
                <a:off x="2388240" y="555480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 flipV="1" rot="6133800">
                <a:off x="2263680" y="555228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 flipV="1" rot="6429000">
                <a:off x="2193480" y="553392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 flipV="1" rot="6961200">
                <a:off x="2111040" y="550764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"/>
          <p:cNvSpPr/>
          <p:nvPr/>
        </p:nvSpPr>
        <p:spPr>
          <a:xfrm>
            <a:off x="2107800" y="51786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003760" y="2457720"/>
            <a:ext cx="1036080" cy="414360"/>
            <a:chOff x="2003760" y="2457720"/>
            <a:chExt cx="1036080" cy="414360"/>
          </a:xfrm>
        </p:grpSpPr>
        <p:grpSp>
          <p:nvGrpSpPr>
            <p:cNvPr id="783" name=""/>
            <p:cNvGrpSpPr/>
            <p:nvPr/>
          </p:nvGrpSpPr>
          <p:grpSpPr>
            <a:xfrm>
              <a:off x="2184840" y="2457720"/>
              <a:ext cx="855000" cy="390600"/>
              <a:chOff x="2184840" y="2457720"/>
              <a:chExt cx="855000" cy="390600"/>
            </a:xfrm>
          </p:grpSpPr>
          <p:sp>
            <p:nvSpPr>
              <p:cNvPr id="784" name=""/>
              <p:cNvSpPr/>
              <p:nvPr/>
            </p:nvSpPr>
            <p:spPr>
              <a:xfrm flipH="1" flipV="1" rot="3964800">
                <a:off x="2649240" y="23421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 flipV="1" rot="4780200">
                <a:off x="2553120" y="23810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 flipV="1" rot="5076000">
                <a:off x="2494080" y="23878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 flipV="1" rot="5608200">
                <a:off x="2423160" y="23950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2003760" y="2462400"/>
              <a:ext cx="853200" cy="409680"/>
              <a:chOff x="2003760" y="2462400"/>
              <a:chExt cx="853200" cy="409680"/>
            </a:xfrm>
          </p:grpSpPr>
          <p:sp>
            <p:nvSpPr>
              <p:cNvPr id="789" name=""/>
              <p:cNvSpPr/>
              <p:nvPr/>
            </p:nvSpPr>
            <p:spPr>
              <a:xfrm flipH="1" flipV="1" rot="5317800">
                <a:off x="2468520" y="23950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 flipV="1" rot="6133800">
                <a:off x="2365200" y="239292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 flipV="1" rot="6429000">
                <a:off x="2307600" y="237816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 flipV="1" rot="6961200">
                <a:off x="2239200" y="235656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"/>
          <p:cNvSpPr/>
          <p:nvPr/>
        </p:nvSpPr>
        <p:spPr>
          <a:xfrm>
            <a:off x="3497400" y="53942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54482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ef965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34332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4596c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21932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42bb3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749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863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470720" y="30351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95560" y="2114640"/>
            <a:ext cx="693864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339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ef9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35396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257560" y="16272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480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ef9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2952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ef9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32424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5796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811" name=""/>
            <p:cNvGrpSpPr/>
            <p:nvPr/>
          </p:nvGrpSpPr>
          <p:grpSpPr>
            <a:xfrm>
              <a:off x="3990960" y="2143080"/>
              <a:ext cx="771840" cy="687240"/>
              <a:chOff x="3990960" y="2143080"/>
              <a:chExt cx="771840" cy="687240"/>
            </a:xfrm>
          </p:grpSpPr>
          <p:sp>
            <p:nvSpPr>
              <p:cNvPr id="812" name=""/>
              <p:cNvSpPr/>
              <p:nvPr/>
            </p:nvSpPr>
            <p:spPr>
              <a:xfrm>
                <a:off x="3990960" y="226116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90960" y="220392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90960" y="214308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4397400" y="1758960"/>
              <a:ext cx="2385720" cy="2094840"/>
              <a:chOff x="4397400" y="1758960"/>
              <a:chExt cx="2385720" cy="2094840"/>
            </a:xfrm>
          </p:grpSpPr>
          <p:sp>
            <p:nvSpPr>
              <p:cNvPr id="816" name=""/>
              <p:cNvSpPr/>
              <p:nvPr/>
            </p:nvSpPr>
            <p:spPr>
              <a:xfrm>
                <a:off x="4397400" y="21020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98480" y="191628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413600" y="17589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8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820" name="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034720" y="19098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83855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270792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06196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83040" y="204768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24800" y="208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45360" y="2047680"/>
              <a:ext cx="48240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5615280" y="3452760"/>
              <a:ext cx="771480" cy="689040"/>
              <a:chOff x="5615280" y="3452760"/>
              <a:chExt cx="771480" cy="689040"/>
            </a:xfrm>
          </p:grpSpPr>
          <p:sp>
            <p:nvSpPr>
              <p:cNvPr id="831" name=""/>
              <p:cNvSpPr/>
              <p:nvPr/>
            </p:nvSpPr>
            <p:spPr>
              <a:xfrm>
                <a:off x="561528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61528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61528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6b6b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835" name="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398480" y="391428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6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32400" y="4103640"/>
              <a:ext cx="48132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2457720" y="3500280"/>
              <a:ext cx="771480" cy="687240"/>
              <a:chOff x="2457720" y="3500280"/>
              <a:chExt cx="771480" cy="687240"/>
            </a:xfrm>
          </p:grpSpPr>
          <p:sp>
            <p:nvSpPr>
              <p:cNvPr id="842" name=""/>
              <p:cNvSpPr/>
              <p:nvPr/>
            </p:nvSpPr>
            <p:spPr>
              <a:xfrm>
                <a:off x="245772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45772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45772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2032200" y="3744720"/>
              <a:ext cx="2385720" cy="2080800"/>
              <a:chOff x="2032200" y="3744720"/>
              <a:chExt cx="2385720" cy="2080800"/>
            </a:xfrm>
          </p:grpSpPr>
          <p:sp>
            <p:nvSpPr>
              <p:cNvPr id="846" name=""/>
              <p:cNvSpPr/>
              <p:nvPr/>
            </p:nvSpPr>
            <p:spPr>
              <a:xfrm>
                <a:off x="2032200" y="407232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033280" y="390204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48400" y="374472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a4d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83040" y="410364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3990960" y="4852800"/>
              <a:ext cx="771840" cy="689040"/>
              <a:chOff x="3990960" y="4852800"/>
              <a:chExt cx="771840" cy="689040"/>
            </a:xfrm>
          </p:grpSpPr>
          <p:sp>
            <p:nvSpPr>
              <p:cNvPr id="853" name=""/>
              <p:cNvSpPr/>
              <p:nvPr/>
            </p:nvSpPr>
            <p:spPr>
              <a:xfrm>
                <a:off x="3990960" y="497124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990960" y="491364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990960" y="485280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6435720" y="200808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07360" y="40640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2880" y="413532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f965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57400" y="2019240"/>
            <a:ext cx="5114880" cy="457200"/>
            <a:chOff x="2057400" y="2019240"/>
            <a:chExt cx="5114880" cy="457200"/>
          </a:xfrm>
        </p:grpSpPr>
        <p:sp>
          <p:nvSpPr>
            <p:cNvPr id="97" name=""/>
            <p:cNvSpPr/>
            <p:nvPr/>
          </p:nvSpPr>
          <p:spPr>
            <a:xfrm>
              <a:off x="2057400" y="2124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a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286000" y="2019240"/>
              <a:ext cx="4886280" cy="457200"/>
              <a:chOff x="2286000" y="2019240"/>
              <a:chExt cx="4886280" cy="45720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2286000" y="2229840"/>
                <a:ext cx="345960" cy="8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23960" y="2019240"/>
                <a:ext cx="4648320" cy="4572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057400" y="2705040"/>
            <a:ext cx="5114880" cy="457200"/>
            <a:chOff x="2057400" y="2705040"/>
            <a:chExt cx="5114880" cy="457200"/>
          </a:xfrm>
        </p:grpSpPr>
        <p:sp>
          <p:nvSpPr>
            <p:cNvPr id="102" name=""/>
            <p:cNvSpPr/>
            <p:nvPr/>
          </p:nvSpPr>
          <p:spPr>
            <a:xfrm>
              <a:off x="2057400" y="28004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2922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286000" y="2705040"/>
              <a:ext cx="4886280" cy="457200"/>
              <a:chOff x="2286000" y="2705040"/>
              <a:chExt cx="4886280" cy="457200"/>
            </a:xfrm>
          </p:grpSpPr>
          <p:sp>
            <p:nvSpPr>
              <p:cNvPr id="104" name=""/>
              <p:cNvSpPr/>
              <p:nvPr/>
            </p:nvSpPr>
            <p:spPr>
              <a:xfrm flipV="1">
                <a:off x="2286000" y="2915640"/>
                <a:ext cx="345960" cy="8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23960" y="2705040"/>
                <a:ext cx="4648320" cy="4572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057400" y="3400560"/>
            <a:ext cx="5114880" cy="457200"/>
            <a:chOff x="2057400" y="3400560"/>
            <a:chExt cx="5114880" cy="457200"/>
          </a:xfrm>
        </p:grpSpPr>
        <p:sp>
          <p:nvSpPr>
            <p:cNvPr id="107" name=""/>
            <p:cNvSpPr/>
            <p:nvPr/>
          </p:nvSpPr>
          <p:spPr>
            <a:xfrm>
              <a:off x="2057400" y="3505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4596cd"/>
                </a:gs>
                <a:gs pos="100000">
                  <a:srgbClr val="2d6388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286000" y="3400560"/>
              <a:ext cx="4886280" cy="457200"/>
              <a:chOff x="2286000" y="3400560"/>
              <a:chExt cx="4886280" cy="4572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2286000" y="3611160"/>
                <a:ext cx="345960" cy="8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23960" y="3400560"/>
                <a:ext cx="4648320" cy="4572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4105440"/>
            <a:ext cx="5114880" cy="457200"/>
            <a:chOff x="2057400" y="4105440"/>
            <a:chExt cx="5114880" cy="457200"/>
          </a:xfrm>
        </p:grpSpPr>
        <p:sp>
          <p:nvSpPr>
            <p:cNvPr id="112" name=""/>
            <p:cNvSpPr/>
            <p:nvPr/>
          </p:nvSpPr>
          <p:spPr>
            <a:xfrm>
              <a:off x="2057400" y="42148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42bb39"/>
                </a:gs>
                <a:gs pos="100000">
                  <a:srgbClr val="2b7c2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286000" y="4105440"/>
              <a:ext cx="4886280" cy="457200"/>
              <a:chOff x="2286000" y="4105440"/>
              <a:chExt cx="4886280" cy="45720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2286000" y="4316040"/>
                <a:ext cx="345960" cy="8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523960" y="4105440"/>
                <a:ext cx="4648320" cy="4572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057400" y="4800600"/>
            <a:ext cx="5114880" cy="457200"/>
            <a:chOff x="2057400" y="4800600"/>
            <a:chExt cx="5114880" cy="457200"/>
          </a:xfrm>
        </p:grpSpPr>
        <p:sp>
          <p:nvSpPr>
            <p:cNvPr id="117" name=""/>
            <p:cNvSpPr/>
            <p:nvPr/>
          </p:nvSpPr>
          <p:spPr>
            <a:xfrm>
              <a:off x="2057400" y="49006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f965f"/>
                </a:gs>
                <a:gs pos="100000">
                  <a:srgbClr val="9e633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286000" y="4800600"/>
              <a:ext cx="4886280" cy="457200"/>
              <a:chOff x="2286000" y="4800600"/>
              <a:chExt cx="4886280" cy="45720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2286000" y="5011200"/>
                <a:ext cx="345960" cy="8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23960" y="4800600"/>
                <a:ext cx="4648320" cy="4572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3660120" y="20574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60120" y="27525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60120" y="34527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60120" y="4191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60120" y="4815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f965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5D52-3330-4978-94E8-CC730C7E26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2701440" y="5638320"/>
            <a:ext cx="298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 Add your company slogan 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1676520" y="4952880"/>
            <a:ext cx="457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42bb3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66"/>
                  </a:gs>
                  <a:gs pos="100000">
                    <a:srgbClr val="42bb3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4800" y="1568520"/>
            <a:ext cx="7788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2bb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2bb39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2bb39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2bb39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2bb39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507348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f965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38080" y="1676520"/>
            <a:ext cx="6400800" cy="990360"/>
            <a:chOff x="838080" y="1676520"/>
            <a:chExt cx="6400800" cy="990360"/>
          </a:xfrm>
        </p:grpSpPr>
        <p:sp>
          <p:nvSpPr>
            <p:cNvPr id="132" name=""/>
            <p:cNvSpPr/>
            <p:nvPr/>
          </p:nvSpPr>
          <p:spPr>
            <a:xfrm>
              <a:off x="914400" y="1676520"/>
              <a:ext cx="6324480" cy="99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f965f"/>
                </a:gs>
                <a:gs pos="100000">
                  <a:srgbClr val="f7d4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38080" y="2209320"/>
              <a:ext cx="6400800" cy="22824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38080" y="3124080"/>
            <a:ext cx="6400800" cy="990720"/>
            <a:chOff x="838080" y="3124080"/>
            <a:chExt cx="6400800" cy="990720"/>
          </a:xfrm>
        </p:grpSpPr>
        <p:sp>
          <p:nvSpPr>
            <p:cNvPr id="135" name=""/>
            <p:cNvSpPr/>
            <p:nvPr/>
          </p:nvSpPr>
          <p:spPr>
            <a:xfrm>
              <a:off x="914400" y="3124080"/>
              <a:ext cx="632448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bb39"/>
                </a:gs>
                <a:gs pos="100000">
                  <a:srgbClr val="b2e2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38080" y="3656520"/>
              <a:ext cx="6400800" cy="22860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38080" y="4572000"/>
            <a:ext cx="6400800" cy="990720"/>
            <a:chOff x="838080" y="4572000"/>
            <a:chExt cx="6400800" cy="990720"/>
          </a:xfrm>
        </p:grpSpPr>
        <p:sp>
          <p:nvSpPr>
            <p:cNvPr id="138" name=""/>
            <p:cNvSpPr/>
            <p:nvPr/>
          </p:nvSpPr>
          <p:spPr>
            <a:xfrm>
              <a:off x="914400" y="4572000"/>
              <a:ext cx="632448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596cd"/>
                </a:gs>
                <a:gs pos="100000">
                  <a:srgbClr val="b3d4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838080" y="5104440"/>
              <a:ext cx="6400800" cy="22860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066320" y="1752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ef96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320" y="3200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2b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32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518148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5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48112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38080" y="2209680"/>
            <a:ext cx="1838160" cy="3309840"/>
            <a:chOff x="838080" y="2209680"/>
            <a:chExt cx="1838160" cy="3309840"/>
          </a:xfrm>
        </p:grpSpPr>
        <p:sp>
          <p:nvSpPr>
            <p:cNvPr id="149" name=""/>
            <p:cNvSpPr/>
            <p:nvPr/>
          </p:nvSpPr>
          <p:spPr>
            <a:xfrm>
              <a:off x="8380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f965f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630600" y="2209680"/>
            <a:ext cx="1838160" cy="3309840"/>
            <a:chOff x="3630600" y="2209680"/>
            <a:chExt cx="1838160" cy="3309840"/>
          </a:xfrm>
        </p:grpSpPr>
        <p:sp>
          <p:nvSpPr>
            <p:cNvPr id="152" name=""/>
            <p:cNvSpPr/>
            <p:nvPr/>
          </p:nvSpPr>
          <p:spPr>
            <a:xfrm>
              <a:off x="36306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596c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36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467400" y="2209680"/>
            <a:ext cx="1838160" cy="3309840"/>
            <a:chOff x="6467400" y="2209680"/>
            <a:chExt cx="1838160" cy="3309840"/>
          </a:xfrm>
        </p:grpSpPr>
        <p:sp>
          <p:nvSpPr>
            <p:cNvPr id="155" name=""/>
            <p:cNvSpPr/>
            <p:nvPr/>
          </p:nvSpPr>
          <p:spPr>
            <a:xfrm>
              <a:off x="64674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2bb3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4372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914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971800" y="3733920"/>
            <a:ext cx="504000" cy="495720"/>
            <a:chOff x="2971800" y="3733920"/>
            <a:chExt cx="504000" cy="495720"/>
          </a:xfrm>
        </p:grpSpPr>
        <p:grpSp>
          <p:nvGrpSpPr>
            <p:cNvPr id="161" name=""/>
            <p:cNvGrpSpPr/>
            <p:nvPr/>
          </p:nvGrpSpPr>
          <p:grpSpPr>
            <a:xfrm>
              <a:off x="3173400" y="3733920"/>
              <a:ext cx="302400" cy="495720"/>
              <a:chOff x="3173400" y="3733920"/>
              <a:chExt cx="302400" cy="495720"/>
            </a:xfrm>
          </p:grpSpPr>
          <p:sp>
            <p:nvSpPr>
              <p:cNvPr id="162" name=""/>
              <p:cNvSpPr/>
              <p:nvPr/>
            </p:nvSpPr>
            <p:spPr>
              <a:xfrm>
                <a:off x="31734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742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750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742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734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971800" y="3733920"/>
              <a:ext cx="302400" cy="495720"/>
              <a:chOff x="2971800" y="3733920"/>
              <a:chExt cx="302400" cy="495720"/>
            </a:xfrm>
          </p:grpSpPr>
          <p:sp>
            <p:nvSpPr>
              <p:cNvPr id="168" name=""/>
              <p:cNvSpPr/>
              <p:nvPr/>
            </p:nvSpPr>
            <p:spPr>
              <a:xfrm>
                <a:off x="29718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726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734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726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718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5715000" y="3733920"/>
            <a:ext cx="504000" cy="495720"/>
            <a:chOff x="5715000" y="3733920"/>
            <a:chExt cx="504000" cy="495720"/>
          </a:xfrm>
        </p:grpSpPr>
        <p:grpSp>
          <p:nvGrpSpPr>
            <p:cNvPr id="174" name=""/>
            <p:cNvGrpSpPr/>
            <p:nvPr/>
          </p:nvGrpSpPr>
          <p:grpSpPr>
            <a:xfrm>
              <a:off x="5916600" y="3733920"/>
              <a:ext cx="302400" cy="495720"/>
              <a:chOff x="5916600" y="3733920"/>
              <a:chExt cx="302400" cy="495720"/>
            </a:xfrm>
          </p:grpSpPr>
          <p:sp>
            <p:nvSpPr>
              <p:cNvPr id="175" name=""/>
              <p:cNvSpPr/>
              <p:nvPr/>
            </p:nvSpPr>
            <p:spPr>
              <a:xfrm>
                <a:off x="59166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74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182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174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166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715000" y="3733920"/>
              <a:ext cx="302400" cy="495720"/>
              <a:chOff x="5715000" y="3733920"/>
              <a:chExt cx="302400" cy="495720"/>
            </a:xfrm>
          </p:grpSpPr>
          <p:sp>
            <p:nvSpPr>
              <p:cNvPr id="181" name=""/>
              <p:cNvSpPr/>
              <p:nvPr/>
            </p:nvSpPr>
            <p:spPr>
              <a:xfrm>
                <a:off x="57150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58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9166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158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150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990720" y="152388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600200"/>
            <a:ext cx="5499360" cy="4495680"/>
          </a:xfrm>
          <a:prstGeom prst="rightArrow">
            <a:avLst>
              <a:gd name="adj1" fmla="val 79306"/>
              <a:gd name="adj2" fmla="val 30298"/>
            </a:avLst>
          </a:prstGeom>
          <a:gradFill rotWithShape="0">
            <a:gsLst>
              <a:gs pos="0">
                <a:srgbClr val="42bb39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c83b3"/>
              </a:gs>
              <a:gs pos="100000">
                <a:srgbClr val="4596c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a546"/>
              </a:gs>
              <a:gs pos="100000">
                <a:srgbClr val="e8bd50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18353"/>
              </a:gs>
              <a:gs pos="100000">
                <a:srgbClr val="ef965f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5880" y="2176560"/>
            <a:ext cx="2285640" cy="3309840"/>
            <a:chOff x="6095880" y="2176560"/>
            <a:chExt cx="2285640" cy="3309840"/>
          </a:xfrm>
        </p:grpSpPr>
        <p:sp>
          <p:nvSpPr>
            <p:cNvPr id="193" name=""/>
            <p:cNvSpPr/>
            <p:nvPr/>
          </p:nvSpPr>
          <p:spPr>
            <a:xfrm>
              <a:off x="6095880" y="217656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596c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90560" y="221472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400800" y="309096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85800" y="2438280"/>
            <a:ext cx="547560" cy="513000"/>
            <a:chOff x="685800" y="2438280"/>
            <a:chExt cx="547560" cy="513000"/>
          </a:xfrm>
        </p:grpSpPr>
        <p:sp>
          <p:nvSpPr>
            <p:cNvPr id="197" name=""/>
            <p:cNvSpPr/>
            <p:nvPr/>
          </p:nvSpPr>
          <p:spPr>
            <a:xfrm>
              <a:off x="6858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10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9656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910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9656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910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9656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85800" y="3581280"/>
            <a:ext cx="547560" cy="513000"/>
            <a:chOff x="685800" y="3581280"/>
            <a:chExt cx="547560" cy="513000"/>
          </a:xfrm>
        </p:grpSpPr>
        <p:sp>
          <p:nvSpPr>
            <p:cNvPr id="207" name=""/>
            <p:cNvSpPr/>
            <p:nvPr/>
          </p:nvSpPr>
          <p:spPr>
            <a:xfrm>
              <a:off x="6858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10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9656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8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10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9656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910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656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5800" y="4724280"/>
            <a:ext cx="547560" cy="513000"/>
            <a:chOff x="685800" y="4724280"/>
            <a:chExt cx="547560" cy="513000"/>
          </a:xfrm>
        </p:grpSpPr>
        <p:sp>
          <p:nvSpPr>
            <p:cNvPr id="217" name=""/>
            <p:cNvSpPr/>
            <p:nvPr/>
          </p:nvSpPr>
          <p:spPr>
            <a:xfrm>
              <a:off x="6858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10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656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910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656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10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656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736720" y="1884960"/>
            <a:ext cx="3689640" cy="3697200"/>
            <a:chOff x="2736720" y="1884960"/>
            <a:chExt cx="3689640" cy="3697200"/>
          </a:xfrm>
        </p:grpSpPr>
        <p:sp>
          <p:nvSpPr>
            <p:cNvPr id="228" name=""/>
            <p:cNvSpPr/>
            <p:nvPr/>
          </p:nvSpPr>
          <p:spPr>
            <a:xfrm>
              <a:off x="2903400" y="2057400"/>
              <a:ext cx="333252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917080" y="2061360"/>
              <a:ext cx="3328560" cy="33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3579"/>
                </a:path>
              </a:pathLst>
            </a:custGeom>
            <a:solidFill>
              <a:srgbClr val="855ada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2908080" y="2058480"/>
              <a:ext cx="3342240" cy="333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5" y="2"/>
                  </a:moveTo>
                  <a:arcTo wR="10800" hR="10800" stAng="-5465392" swAng="547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5" y="2"/>
                  </a:moveTo>
                  <a:arcTo wR="10800" hR="10800" stAng="-5465392" swAng="5476597"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 rot="5400000">
              <a:off x="2904840" y="2072160"/>
              <a:ext cx="3335400" cy="332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13" y="2"/>
                  </a:moveTo>
                  <a:arcTo wR="10800" hR="10800" stAng="-5332190" swAng="5362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13" y="2"/>
                  </a:moveTo>
                  <a:arcTo wR="10800" hR="10800" stAng="-5332190" swAng="5362650"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0419000">
              <a:off x="2911680" y="2059200"/>
              <a:ext cx="3339720" cy="334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87" y="65"/>
                  </a:moveTo>
                  <a:arcTo wR="10800" hR="10800" stAng="-5021536" swAng="5476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87" y="65"/>
                  </a:moveTo>
                  <a:arcTo wR="10800" hR="10800" stAng="-5021536" swAng="5476435"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 rot="18976800">
              <a:off x="3287160" y="267516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 rot="2686800">
              <a:off x="4247640" y="2697480"/>
              <a:ext cx="167616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2760000">
              <a:off x="3161520" y="405612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 rot="19083600">
              <a:off x="4456440" y="403092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676680" y="2819880"/>
              <a:ext cx="1791000" cy="1841040"/>
              <a:chOff x="3676680" y="2819880"/>
              <a:chExt cx="1791000" cy="1841040"/>
            </a:xfrm>
          </p:grpSpPr>
          <p:pic>
            <p:nvPicPr>
              <p:cNvPr id="2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76680" y="2819880"/>
                <a:ext cx="179100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3676680" y="2819880"/>
                <a:ext cx="1779480" cy="1754640"/>
              </a:xfrm>
              <a:prstGeom prst="ellipse">
                <a:avLst/>
              </a:prstGeom>
              <a:gradFill rotWithShape="0">
                <a:gsLst>
                  <a:gs pos="0">
                    <a:srgbClr val="404040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040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61360" y="2855160"/>
                <a:ext cx="1397520" cy="608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3803040" y="4033800"/>
                <a:ext cx="1571760" cy="627120"/>
                <a:chOff x="3803040" y="4033800"/>
                <a:chExt cx="1571760" cy="62712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077360" y="4033800"/>
                  <a:ext cx="1297440" cy="590040"/>
                  <a:chOff x="4077360" y="4033800"/>
                  <a:chExt cx="1297440" cy="5900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H="1" flipV="1" rot="3964800">
                    <a:off x="4783680" y="385704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flipV="1" rot="4780200">
                    <a:off x="4638240" y="3915720"/>
                    <a:ext cx="227160" cy="9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5076000">
                    <a:off x="4548600" y="392760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5608200">
                    <a:off x="4440240" y="393732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803040" y="4042440"/>
                  <a:ext cx="1296000" cy="618480"/>
                  <a:chOff x="3803040" y="4042440"/>
                  <a:chExt cx="1296000" cy="6184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flipV="1" rot="5317800">
                    <a:off x="4510440" y="393804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flipV="1" rot="6133800">
                    <a:off x="4353120" y="393552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6429000">
                    <a:off x="4265640" y="391212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6961200">
                    <a:off x="4162680" y="388008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3" name="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96cd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96cd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45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42b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ef9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19640" y="346860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22800" y="23511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55920" y="4535640"/>
            <a:ext cx="116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22800" y="453564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2bb3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2bb3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596c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596c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965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f965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5032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12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872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4596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944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75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34844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76600" y="37623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42bb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376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07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618948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7552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ef96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42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6580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78240" y="1787400"/>
            <a:ext cx="2382840" cy="538200"/>
            <a:chOff x="3378240" y="1787400"/>
            <a:chExt cx="2382840" cy="538200"/>
          </a:xfrm>
        </p:grpSpPr>
        <p:sp>
          <p:nvSpPr>
            <p:cNvPr id="286" name=""/>
            <p:cNvSpPr/>
            <p:nvPr/>
          </p:nvSpPr>
          <p:spPr>
            <a:xfrm>
              <a:off x="337824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0668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2bb39">
                    <a:alpha val="90196"/>
                  </a:srgbClr>
                </a:gs>
                <a:gs pos="50000">
                  <a:srgbClr val="bee7bb"/>
                </a:gs>
                <a:gs pos="100000">
                  <a:srgbClr val="42bb3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84876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105600" y="1787400"/>
            <a:ext cx="2384280" cy="538200"/>
            <a:chOff x="6105600" y="1787400"/>
            <a:chExt cx="2384280" cy="538200"/>
          </a:xfrm>
        </p:grpSpPr>
        <p:sp>
          <p:nvSpPr>
            <p:cNvPr id="290" name=""/>
            <p:cNvSpPr/>
            <p:nvPr/>
          </p:nvSpPr>
          <p:spPr>
            <a:xfrm>
              <a:off x="61056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358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965f">
                    <a:alpha val="90196"/>
                  </a:srgbClr>
                </a:gs>
                <a:gs pos="50000">
                  <a:srgbClr val="f8dac8"/>
                </a:gs>
                <a:gs pos="100000">
                  <a:srgbClr val="ef965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5782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5800" y="1787400"/>
            <a:ext cx="2384280" cy="538200"/>
            <a:chOff x="685800" y="1787400"/>
            <a:chExt cx="2384280" cy="538200"/>
          </a:xfrm>
        </p:grpSpPr>
        <p:sp>
          <p:nvSpPr>
            <p:cNvPr id="294" name=""/>
            <p:cNvSpPr/>
            <p:nvPr/>
          </p:nvSpPr>
          <p:spPr>
            <a:xfrm>
              <a:off x="6858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3549"/>
                </a:gs>
                <a:gs pos="50000">
                  <a:srgbClr val="4596cd"/>
                </a:gs>
                <a:gs pos="100000">
                  <a:srgbClr val="183549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60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96cd">
                    <a:alpha val="90196"/>
                  </a:srgbClr>
                </a:gs>
                <a:gs pos="50000">
                  <a:srgbClr val="bfdaed"/>
                </a:gs>
                <a:gs pos="100000">
                  <a:srgbClr val="4596cd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15884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7156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596c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5384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2bb3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2816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f965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17:45:2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1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