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CC5E2-CAFB-481B-A242-989396A28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F4416-BB4D-45ED-9234-C0361A0D2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7B116-A4D6-4F0F-80E5-A3E8CCB69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040F5-F392-451B-9415-04437879E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02E0A-9E74-4211-A362-73FF5EBC3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0EA00-7FD2-442F-A904-BF1227AAA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1A1EA-699E-441A-A9D0-FD845C60E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DE09A-DA5E-4038-AB48-3E07A6D8D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439A6-67AE-4725-9183-B5F78B455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66E9C-2C37-46E6-B813-8695D33D1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8101C-8F93-44F9-B645-CF2DB027B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91C71-87C1-49D6-9BD5-1E7ADB53D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42005-C19E-49F7-8A66-0627129AA64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6591E-7300-4412-9687-C699BDB331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4449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PRESENTATION  NA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386320"/>
            <a:ext cx="64008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ompany Na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/>
          <p:nvPr/>
        </p:nvSpPr>
        <p:spPr>
          <a:xfrm>
            <a:off x="34920" y="645336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251720" y="189000"/>
            <a:ext cx="6886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"/>
              </a:rPr>
              <a:t>音乐与饮品娱乐休闲幻灯片打包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0" y="2743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2286000" y="1600200"/>
            <a:ext cx="640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974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262626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262626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974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/>
          <p:nvPr/>
        </p:nvSpPr>
        <p:spPr>
          <a:xfrm>
            <a:off x="755640" y="13431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7C969-4D13-4768-9EE4-366E1286D8A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20T16:02:00Z</dcterms:created>
  <dc:creator>幻灯片之家：www.eeppt.com</dc:creator>
  <dc:description>幻灯片之家：www.eeppt.com</dc:description>
  <cp:keywords>幻灯片之家：www.eeppt.com</cp:keywords>
  <dc:language>en-US</dc:language>
  <cp:lastModifiedBy/>
  <dcterms:modified xsi:type="dcterms:W3CDTF">2015-09-18T13:26:11Z</dcterms:modified>
  <cp:revision>1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