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4.jpeg" ContentType="image/jpeg"/>
  <Override PartName="/ppt/media/image7.png" ContentType="image/png"/>
  <Override PartName="/ppt/media/image11.wmf" ContentType="image/x-wmf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E79AA-52A3-406B-8B77-C1F4922085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1929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981A-BD6B-4516-BC0F-955D7514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A962-FAEB-4156-82CD-80990E94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39359-B573-4774-B7FE-019F4437BD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022A9-732C-4013-8AFD-083873DE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09DA0-4571-43EC-B578-62D0E9EF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5EE76-3BEF-41B5-990A-C63F5F2A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93049-D14B-4F24-8D1D-36E51E343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49A4C-2E0A-4AA7-9E57-6A08ABBD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5159520"/>
            <a:ext cx="6477120" cy="61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D8066-8309-4CA6-BD33-A13BC8B1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7DFF15-5938-4D85-B647-C6F8732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78E82-0CC9-4751-8062-9C64148C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576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792E7E-7A23-48D0-9142-EFD4C9B3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0C288-E13D-44AB-9ADD-E603AE24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0" y="1929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AF7CA-784D-4CB3-A552-27014D6E8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576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473433-DC49-4FB9-8559-3D9ED7C56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9168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83360" y="-3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9168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83360" y="192960"/>
            <a:ext cx="294408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430DC7-B0D4-45F3-B1E6-0C554A44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2296-0FBF-4096-BD64-9B910B29F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1B8C-D30B-411E-BD91-68435CAC5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15864-170F-4A1A-9CCE-7D68BBC73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159520"/>
            <a:ext cx="6477120" cy="610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56CF-ED95-4E30-8661-5D8555C64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86316-E035-4165-BDC8-1D6A7ECA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1929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88704-0BE6-4094-9EA4-E4330FF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-360"/>
            <a:ext cx="44622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192960"/>
            <a:ext cx="91440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0578-E09D-40A9-A436-F41471BD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41240" cy="6858000"/>
          </a:xfrm>
          <a:prstGeom prst="rect">
            <a:avLst/>
          </a:prstGeom>
          <a:gradFill rotWithShape="0">
            <a:gsLst>
              <a:gs pos="0">
                <a:srgbClr val="294657"/>
              </a:gs>
              <a:gs pos="100000">
                <a:srgbClr val="41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218960"/>
            <a:ext cx="7921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23400" y="6461280"/>
            <a:ext cx="213372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5320" y="6461280"/>
            <a:ext cx="60948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90FF-2272-45DB-A975-F042674239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743040" cy="10666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743040" cy="10699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09680"/>
            <a:ext cx="743040" cy="1069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066680"/>
            <a:ext cx="9144000" cy="76320"/>
          </a:xfrm>
          <a:prstGeom prst="rect">
            <a:avLst/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964040"/>
            <a:ext cx="9144000" cy="1893960"/>
          </a:xfrm>
          <a:prstGeom prst="rect">
            <a:avLst/>
          </a:prstGeom>
          <a:gradFill rotWithShape="0">
            <a:gsLst>
              <a:gs pos="0">
                <a:srgbClr val="294657"/>
              </a:gs>
              <a:gs pos="100000">
                <a:srgbClr val="416f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627F-7697-46BD-8744-C1387F7C0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5159520"/>
            <a:ext cx="647712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0" y="4952520"/>
            <a:ext cx="91440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0880"/>
            <a:ext cx="3052800" cy="4589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80880"/>
            <a:ext cx="3052800" cy="45943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1200" y="380880"/>
            <a:ext cx="3052800" cy="458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925040" y="6262560"/>
            <a:ext cx="10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/O/G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Click to edit the outline text format</a:t>
            </a: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image" Target="../media/image9.wmf"/><Relationship Id="rId5" Type="http://schemas.openxmlformats.org/officeDocument/2006/relationships/image" Target="../media/image8.png"/><Relationship Id="rId6" Type="http://schemas.openxmlformats.org/officeDocument/2006/relationships/image" Target="../media/image6.png"/><Relationship Id="rId7" Type="http://schemas.openxmlformats.org/officeDocument/2006/relationships/image" Target="../media/image9.wmf"/><Relationship Id="rId8" Type="http://schemas.openxmlformats.org/officeDocument/2006/relationships/image" Target="../media/image8.png"/><Relationship Id="rId9" Type="http://schemas.openxmlformats.org/officeDocument/2006/relationships/image" Target="../media/image6.png"/><Relationship Id="rId10" Type="http://schemas.openxmlformats.org/officeDocument/2006/relationships/image" Target="../media/image9.wmf"/><Relationship Id="rId11" Type="http://schemas.openxmlformats.org/officeDocument/2006/relationships/image" Target="../media/image8.png"/><Relationship Id="rId12" Type="http://schemas.openxmlformats.org/officeDocument/2006/relationships/image" Target="../media/image6.png"/><Relationship Id="rId13" Type="http://schemas.openxmlformats.org/officeDocument/2006/relationships/image" Target="../media/image9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11440"/>
            <a:ext cx="8153280" cy="101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医学研究血液分析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Your Company slogan in here</a:t>
            </a:r>
            <a:endParaRPr b="1" lang="en-US" sz="14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838080" y="3100320"/>
            <a:ext cx="4119840" cy="24512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4890960" y="3076560"/>
            <a:ext cx="4181760" cy="24861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843120" y="1789200"/>
            <a:ext cx="40384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870200" y="4694400"/>
            <a:ext cx="415800" cy="450720"/>
            <a:chOff x="1870200" y="4694400"/>
            <a:chExt cx="415800" cy="450720"/>
          </a:xfrm>
        </p:grpSpPr>
        <p:sp>
          <p:nvSpPr>
            <p:cNvPr id="498" name=""/>
            <p:cNvSpPr/>
            <p:nvPr/>
          </p:nvSpPr>
          <p:spPr>
            <a:xfrm>
              <a:off x="2035440" y="4694400"/>
              <a:ext cx="6804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933200" y="487296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14280" y="480276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961640" y="50968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982160" y="496476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017800" y="485280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085840" y="474840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5600" y="47556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165400" y="494172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164680" y="487116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2186280" y="477684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70200" y="47991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99720" y="484200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2101680" y="498060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66760" y="49827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211120" y="498996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219040" y="50166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945040" y="4680000"/>
            <a:ext cx="416160" cy="450720"/>
            <a:chOff x="5945040" y="4680000"/>
            <a:chExt cx="416160" cy="450720"/>
          </a:xfrm>
        </p:grpSpPr>
        <p:sp>
          <p:nvSpPr>
            <p:cNvPr id="516" name=""/>
            <p:cNvSpPr/>
            <p:nvPr/>
          </p:nvSpPr>
          <p:spPr>
            <a:xfrm>
              <a:off x="6110640" y="4680000"/>
              <a:ext cx="68400" cy="6480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08400" y="4858560"/>
              <a:ext cx="96480" cy="921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89480" y="4788360"/>
              <a:ext cx="72000" cy="6876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36480" y="508248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057000" y="4950360"/>
              <a:ext cx="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092640" y="4838400"/>
              <a:ext cx="107640" cy="32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flipV="1">
              <a:off x="6160680" y="4734000"/>
              <a:ext cx="42120" cy="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10800" y="4741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40600" y="4927320"/>
              <a:ext cx="57600" cy="5508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239880" y="4856760"/>
              <a:ext cx="17640" cy="8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261480" y="4762440"/>
              <a:ext cx="53280" cy="4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945040" y="47847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74560" y="4827600"/>
              <a:ext cx="42840" cy="43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176520" y="4966200"/>
              <a:ext cx="7812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141960" y="496836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285960" y="4975560"/>
              <a:ext cx="17640" cy="2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93880" y="5002200"/>
              <a:ext cx="50400" cy="48240"/>
            </a:xfrm>
            <a:prstGeom prst="ellipse">
              <a:avLst/>
            </a:prstGeom>
            <a:solidFill>
              <a:srgbClr val="ffffff">
                <a:alpha val="6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2646360" y="4555080"/>
            <a:ext cx="235800" cy="574560"/>
            <a:chOff x="2646360" y="4555080"/>
            <a:chExt cx="235800" cy="574560"/>
          </a:xfrm>
        </p:grpSpPr>
        <p:sp>
          <p:nvSpPr>
            <p:cNvPr id="534" name=""/>
            <p:cNvSpPr/>
            <p:nvPr/>
          </p:nvSpPr>
          <p:spPr>
            <a:xfrm rot="21490800">
              <a:off x="2652120" y="4842000"/>
              <a:ext cx="225360" cy="28368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1490800">
              <a:off x="2646720" y="4989600"/>
              <a:ext cx="231120" cy="295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1490800">
              <a:off x="2700720" y="4691880"/>
              <a:ext cx="107280" cy="31500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2698200" y="476316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699640" y="480276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2700720" y="483840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2701800" y="487656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2702880" y="4910760"/>
              <a:ext cx="493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2705400" y="49255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2705400" y="493380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705760" y="49453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2703960" y="48841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2704320" y="489276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2704680" y="4903920"/>
              <a:ext cx="262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2702880" y="484632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2702880" y="485460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703240" y="48661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2701800" y="4812120"/>
              <a:ext cx="2592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2701800" y="482076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702160" y="48319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2700360" y="47725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2700720" y="478080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2701080" y="4792320"/>
              <a:ext cx="262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36000" y="4555080"/>
              <a:ext cx="5760" cy="1371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2728440" y="4699080"/>
              <a:ext cx="2988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726240" y="4597920"/>
            <a:ext cx="219240" cy="538920"/>
            <a:chOff x="6726240" y="4597920"/>
            <a:chExt cx="219240" cy="538920"/>
          </a:xfrm>
        </p:grpSpPr>
        <p:sp>
          <p:nvSpPr>
            <p:cNvPr id="560" name=""/>
            <p:cNvSpPr/>
            <p:nvPr/>
          </p:nvSpPr>
          <p:spPr>
            <a:xfrm rot="21490800">
              <a:off x="6731280" y="4867200"/>
              <a:ext cx="209880" cy="266040"/>
            </a:xfrm>
            <a:custGeom>
              <a:avLst/>
              <a:gdLst/>
              <a:ahLst/>
              <a:rect l="l" t="t" r="r" b="b"/>
              <a:pathLst>
                <a:path w="768" h="1200">
                  <a:moveTo>
                    <a:pt x="204" y="12"/>
                  </a:moveTo>
                  <a:lnTo>
                    <a:pt x="202" y="1084"/>
                  </a:lnTo>
                  <a:cubicBezTo>
                    <a:pt x="63" y="1127"/>
                    <a:pt x="13" y="1113"/>
                    <a:pt x="0" y="1182"/>
                  </a:cubicBezTo>
                  <a:cubicBezTo>
                    <a:pt x="0" y="1182"/>
                    <a:pt x="198" y="1194"/>
                    <a:pt x="372" y="1194"/>
                  </a:cubicBezTo>
                  <a:cubicBezTo>
                    <a:pt x="576" y="1182"/>
                    <a:pt x="768" y="1200"/>
                    <a:pt x="750" y="1146"/>
                  </a:cubicBezTo>
                  <a:cubicBezTo>
                    <a:pt x="732" y="1092"/>
                    <a:pt x="624" y="1080"/>
                    <a:pt x="517" y="1067"/>
                  </a:cubicBezTo>
                  <a:lnTo>
                    <a:pt x="504" y="0"/>
                  </a:lnTo>
                  <a:lnTo>
                    <a:pt x="204" y="12"/>
                  </a:lnTo>
                  <a:close/>
                </a:path>
              </a:pathLst>
            </a:custGeom>
            <a:solidFill>
              <a:srgbClr val="ffffff">
                <a:alpha val="60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1490800">
              <a:off x="6726600" y="5005800"/>
              <a:ext cx="214920" cy="27720"/>
            </a:xfrm>
            <a:custGeom>
              <a:avLst/>
              <a:gdLst/>
              <a:ahLst/>
              <a:rect l="l" t="t" r="r" b="b"/>
              <a:pathLst>
                <a:path w="787" h="114">
                  <a:moveTo>
                    <a:pt x="262" y="24"/>
                  </a:moveTo>
                  <a:cubicBezTo>
                    <a:pt x="262" y="24"/>
                    <a:pt x="0" y="45"/>
                    <a:pt x="28" y="60"/>
                  </a:cubicBezTo>
                  <a:cubicBezTo>
                    <a:pt x="56" y="75"/>
                    <a:pt x="46" y="114"/>
                    <a:pt x="430" y="114"/>
                  </a:cubicBezTo>
                  <a:cubicBezTo>
                    <a:pt x="555" y="109"/>
                    <a:pt x="769" y="49"/>
                    <a:pt x="778" y="30"/>
                  </a:cubicBezTo>
                  <a:cubicBezTo>
                    <a:pt x="787" y="11"/>
                    <a:pt x="570" y="1"/>
                    <a:pt x="484" y="0"/>
                  </a:cubicBezTo>
                  <a:lnTo>
                    <a:pt x="262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1490800">
              <a:off x="6776640" y="4726440"/>
              <a:ext cx="99720" cy="295560"/>
            </a:xfrm>
            <a:custGeom>
              <a:avLst/>
              <a:gdLst/>
              <a:ahLst/>
              <a:rect l="l" t="t" r="r" b="b"/>
              <a:pathLst>
                <a:path w="366" h="1332">
                  <a:moveTo>
                    <a:pt x="102" y="0"/>
                  </a:moveTo>
                  <a:lnTo>
                    <a:pt x="102" y="102"/>
                  </a:lnTo>
                  <a:lnTo>
                    <a:pt x="0" y="204"/>
                  </a:lnTo>
                  <a:lnTo>
                    <a:pt x="0" y="1296"/>
                  </a:lnTo>
                  <a:cubicBezTo>
                    <a:pt x="90" y="1332"/>
                    <a:pt x="113" y="1321"/>
                    <a:pt x="174" y="1320"/>
                  </a:cubicBezTo>
                  <a:cubicBezTo>
                    <a:pt x="235" y="1319"/>
                    <a:pt x="324" y="1320"/>
                    <a:pt x="366" y="1290"/>
                  </a:cubicBezTo>
                  <a:lnTo>
                    <a:pt x="336" y="192"/>
                  </a:lnTo>
                  <a:lnTo>
                    <a:pt x="222" y="102"/>
                  </a:lnTo>
                  <a:lnTo>
                    <a:pt x="216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6774480" y="47934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6775560" y="483084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776640" y="486396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777720" y="489996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778800" y="4932000"/>
              <a:ext cx="45720" cy="14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780600" y="49456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780960" y="49536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781320" y="496440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779520" y="490716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779520" y="49150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6779880" y="49258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6778080" y="48711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778440" y="48790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778800" y="4889880"/>
              <a:ext cx="24480" cy="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77360" y="483912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6777360" y="48470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6777720" y="485784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6775920" y="480168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6776280" y="480996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6776640" y="4820400"/>
              <a:ext cx="244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809040" y="4597920"/>
              <a:ext cx="5760" cy="128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6801840" y="4733280"/>
              <a:ext cx="27720" cy="7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3757320" y="4660920"/>
            <a:ext cx="611280" cy="485280"/>
            <a:chOff x="3757320" y="4660920"/>
            <a:chExt cx="611280" cy="485280"/>
          </a:xfrm>
        </p:grpSpPr>
        <p:sp>
          <p:nvSpPr>
            <p:cNvPr id="586" name=""/>
            <p:cNvSpPr/>
            <p:nvPr/>
          </p:nvSpPr>
          <p:spPr>
            <a:xfrm flipH="1">
              <a:off x="3756960" y="4759560"/>
              <a:ext cx="307800" cy="38664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3869280" y="4660920"/>
              <a:ext cx="82080" cy="1015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74480" y="4766760"/>
              <a:ext cx="294120" cy="3708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83920" y="4673520"/>
              <a:ext cx="77760" cy="95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7841880" y="4657680"/>
            <a:ext cx="622440" cy="477360"/>
            <a:chOff x="7841880" y="4657680"/>
            <a:chExt cx="622440" cy="477360"/>
          </a:xfrm>
        </p:grpSpPr>
        <p:sp>
          <p:nvSpPr>
            <p:cNvPr id="591" name=""/>
            <p:cNvSpPr/>
            <p:nvPr/>
          </p:nvSpPr>
          <p:spPr>
            <a:xfrm flipH="1">
              <a:off x="7841520" y="4754880"/>
              <a:ext cx="313560" cy="38016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7956000" y="4657680"/>
              <a:ext cx="83520" cy="100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164800" y="4761720"/>
              <a:ext cx="299520" cy="36468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8276400" y="4669920"/>
              <a:ext cx="78840" cy="9432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184920" y="4560840"/>
            <a:ext cx="437760" cy="577080"/>
            <a:chOff x="3184920" y="4560840"/>
            <a:chExt cx="437760" cy="577080"/>
          </a:xfrm>
        </p:grpSpPr>
        <p:grpSp>
          <p:nvGrpSpPr>
            <p:cNvPr id="596" name=""/>
            <p:cNvGrpSpPr/>
            <p:nvPr/>
          </p:nvGrpSpPr>
          <p:grpSpPr>
            <a:xfrm>
              <a:off x="3342240" y="4560840"/>
              <a:ext cx="130680" cy="471240"/>
              <a:chOff x="3342240" y="4560840"/>
              <a:chExt cx="130680" cy="471240"/>
            </a:xfrm>
          </p:grpSpPr>
          <p:sp>
            <p:nvSpPr>
              <p:cNvPr id="597" name=""/>
              <p:cNvSpPr/>
              <p:nvPr/>
            </p:nvSpPr>
            <p:spPr>
              <a:xfrm flipH="1">
                <a:off x="3383280" y="456084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3434760" y="469152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341880" y="468972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3378240" y="469116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345120" y="461880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492000" y="4650840"/>
              <a:ext cx="130680" cy="471240"/>
              <a:chOff x="3492000" y="4650840"/>
              <a:chExt cx="130680" cy="471240"/>
            </a:xfrm>
          </p:grpSpPr>
          <p:sp>
            <p:nvSpPr>
              <p:cNvPr id="603" name=""/>
              <p:cNvSpPr/>
              <p:nvPr/>
            </p:nvSpPr>
            <p:spPr>
              <a:xfrm flipH="1">
                <a:off x="3533040" y="465084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3584520" y="478152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491640" y="477972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528000" y="478116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494880" y="470880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3184920" y="4666680"/>
              <a:ext cx="130680" cy="471240"/>
              <a:chOff x="3184920" y="4666680"/>
              <a:chExt cx="130680" cy="471240"/>
            </a:xfrm>
          </p:grpSpPr>
          <p:sp>
            <p:nvSpPr>
              <p:cNvPr id="609" name=""/>
              <p:cNvSpPr/>
              <p:nvPr/>
            </p:nvSpPr>
            <p:spPr>
              <a:xfrm flipH="1">
                <a:off x="3225960" y="46666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277440" y="479772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184560" y="479556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220920" y="479700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187800" y="472464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7231320" y="4560840"/>
            <a:ext cx="437760" cy="577080"/>
            <a:chOff x="7231320" y="4560840"/>
            <a:chExt cx="437760" cy="577080"/>
          </a:xfrm>
        </p:grpSpPr>
        <p:grpSp>
          <p:nvGrpSpPr>
            <p:cNvPr id="615" name=""/>
            <p:cNvGrpSpPr/>
            <p:nvPr/>
          </p:nvGrpSpPr>
          <p:grpSpPr>
            <a:xfrm>
              <a:off x="7388640" y="4560840"/>
              <a:ext cx="130680" cy="471240"/>
              <a:chOff x="7388640" y="4560840"/>
              <a:chExt cx="130680" cy="471240"/>
            </a:xfrm>
          </p:grpSpPr>
          <p:sp>
            <p:nvSpPr>
              <p:cNvPr id="616" name=""/>
              <p:cNvSpPr/>
              <p:nvPr/>
            </p:nvSpPr>
            <p:spPr>
              <a:xfrm flipH="1">
                <a:off x="7429680" y="456084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7481160" y="469152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7388280" y="468972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7424640" y="469116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7391520" y="461880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7538400" y="4650840"/>
              <a:ext cx="130680" cy="471240"/>
              <a:chOff x="7538400" y="4650840"/>
              <a:chExt cx="130680" cy="471240"/>
            </a:xfrm>
          </p:grpSpPr>
          <p:sp>
            <p:nvSpPr>
              <p:cNvPr id="622" name=""/>
              <p:cNvSpPr/>
              <p:nvPr/>
            </p:nvSpPr>
            <p:spPr>
              <a:xfrm flipH="1">
                <a:off x="7579440" y="465084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7630920" y="4781520"/>
                <a:ext cx="37800" cy="33984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7538040" y="4779720"/>
                <a:ext cx="36360" cy="33984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7574400" y="478116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7541280" y="470880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7231320" y="4666680"/>
              <a:ext cx="130680" cy="471240"/>
              <a:chOff x="7231320" y="4666680"/>
              <a:chExt cx="130680" cy="471240"/>
            </a:xfrm>
          </p:grpSpPr>
          <p:sp>
            <p:nvSpPr>
              <p:cNvPr id="628" name=""/>
              <p:cNvSpPr/>
              <p:nvPr/>
            </p:nvSpPr>
            <p:spPr>
              <a:xfrm flipH="1">
                <a:off x="7272360" y="4666680"/>
                <a:ext cx="42840" cy="65160"/>
              </a:xfrm>
              <a:custGeom>
                <a:avLst/>
                <a:gdLst/>
                <a:ahLst/>
                <a:rect l="l" t="t" r="r" b="b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7323840" y="4797720"/>
                <a:ext cx="37800" cy="340200"/>
              </a:xfrm>
              <a:custGeom>
                <a:avLst/>
                <a:gdLst/>
                <a:ahLst/>
                <a:rect l="l" t="t" r="r" b="b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7230960" y="4795560"/>
                <a:ext cx="36360" cy="340200"/>
              </a:xfrm>
              <a:custGeom>
                <a:avLst/>
                <a:gdLst/>
                <a:ahLst/>
                <a:rect l="l" t="t" r="r" b="b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7267320" y="4797000"/>
                <a:ext cx="60120" cy="340920"/>
              </a:xfrm>
              <a:custGeom>
                <a:avLst/>
                <a:gdLst/>
                <a:ahLst/>
                <a:rect l="l" t="t" r="r" b="b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solidFill>
                <a:srgbClr val="ffffff">
                  <a:alpha val="90000"/>
                </a:srgbClr>
              </a:solidFill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234200" y="4724640"/>
                <a:ext cx="124560" cy="89640"/>
              </a:xfrm>
              <a:custGeom>
                <a:avLst/>
                <a:gdLst/>
                <a:ahLst/>
                <a:rect l="l" t="t" r="r" b="b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88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3" name=""/>
          <p:cNvSpPr/>
          <p:nvPr/>
        </p:nvSpPr>
        <p:spPr>
          <a:xfrm>
            <a:off x="4890960" y="1789200"/>
            <a:ext cx="4038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16f8b"/>
                </a:solidFill>
                <a:latin typeface="Arial"/>
              </a:rPr>
              <a:t>2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company’s sub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8"/>
          <p:cNvSpPr/>
          <p:nvPr/>
        </p:nvSpPr>
        <p:spPr>
          <a:xfrm>
            <a:off x="3505320" y="5715000"/>
            <a:ext cx="289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46b0"/>
                </a:solidFill>
                <a:uFillTx/>
                <a:latin typeface="Calibri"/>
                <a:ea typeface="Arial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490760" y="454356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5214960" y="454356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2085840" y="250812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584440" y="3394080"/>
            <a:ext cx="6602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242040" y="265284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605560" y="359892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0724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84216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135920" y="359892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779560" y="339408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solidFill>
            <a:srgbClr val="0808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630440" y="509580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5410080" y="5094360"/>
            <a:ext cx="242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>
            <a:off x="1937520" y="202572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34259" y="9257"/>
                </a:lnTo>
                <a:lnTo>
                  <a:pt x="34259" y="44357"/>
                </a:lnTo>
                <a:lnTo>
                  <a:pt x="23881" y="75471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9"/>
          <p:cNvSpPr/>
          <p:nvPr/>
        </p:nvSpPr>
        <p:spPr>
          <a:xfrm>
            <a:off x="2994120" y="1981080"/>
            <a:ext cx="154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6043680" y="200196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35079" y="9312"/>
                </a:lnTo>
                <a:lnTo>
                  <a:pt x="35079" y="46821"/>
                </a:lnTo>
                <a:lnTo>
                  <a:pt x="24029" y="80191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9"/>
          <p:cNvSpPr/>
          <p:nvPr/>
        </p:nvSpPr>
        <p:spPr>
          <a:xfrm>
            <a:off x="7118280" y="19810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8"/>
          <p:cNvSpPr/>
          <p:nvPr/>
        </p:nvSpPr>
        <p:spPr>
          <a:xfrm>
            <a:off x="3736800" y="3067200"/>
            <a:ext cx="18320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be46b0"/>
                </a:solidFill>
                <a:uFillTx/>
                <a:latin typeface="Calibri"/>
                <a:ea typeface="Arial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 flipV="1">
            <a:off x="2573280" y="4013280"/>
            <a:ext cx="22827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02359"/>
              </a:gs>
              <a:gs pos="100000">
                <a:srgbClr val="be46b0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97520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57409"/>
              </a:gs>
              <a:gs pos="100000">
                <a:srgbClr val="c85f07"/>
              </a:gs>
            </a:gsLst>
            <a:lin ang="81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573280" y="2398680"/>
            <a:ext cx="2284560" cy="15750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95706"/>
              </a:gs>
              <a:gs pos="100000">
                <a:srgbClr val="f57409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3776760" y="2397240"/>
            <a:ext cx="2284200" cy="1573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34505"/>
              </a:gs>
              <a:gs pos="100000">
                <a:srgbClr val="f57409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772080" y="4010040"/>
            <a:ext cx="228420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f3585"/>
              </a:gs>
              <a:gs pos="100000">
                <a:srgbClr val="be46b0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4971960" y="4013280"/>
            <a:ext cx="2282760" cy="1574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be46b0"/>
              </a:gs>
              <a:gs pos="100000">
                <a:srgbClr val="8a327f"/>
              </a:gs>
            </a:gsLst>
            <a:lin ang="13500000"/>
          </a:gradFill>
          <a:ln w="2844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295880" y="248760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100320" y="424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457960" y="424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95880" y="483084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343160" y="278136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81680" y="279864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324080" y="461628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829560" y="46339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676520"/>
            <a:ext cx="30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699000" y="5683320"/>
            <a:ext cx="24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Descrip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Arial"/>
              </a:rPr>
              <a:t>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100320" y="307188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457960" y="3071880"/>
            <a:ext cx="123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4067280" y="3429000"/>
            <a:ext cx="1652400" cy="1108080"/>
            <a:chOff x="4067280" y="3429000"/>
            <a:chExt cx="1652400" cy="1108080"/>
          </a:xfrm>
        </p:grpSpPr>
        <p:sp>
          <p:nvSpPr>
            <p:cNvPr id="672" name=""/>
            <p:cNvSpPr/>
            <p:nvPr/>
          </p:nvSpPr>
          <p:spPr>
            <a:xfrm>
              <a:off x="4067280" y="3429000"/>
              <a:ext cx="1652400" cy="1108080"/>
            </a:xfrm>
            <a:prstGeom prst="hexagon">
              <a:avLst>
                <a:gd name="adj" fmla="val 37281"/>
                <a:gd name="vf" fmla="val 115470"/>
              </a:avLst>
            </a:prstGeom>
            <a:solidFill>
              <a:srgbClr val="f8f8f8">
                <a:alpha val="50000"/>
              </a:srgbClr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10840" y="3456000"/>
              <a:ext cx="1553760" cy="1042200"/>
            </a:xfrm>
            <a:prstGeom prst="hexagon">
              <a:avLst>
                <a:gd name="adj" fmla="val 37271"/>
                <a:gd name="vf" fmla="val 115470"/>
              </a:avLst>
            </a:prstGeom>
            <a:solidFill>
              <a:srgbClr val="f8f8f8"/>
            </a:soli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4267080" y="3597120"/>
            <a:ext cx="12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" descr=""/>
          <p:cNvPicPr/>
          <p:nvPr/>
        </p:nvPicPr>
        <p:blipFill>
          <a:blip r:embed="rId2"/>
          <a:srcRect l="0" t="0" r="0" b="30691"/>
          <a:stretch/>
        </p:blipFill>
        <p:spPr>
          <a:xfrm>
            <a:off x="2133720" y="1523880"/>
            <a:ext cx="1644480" cy="2743200"/>
          </a:xfrm>
          <a:prstGeom prst="rect">
            <a:avLst/>
          </a:prstGeom>
          <a:ln w="0">
            <a:noFill/>
          </a:ln>
        </p:spPr>
      </p:pic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1143000" y="4197240"/>
            <a:ext cx="7620120" cy="1669680"/>
            <a:chOff x="1143000" y="4197240"/>
            <a:chExt cx="7620120" cy="1669680"/>
          </a:xfrm>
        </p:grpSpPr>
        <p:sp>
          <p:nvSpPr>
            <p:cNvPr id="679" name=""/>
            <p:cNvSpPr/>
            <p:nvPr/>
          </p:nvSpPr>
          <p:spPr>
            <a:xfrm>
              <a:off x="1143000" y="4197240"/>
              <a:ext cx="7620120" cy="1669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deded"/>
                </a:gs>
                <a:gs pos="50000">
                  <a:srgbClr val="dddddd"/>
                </a:gs>
                <a:gs pos="100000">
                  <a:srgbClr val="ededed"/>
                </a:gs>
              </a:gsLst>
              <a:lin ang="5400000"/>
            </a:gradFill>
            <a:ln w="12600">
              <a:solidFill>
                <a:srgbClr val="dddddd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170720" y="4230360"/>
              <a:ext cx="7567560" cy="1596240"/>
            </a:xfrm>
            <a:prstGeom prst="roundRect">
              <a:avLst>
                <a:gd name="adj" fmla="val 1481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bebeb"/>
                </a:gs>
                <a:gs pos="100000">
                  <a:srgbClr val="dddddd"/>
                </a:gs>
              </a:gsLst>
              <a:lin ang="5400000"/>
            </a:gradFill>
            <a:ln w="19080">
              <a:solidFill>
                <a:srgbClr val="dddddd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403280" y="3859200"/>
            <a:ext cx="1733760" cy="703440"/>
            <a:chOff x="1403280" y="3859200"/>
            <a:chExt cx="1733760" cy="703440"/>
          </a:xfrm>
        </p:grpSpPr>
        <p:sp>
          <p:nvSpPr>
            <p:cNvPr id="682" name=""/>
            <p:cNvSpPr/>
            <p:nvPr/>
          </p:nvSpPr>
          <p:spPr>
            <a:xfrm>
              <a:off x="1403280" y="3859200"/>
              <a:ext cx="1733760" cy="70344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aeff2"/>
                </a:gs>
                <a:gs pos="50000">
                  <a:srgbClr val="416f8b"/>
                </a:gs>
                <a:gs pos="100000">
                  <a:srgbClr val="eaeff2"/>
                </a:gs>
              </a:gsLst>
              <a:lin ang="10800000"/>
            </a:gradFill>
            <a:ln w="12600">
              <a:solidFill>
                <a:srgbClr val="416f8b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33160" y="3877920"/>
              <a:ext cx="1685880" cy="6678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667800"/>
                <a:gd name="textAreaBottom" fmla="*/ 66780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9db4c3"/>
                </a:gs>
                <a:gs pos="50000">
                  <a:srgbClr val="416f8b"/>
                </a:gs>
                <a:gs pos="100000">
                  <a:srgbClr val="9db4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1517760" y="397980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3157560" y="3859200"/>
            <a:ext cx="1733400" cy="703440"/>
            <a:chOff x="3157560" y="3859200"/>
            <a:chExt cx="1733400" cy="703440"/>
          </a:xfrm>
        </p:grpSpPr>
        <p:sp>
          <p:nvSpPr>
            <p:cNvPr id="686" name=""/>
            <p:cNvSpPr/>
            <p:nvPr/>
          </p:nvSpPr>
          <p:spPr>
            <a:xfrm>
              <a:off x="3157560" y="3859200"/>
              <a:ext cx="1733400" cy="7034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7ebf5"/>
                </a:gs>
                <a:gs pos="50000">
                  <a:srgbClr val="be46b0"/>
                </a:gs>
                <a:gs pos="100000">
                  <a:srgbClr val="f7ebf5"/>
                </a:gs>
              </a:gsLst>
              <a:lin ang="10800000"/>
            </a:gradFill>
            <a:ln w="12600">
              <a:solidFill>
                <a:srgbClr val="be46b0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187440" y="3877920"/>
              <a:ext cx="1685520" cy="66780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667800"/>
                <a:gd name="textAreaBottom" fmla="*/ 66780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ca0d5"/>
                </a:gs>
                <a:gs pos="50000">
                  <a:srgbClr val="be46b0"/>
                </a:gs>
                <a:gs pos="100000">
                  <a:srgbClr val="dca0d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919760" y="3859200"/>
            <a:ext cx="1733400" cy="703440"/>
            <a:chOff x="4919760" y="3859200"/>
            <a:chExt cx="1733400" cy="703440"/>
          </a:xfrm>
        </p:grpSpPr>
        <p:sp>
          <p:nvSpPr>
            <p:cNvPr id="689" name=""/>
            <p:cNvSpPr/>
            <p:nvPr/>
          </p:nvSpPr>
          <p:spPr>
            <a:xfrm>
              <a:off x="4919760" y="3859200"/>
              <a:ext cx="1733400" cy="703440"/>
            </a:xfrm>
            <a:custGeom>
              <a:avLst/>
              <a:gdLst>
                <a:gd name="textAreaLeft" fmla="*/ 0 w 1733400"/>
                <a:gd name="textAreaRight" fmla="*/ 1733760 w 17334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e4f0fb"/>
                </a:gs>
                <a:gs pos="50000">
                  <a:srgbClr val="057ae5"/>
                </a:gs>
                <a:gs pos="100000">
                  <a:srgbClr val="e4f0fb"/>
                </a:gs>
              </a:gsLst>
              <a:lin ang="10800000"/>
            </a:gradFill>
            <a:ln w="12600">
              <a:solidFill>
                <a:srgbClr val="057ae5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49640" y="3877920"/>
              <a:ext cx="1685520" cy="667800"/>
            </a:xfrm>
            <a:custGeom>
              <a:avLst/>
              <a:gdLst>
                <a:gd name="textAreaLeft" fmla="*/ 0 w 1685520"/>
                <a:gd name="textAreaRight" fmla="*/ 1685880 w 1685520"/>
                <a:gd name="textAreaTop" fmla="*/ 0 h 667800"/>
                <a:gd name="textAreaBottom" fmla="*/ 66780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fbaf0"/>
                </a:gs>
                <a:gs pos="50000">
                  <a:srgbClr val="057ae5"/>
                </a:gs>
                <a:gs pos="100000">
                  <a:srgbClr val="7fba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6673680" y="3859200"/>
            <a:ext cx="1733760" cy="703440"/>
            <a:chOff x="6673680" y="3859200"/>
            <a:chExt cx="1733760" cy="703440"/>
          </a:xfrm>
        </p:grpSpPr>
        <p:sp>
          <p:nvSpPr>
            <p:cNvPr id="692" name=""/>
            <p:cNvSpPr/>
            <p:nvPr/>
          </p:nvSpPr>
          <p:spPr>
            <a:xfrm>
              <a:off x="6673680" y="3859200"/>
              <a:ext cx="1733760" cy="703440"/>
            </a:xfrm>
            <a:custGeom>
              <a:avLst/>
              <a:gdLst>
                <a:gd name="textAreaLeft" fmla="*/ 0 w 1733760"/>
                <a:gd name="textAreaRight" fmla="*/ 1734120 w 173376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131" y="0"/>
                  </a:lnTo>
                  <a:lnTo>
                    <a:pt x="21600" y="10800"/>
                  </a:lnTo>
                  <a:lnTo>
                    <a:pt x="18131" y="21600"/>
                  </a:lnTo>
                  <a:lnTo>
                    <a:pt x="0" y="21600"/>
                  </a:lnTo>
                  <a:lnTo>
                    <a:pt x="346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cefe5"/>
                </a:gs>
                <a:gs pos="50000">
                  <a:srgbClr val="f57409"/>
                </a:gs>
                <a:gs pos="100000">
                  <a:srgbClr val="fcefe5"/>
                </a:gs>
              </a:gsLst>
              <a:lin ang="10800000"/>
            </a:gradFill>
            <a:ln w="12600">
              <a:solidFill>
                <a:srgbClr val="f57409"/>
              </a:solidFill>
              <a:miter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03560" y="3877920"/>
              <a:ext cx="1685880" cy="66780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667800"/>
                <a:gd name="textAreaBottom" fmla="*/ 667800 h 66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18" y="0"/>
                  </a:lnTo>
                  <a:lnTo>
                    <a:pt x="21600" y="10800"/>
                  </a:lnTo>
                  <a:lnTo>
                    <a:pt x="18018" y="21600"/>
                  </a:lnTo>
                  <a:lnTo>
                    <a:pt x="0" y="21600"/>
                  </a:lnTo>
                  <a:lnTo>
                    <a:pt x="3582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8b781"/>
                </a:gs>
                <a:gs pos="50000">
                  <a:srgbClr val="f57409"/>
                </a:gs>
                <a:gs pos="100000">
                  <a:srgbClr val="f8b7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3119400" y="4699080"/>
            <a:ext cx="163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694560" y="4699080"/>
            <a:ext cx="16398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4441680" y="2073240"/>
            <a:ext cx="398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06600" y="397980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67360" y="3979800"/>
            <a:ext cx="14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834240" y="3979800"/>
            <a:ext cx="14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80960" y="4699080"/>
            <a:ext cx="1638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905360" y="4699080"/>
            <a:ext cx="16398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558800" y="5222880"/>
            <a:ext cx="31528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1774800" y="5035680"/>
            <a:ext cx="2712960" cy="416880"/>
            <a:chOff x="1774800" y="5035680"/>
            <a:chExt cx="2712960" cy="416880"/>
          </a:xfrm>
        </p:grpSpPr>
        <p:sp>
          <p:nvSpPr>
            <p:cNvPr id="705" name=""/>
            <p:cNvSpPr/>
            <p:nvPr/>
          </p:nvSpPr>
          <p:spPr>
            <a:xfrm>
              <a:off x="1774800" y="50356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93160" y="50389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4997520" y="5222880"/>
            <a:ext cx="3151080" cy="1119240"/>
          </a:xfrm>
          <a:prstGeom prst="roundRect">
            <a:avLst>
              <a:gd name="adj" fmla="val 948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"/>
          <p:cNvGrpSpPr/>
          <p:nvPr/>
        </p:nvGrpSpPr>
        <p:grpSpPr>
          <a:xfrm>
            <a:off x="5211720" y="5035680"/>
            <a:ext cx="2712960" cy="416880"/>
            <a:chOff x="5211720" y="5035680"/>
            <a:chExt cx="2712960" cy="416880"/>
          </a:xfrm>
        </p:grpSpPr>
        <p:sp>
          <p:nvSpPr>
            <p:cNvPr id="709" name=""/>
            <p:cNvSpPr/>
            <p:nvPr/>
          </p:nvSpPr>
          <p:spPr>
            <a:xfrm>
              <a:off x="5211720" y="5035680"/>
              <a:ext cx="2712960" cy="416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230080" y="5038920"/>
              <a:ext cx="2674800" cy="18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1295280" y="4462560"/>
            <a:ext cx="7354800" cy="519120"/>
            <a:chOff x="1295280" y="4462560"/>
            <a:chExt cx="7354800" cy="519120"/>
          </a:xfrm>
        </p:grpSpPr>
        <p:sp>
          <p:nvSpPr>
            <p:cNvPr id="712" name=""/>
            <p:cNvSpPr/>
            <p:nvPr/>
          </p:nvSpPr>
          <p:spPr>
            <a:xfrm>
              <a:off x="1295280" y="4589280"/>
              <a:ext cx="325080" cy="26100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15880" y="4462560"/>
              <a:ext cx="7234200" cy="519120"/>
            </a:xfrm>
            <a:prstGeom prst="rightArrow">
              <a:avLst>
                <a:gd name="adj1" fmla="val 50000"/>
                <a:gd name="adj2" fmla="val 63226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2203560" y="4551480"/>
            <a:ext cx="63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595760" y="455148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19840" y="4551480"/>
            <a:ext cx="6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558800" y="2760840"/>
            <a:ext cx="0" cy="1790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773520" y="2444760"/>
            <a:ext cx="0" cy="2106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973840" y="2015640"/>
            <a:ext cx="0" cy="2535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194680" y="1657080"/>
            <a:ext cx="0" cy="2894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558800" y="4122720"/>
            <a:ext cx="2208240" cy="42876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91abbb"/>
              </a:gs>
              <a:gs pos="100000">
                <a:srgbClr val="416f8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774960" y="3621240"/>
            <a:ext cx="2206800" cy="93024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da9ad3"/>
              </a:gs>
              <a:gs pos="100000">
                <a:srgbClr val="be46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5981760" y="3048120"/>
            <a:ext cx="2208240" cy="150336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f7a662"/>
              </a:gs>
              <a:gs pos="100000">
                <a:srgbClr val="f5740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558800" y="302112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800520" y="254628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006960" y="1973160"/>
            <a:ext cx="2149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1774800" y="41241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719360" y="50785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157720" y="507852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658880" y="5526000"/>
            <a:ext cx="29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087880" y="5526000"/>
            <a:ext cx="29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94200" y="390672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183360" y="3654360"/>
            <a:ext cx="17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990720" y="1981080"/>
            <a:ext cx="2760480" cy="4079880"/>
          </a:xfrm>
          <a:prstGeom prst="rightArrow">
            <a:avLst>
              <a:gd name="adj1" fmla="val 62806"/>
              <a:gd name="adj2" fmla="val 32949"/>
            </a:avLst>
          </a:prstGeom>
          <a:gradFill rotWithShape="0">
            <a:gsLst>
              <a:gs pos="0">
                <a:srgbClr val="808080">
                  <a:alpha val="50196"/>
                </a:srgbClr>
              </a:gs>
              <a:gs pos="100000">
                <a:srgbClr val="ffffff">
                  <a:alpha val="50196"/>
                </a:srgbClr>
              </a:gs>
            </a:gsLst>
            <a:lin ang="10800000"/>
          </a:gradFill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66680" y="2895480"/>
            <a:ext cx="226224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821040" y="2050920"/>
            <a:ext cx="4713480" cy="38689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892680" y="2192400"/>
            <a:ext cx="4544640" cy="1133280"/>
            <a:chOff x="3892680" y="2192400"/>
            <a:chExt cx="4544640" cy="1133280"/>
          </a:xfrm>
        </p:grpSpPr>
        <p:sp>
          <p:nvSpPr>
            <p:cNvPr id="739" name=""/>
            <p:cNvSpPr/>
            <p:nvPr/>
          </p:nvSpPr>
          <p:spPr>
            <a:xfrm>
              <a:off x="3936240" y="2192400"/>
              <a:ext cx="4501080" cy="11332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be0ca"/>
                </a:gs>
                <a:gs pos="100000">
                  <a:srgbClr val="f5740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92680" y="2613960"/>
              <a:ext cx="492120" cy="351000"/>
            </a:xfrm>
            <a:prstGeom prst="rightArrow">
              <a:avLst>
                <a:gd name="adj1" fmla="val 50000"/>
                <a:gd name="adj2" fmla="val 5841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3892680" y="3414600"/>
            <a:ext cx="4544640" cy="1133640"/>
            <a:chOff x="3892680" y="3414600"/>
            <a:chExt cx="4544640" cy="1133640"/>
          </a:xfrm>
        </p:grpSpPr>
        <p:sp>
          <p:nvSpPr>
            <p:cNvPr id="742" name=""/>
            <p:cNvSpPr/>
            <p:nvPr/>
          </p:nvSpPr>
          <p:spPr>
            <a:xfrm>
              <a:off x="3936240" y="3414600"/>
              <a:ext cx="4501080" cy="113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c9e1f8"/>
                </a:gs>
                <a:gs pos="100000">
                  <a:srgbClr val="057ae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892680" y="3844800"/>
              <a:ext cx="492120" cy="351720"/>
            </a:xfrm>
            <a:prstGeom prst="rightArrow">
              <a:avLst>
                <a:gd name="adj1" fmla="val 50000"/>
                <a:gd name="adj2" fmla="val 582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892680" y="4654440"/>
            <a:ext cx="4544640" cy="1133640"/>
            <a:chOff x="3892680" y="4654440"/>
            <a:chExt cx="4544640" cy="1133640"/>
          </a:xfrm>
        </p:grpSpPr>
        <p:sp>
          <p:nvSpPr>
            <p:cNvPr id="745" name=""/>
            <p:cNvSpPr/>
            <p:nvPr/>
          </p:nvSpPr>
          <p:spPr>
            <a:xfrm>
              <a:off x="3936240" y="4654440"/>
              <a:ext cx="4501080" cy="113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0d6ed"/>
                </a:gs>
                <a:gs pos="100000">
                  <a:srgbClr val="be46b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892680" y="5076000"/>
              <a:ext cx="492120" cy="351360"/>
            </a:xfrm>
            <a:prstGeom prst="rightArrow">
              <a:avLst>
                <a:gd name="adj1" fmla="val 50000"/>
                <a:gd name="adj2" fmla="val 5835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524480" y="480708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4524480" y="356724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524480" y="2344680"/>
            <a:ext cx="3722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7ae5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149480" y="1901880"/>
            <a:ext cx="365904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691"/>
                </a:moveTo>
                <a:cubicBezTo>
                  <a:pt x="2183" y="700"/>
                  <a:pt x="2056" y="766"/>
                  <a:pt x="1991" y="833"/>
                </a:cubicBezTo>
                <a:cubicBezTo>
                  <a:pt x="1926" y="900"/>
                  <a:pt x="1835" y="1007"/>
                  <a:pt x="1817" y="1184"/>
                </a:cubicBezTo>
                <a:lnTo>
                  <a:pt x="0" y="1184"/>
                </a:lnTo>
                <a:lnTo>
                  <a:pt x="0" y="1"/>
                </a:lnTo>
                <a:lnTo>
                  <a:pt x="2305" y="0"/>
                </a:lnTo>
                <a:lnTo>
                  <a:pt x="2304" y="691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149480" y="2021040"/>
            <a:ext cx="3652560" cy="422280"/>
          </a:xfrm>
          <a:prstGeom prst="rect">
            <a:avLst/>
          </a:prstGeom>
          <a:gradFill rotWithShape="0">
            <a:gsLst>
              <a:gs pos="0">
                <a:srgbClr val="be46b0">
                  <a:alpha val="80000"/>
                </a:srgbClr>
              </a:gs>
              <a:gs pos="50000">
                <a:srgbClr val="a83e9c"/>
              </a:gs>
              <a:gs pos="100000">
                <a:srgbClr val="be46b0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51440" y="1905120"/>
            <a:ext cx="365904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1" y="691"/>
                </a:moveTo>
                <a:cubicBezTo>
                  <a:pt x="122" y="700"/>
                  <a:pt x="249" y="766"/>
                  <a:pt x="314" y="833"/>
                </a:cubicBezTo>
                <a:cubicBezTo>
                  <a:pt x="379" y="900"/>
                  <a:pt x="463" y="1005"/>
                  <a:pt x="481" y="1182"/>
                </a:cubicBezTo>
                <a:lnTo>
                  <a:pt x="2305" y="1184"/>
                </a:lnTo>
                <a:lnTo>
                  <a:pt x="2305" y="1"/>
                </a:lnTo>
                <a:lnTo>
                  <a:pt x="0" y="0"/>
                </a:lnTo>
                <a:lnTo>
                  <a:pt x="1" y="691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4952880" y="2023920"/>
            <a:ext cx="3654720" cy="422280"/>
          </a:xfrm>
          <a:prstGeom prst="rect">
            <a:avLst/>
          </a:prstGeom>
          <a:gradFill rotWithShape="0">
            <a:gsLst>
              <a:gs pos="0">
                <a:srgbClr val="f57409">
                  <a:alpha val="80000"/>
                </a:srgbClr>
              </a:gs>
              <a:gs pos="50000">
                <a:srgbClr val="d96607"/>
              </a:gs>
              <a:gs pos="100000">
                <a:srgbClr val="f57409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146240" y="3911760"/>
            <a:ext cx="3659040" cy="1879560"/>
          </a:xfrm>
          <a:custGeom>
            <a:avLst/>
            <a:gdLst/>
            <a:ahLst/>
            <a:rect l="l" t="t" r="r" b="b"/>
            <a:pathLst>
              <a:path w="2305" h="1184">
                <a:moveTo>
                  <a:pt x="2304" y="493"/>
                </a:moveTo>
                <a:cubicBezTo>
                  <a:pt x="2183" y="484"/>
                  <a:pt x="2056" y="418"/>
                  <a:pt x="1991" y="351"/>
                </a:cubicBezTo>
                <a:cubicBezTo>
                  <a:pt x="1926" y="284"/>
                  <a:pt x="1831" y="178"/>
                  <a:pt x="1813" y="1"/>
                </a:cubicBezTo>
                <a:lnTo>
                  <a:pt x="0" y="0"/>
                </a:lnTo>
                <a:lnTo>
                  <a:pt x="0" y="1183"/>
                </a:lnTo>
                <a:lnTo>
                  <a:pt x="2305" y="1184"/>
                </a:lnTo>
                <a:lnTo>
                  <a:pt x="2304" y="493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948200" y="3902040"/>
            <a:ext cx="3659400" cy="1881360"/>
          </a:xfrm>
          <a:custGeom>
            <a:avLst/>
            <a:gdLst/>
            <a:ahLst/>
            <a:rect l="l" t="t" r="r" b="b"/>
            <a:pathLst>
              <a:path w="2305" h="1185">
                <a:moveTo>
                  <a:pt x="1" y="494"/>
                </a:moveTo>
                <a:cubicBezTo>
                  <a:pt x="122" y="485"/>
                  <a:pt x="249" y="419"/>
                  <a:pt x="314" y="352"/>
                </a:cubicBezTo>
                <a:cubicBezTo>
                  <a:pt x="379" y="285"/>
                  <a:pt x="465" y="177"/>
                  <a:pt x="483" y="0"/>
                </a:cubicBezTo>
                <a:lnTo>
                  <a:pt x="2305" y="1"/>
                </a:lnTo>
                <a:lnTo>
                  <a:pt x="2305" y="1184"/>
                </a:lnTo>
                <a:lnTo>
                  <a:pt x="0" y="1185"/>
                </a:lnTo>
                <a:lnTo>
                  <a:pt x="1" y="494"/>
                </a:lnTo>
                <a:close/>
              </a:path>
            </a:pathLst>
          </a:custGeom>
          <a:solidFill>
            <a:srgbClr val="b2b2b2">
              <a:alpha val="3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410080" y="4041720"/>
            <a:ext cx="318636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057ae5">
                  <a:alpha val="80000"/>
                </a:srgbClr>
              </a:gs>
              <a:gs pos="50000">
                <a:srgbClr val="046ccb"/>
              </a:gs>
              <a:gs pos="100000">
                <a:srgbClr val="057ae5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1145520" y="4017960"/>
            <a:ext cx="3165480" cy="461880"/>
          </a:xfrm>
          <a:custGeom>
            <a:avLst/>
            <a:gdLst/>
            <a:ahLst/>
            <a:rect l="l" t="t" r="r" b="b"/>
            <a:pathLst>
              <a:path w="2007" h="291">
                <a:moveTo>
                  <a:pt x="176" y="3"/>
                </a:moveTo>
                <a:cubicBezTo>
                  <a:pt x="133" y="163"/>
                  <a:pt x="72" y="214"/>
                  <a:pt x="0" y="291"/>
                </a:cubicBezTo>
                <a:lnTo>
                  <a:pt x="2007" y="291"/>
                </a:lnTo>
                <a:lnTo>
                  <a:pt x="2007" y="0"/>
                </a:lnTo>
                <a:lnTo>
                  <a:pt x="176" y="3"/>
                </a:lnTo>
                <a:close/>
              </a:path>
            </a:pathLst>
          </a:custGeom>
          <a:gradFill rotWithShape="0">
            <a:gsLst>
              <a:gs pos="0">
                <a:srgbClr val="416f8b">
                  <a:alpha val="80000"/>
                </a:srgbClr>
              </a:gs>
              <a:gs pos="50000">
                <a:srgbClr val="39627b"/>
              </a:gs>
              <a:gs pos="100000">
                <a:srgbClr val="416f8b">
                  <a:alpha val="8000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798560" y="20462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798560" y="404640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724360" y="204624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724360" y="4070520"/>
            <a:ext cx="22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222200" y="4676760"/>
            <a:ext cx="341820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81760" y="4676760"/>
            <a:ext cx="34178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222200" y="2744640"/>
            <a:ext cx="2954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452920" y="2744640"/>
            <a:ext cx="29894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4389120" y="3316320"/>
            <a:ext cx="447480" cy="663120"/>
            <a:chOff x="4389120" y="3316320"/>
            <a:chExt cx="447480" cy="663120"/>
          </a:xfrm>
        </p:grpSpPr>
        <p:sp>
          <p:nvSpPr>
            <p:cNvPr id="769" name=""/>
            <p:cNvSpPr/>
            <p:nvPr/>
          </p:nvSpPr>
          <p:spPr>
            <a:xfrm flipH="1">
              <a:off x="4551120" y="3316320"/>
              <a:ext cx="120240" cy="138240"/>
            </a:xfrm>
            <a:prstGeom prst="ellipse">
              <a:avLst/>
            </a:pr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4388760" y="3451320"/>
              <a:ext cx="447480" cy="528120"/>
            </a:xfrm>
            <a:custGeom>
              <a:avLst/>
              <a:gdLst/>
              <a:ahLst/>
              <a:rect l="l" t="t" r="r" b="b"/>
              <a:pathLst>
                <a:path w="2614" h="2630">
                  <a:moveTo>
                    <a:pt x="1176" y="0"/>
                  </a:moveTo>
                  <a:cubicBezTo>
                    <a:pt x="1196" y="78"/>
                    <a:pt x="1274" y="182"/>
                    <a:pt x="1316" y="180"/>
                  </a:cubicBezTo>
                  <a:cubicBezTo>
                    <a:pt x="1358" y="178"/>
                    <a:pt x="1412" y="78"/>
                    <a:pt x="1448" y="0"/>
                  </a:cubicBezTo>
                  <a:cubicBezTo>
                    <a:pt x="1976" y="0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2180" y="2278"/>
                  </a:lnTo>
                  <a:cubicBezTo>
                    <a:pt x="2210" y="2506"/>
                    <a:pt x="2116" y="2574"/>
                    <a:pt x="2048" y="2586"/>
                  </a:cubicBezTo>
                  <a:cubicBezTo>
                    <a:pt x="1982" y="2614"/>
                    <a:pt x="1826" y="2600"/>
                    <a:pt x="1770" y="2454"/>
                  </a:cubicBezTo>
                  <a:cubicBezTo>
                    <a:pt x="1681" y="2159"/>
                    <a:pt x="1592" y="1864"/>
                    <a:pt x="1592" y="1864"/>
                  </a:cubicBezTo>
                  <a:cubicBezTo>
                    <a:pt x="1520" y="1604"/>
                    <a:pt x="1380" y="1490"/>
                    <a:pt x="1304" y="1494"/>
                  </a:cubicBezTo>
                  <a:cubicBezTo>
                    <a:pt x="1164" y="1510"/>
                    <a:pt x="1062" y="1698"/>
                    <a:pt x="1006" y="1888"/>
                  </a:cubicBezTo>
                  <a:cubicBezTo>
                    <a:pt x="910" y="2176"/>
                    <a:pt x="900" y="2302"/>
                    <a:pt x="856" y="2396"/>
                  </a:cubicBezTo>
                  <a:cubicBezTo>
                    <a:pt x="816" y="2508"/>
                    <a:pt x="720" y="2630"/>
                    <a:pt x="570" y="2596"/>
                  </a:cubicBezTo>
                  <a:cubicBezTo>
                    <a:pt x="506" y="2564"/>
                    <a:pt x="376" y="2548"/>
                    <a:pt x="440" y="2256"/>
                  </a:cubicBez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76" y="0"/>
                    <a:pt x="117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a5ff"/>
                </a:gs>
                <a:gs pos="100000">
                  <a:srgbClr val="478d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"/>
          <p:cNvGrpSpPr/>
          <p:nvPr/>
        </p:nvGrpSpPr>
        <p:grpSpPr>
          <a:xfrm>
            <a:off x="4903920" y="3327480"/>
            <a:ext cx="428400" cy="635040"/>
            <a:chOff x="4903920" y="3327480"/>
            <a:chExt cx="428400" cy="635040"/>
          </a:xfrm>
        </p:grpSpPr>
        <p:sp>
          <p:nvSpPr>
            <p:cNvPr id="772" name=""/>
            <p:cNvSpPr/>
            <p:nvPr/>
          </p:nvSpPr>
          <p:spPr>
            <a:xfrm>
              <a:off x="4903920" y="3454920"/>
              <a:ext cx="428400" cy="507600"/>
            </a:xfrm>
            <a:custGeom>
              <a:avLst/>
              <a:gdLst/>
              <a:ahLst/>
              <a:rect l="l" t="t" r="r" b="b"/>
              <a:pathLst>
                <a:path w="2614" h="2628">
                  <a:moveTo>
                    <a:pt x="1100" y="0"/>
                  </a:moveTo>
                  <a:cubicBezTo>
                    <a:pt x="1120" y="78"/>
                    <a:pt x="1193" y="183"/>
                    <a:pt x="1316" y="180"/>
                  </a:cubicBezTo>
                  <a:cubicBezTo>
                    <a:pt x="1439" y="177"/>
                    <a:pt x="1472" y="84"/>
                    <a:pt x="1508" y="6"/>
                  </a:cubicBezTo>
                  <a:cubicBezTo>
                    <a:pt x="2036" y="6"/>
                    <a:pt x="2504" y="0"/>
                    <a:pt x="2504" y="0"/>
                  </a:cubicBezTo>
                  <a:cubicBezTo>
                    <a:pt x="2576" y="4"/>
                    <a:pt x="2612" y="94"/>
                    <a:pt x="2610" y="146"/>
                  </a:cubicBezTo>
                  <a:cubicBezTo>
                    <a:pt x="2610" y="194"/>
                    <a:pt x="2614" y="294"/>
                    <a:pt x="2492" y="312"/>
                  </a:cubicBezTo>
                  <a:cubicBezTo>
                    <a:pt x="2104" y="312"/>
                    <a:pt x="1716" y="312"/>
                    <a:pt x="1716" y="312"/>
                  </a:cubicBezTo>
                  <a:lnTo>
                    <a:pt x="1985" y="1350"/>
                  </a:lnTo>
                  <a:lnTo>
                    <a:pt x="1805" y="1401"/>
                  </a:lnTo>
                  <a:lnTo>
                    <a:pt x="2093" y="2328"/>
                  </a:lnTo>
                  <a:cubicBezTo>
                    <a:pt x="2126" y="2457"/>
                    <a:pt x="2117" y="2547"/>
                    <a:pt x="2030" y="2598"/>
                  </a:cubicBezTo>
                  <a:cubicBezTo>
                    <a:pt x="1919" y="2628"/>
                    <a:pt x="1834" y="2552"/>
                    <a:pt x="1778" y="2406"/>
                  </a:cubicBezTo>
                  <a:cubicBezTo>
                    <a:pt x="1679" y="2219"/>
                    <a:pt x="1507" y="1628"/>
                    <a:pt x="1436" y="1476"/>
                  </a:cubicBezTo>
                  <a:lnTo>
                    <a:pt x="1136" y="1476"/>
                  </a:lnTo>
                  <a:cubicBezTo>
                    <a:pt x="1070" y="1668"/>
                    <a:pt x="926" y="2226"/>
                    <a:pt x="842" y="2412"/>
                  </a:cubicBezTo>
                  <a:cubicBezTo>
                    <a:pt x="802" y="2524"/>
                    <a:pt x="728" y="2616"/>
                    <a:pt x="635" y="2595"/>
                  </a:cubicBezTo>
                  <a:cubicBezTo>
                    <a:pt x="571" y="2563"/>
                    <a:pt x="488" y="2532"/>
                    <a:pt x="545" y="2316"/>
                  </a:cubicBezTo>
                  <a:lnTo>
                    <a:pt x="797" y="1416"/>
                  </a:lnTo>
                  <a:lnTo>
                    <a:pt x="602" y="1368"/>
                  </a:lnTo>
                  <a:lnTo>
                    <a:pt x="906" y="310"/>
                  </a:lnTo>
                  <a:lnTo>
                    <a:pt x="148" y="310"/>
                  </a:lnTo>
                  <a:cubicBezTo>
                    <a:pt x="48" y="304"/>
                    <a:pt x="7" y="226"/>
                    <a:pt x="2" y="174"/>
                  </a:cubicBezTo>
                  <a:cubicBezTo>
                    <a:pt x="0" y="118"/>
                    <a:pt x="20" y="0"/>
                    <a:pt x="148" y="2"/>
                  </a:cubicBezTo>
                  <a:cubicBezTo>
                    <a:pt x="342" y="2"/>
                    <a:pt x="1160" y="0"/>
                    <a:pt x="1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62680" y="3327480"/>
              <a:ext cx="113040" cy="130680"/>
            </a:xfrm>
            <a:prstGeom prst="ellipse">
              <a:avLst/>
            </a:prstGeom>
            <a:gradFill rotWithShape="0">
              <a:gsLst>
                <a:gs pos="0">
                  <a:srgbClr val="fdb658"/>
                </a:gs>
                <a:gs pos="100000">
                  <a:srgbClr val="fe9e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4138560" y="4017960"/>
            <a:ext cx="14986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07040" y="253692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5057640" y="2376360"/>
            <a:ext cx="5040" cy="30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rot="2692800">
            <a:off x="1143000" y="220932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057ae5"/>
              </a:gs>
              <a:gs pos="100000">
                <a:srgbClr val="469cea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rot="18892800">
            <a:off x="1168920" y="220860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solidFill>
            <a:srgbClr val="f57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 rot="18907200">
            <a:off x="1139400" y="2171880"/>
            <a:ext cx="344988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416f8b"/>
              </a:gs>
              <a:gs pos="100000">
                <a:srgbClr val="7294a8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H="1" flipV="1" rot="2692800">
            <a:off x="1168560" y="2170800"/>
            <a:ext cx="3449520" cy="3463920"/>
          </a:xfrm>
          <a:prstGeom prst="blockArc">
            <a:avLst>
              <a:gd name="adj1" fmla="val 13516087"/>
              <a:gd name="adj2" fmla="val 18883913"/>
              <a:gd name="adj3" fmla="val 17824"/>
            </a:avLst>
          </a:prstGeom>
          <a:gradFill rotWithShape="0">
            <a:gsLst>
              <a:gs pos="0">
                <a:srgbClr val="be46b0"/>
              </a:gs>
              <a:gs pos="100000">
                <a:srgbClr val="ce76c3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 rot="18991800">
            <a:off x="1213920" y="27968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1235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3" name=""/>
          <p:cNvSpPr txBox="1"/>
          <p:nvPr/>
        </p:nvSpPr>
        <p:spPr>
          <a:xfrm rot="2855400">
            <a:off x="2380680" y="28544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30548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4" name=""/>
          <p:cNvSpPr txBox="1"/>
          <p:nvPr/>
        </p:nvSpPr>
        <p:spPr>
          <a:xfrm rot="2855400">
            <a:off x="1207800" y="39942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5" name=""/>
          <p:cNvSpPr txBox="1"/>
          <p:nvPr/>
        </p:nvSpPr>
        <p:spPr>
          <a:xfrm rot="18739200">
            <a:off x="2404080" y="3933360"/>
            <a:ext cx="2162160" cy="11444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24050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994040" y="358776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438880" y="4183200"/>
            <a:ext cx="247680" cy="247680"/>
          </a:xfrm>
          <a:prstGeom prst="donut">
            <a:avLst>
              <a:gd name="adj" fmla="val 25000"/>
            </a:avLst>
          </a:prstGeom>
          <a:solidFill>
            <a:srgbClr val="be46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438880" y="4516560"/>
            <a:ext cx="247680" cy="247680"/>
          </a:xfrm>
          <a:prstGeom prst="donut">
            <a:avLst>
              <a:gd name="adj" fmla="val 25000"/>
            </a:avLst>
          </a:prstGeom>
          <a:solidFill>
            <a:srgbClr val="f57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438880" y="4821120"/>
            <a:ext cx="247680" cy="247680"/>
          </a:xfrm>
          <a:prstGeom prst="donut">
            <a:avLst>
              <a:gd name="adj" fmla="val 25000"/>
            </a:avLst>
          </a:prstGeom>
          <a:solidFill>
            <a:srgbClr val="057a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438880" y="5126040"/>
            <a:ext cx="247680" cy="247680"/>
          </a:xfrm>
          <a:prstGeom prst="donut">
            <a:avLst>
              <a:gd name="adj" fmla="val 25000"/>
            </a:avLst>
          </a:prstGeom>
          <a:solidFill>
            <a:srgbClr val="416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692680" y="41418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5692680" y="44784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692680" y="479268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692680" y="50976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5099760" y="3067200"/>
            <a:ext cx="35578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222200" y="4192560"/>
            <a:ext cx="4113360" cy="1193760"/>
          </a:xfrm>
          <a:prstGeom prst="ellipse">
            <a:avLst/>
          </a:prstGeom>
          <a:gradFill rotWithShape="0">
            <a:gsLst>
              <a:gs pos="0">
                <a:srgbClr val="787878"/>
              </a:gs>
              <a:gs pos="100000">
                <a:srgbClr val="80808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2671560" y="2370240"/>
            <a:ext cx="1628640" cy="382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690" y="19853"/>
                </a:moveTo>
                <a:arcTo wR="10800" hR="10800" stAng="3417072" swAng="20509822"/>
                <a:lnTo>
                  <a:pt x="10800" y="10800"/>
                </a:lnTo>
                <a:close/>
              </a:path>
              <a:path fill="none" w="21600" h="21600">
                <a:moveTo>
                  <a:pt x="16690" y="19853"/>
                </a:moveTo>
                <a:arcTo wR="10800" hR="10800" stAng="3417072" swAng="20509822"/>
              </a:path>
            </a:pathLst>
          </a:cu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774880" y="3714840"/>
            <a:ext cx="6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7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rot="16200000">
            <a:off x="2890800" y="2343600"/>
            <a:ext cx="1299960" cy="368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346" y="21001"/>
                </a:moveTo>
                <a:arcTo wR="10800" hR="10800" stAng="4249894" swAng="21115163"/>
                <a:lnTo>
                  <a:pt x="10800" y="10800"/>
                </a:lnTo>
                <a:close/>
              </a:path>
              <a:path fill="none" w="21600" h="21600">
                <a:moveTo>
                  <a:pt x="14346" y="21001"/>
                </a:moveTo>
                <a:arcTo wR="10800" hR="10800" stAng="4249894" swAng="21115163"/>
              </a:path>
            </a:pathLst>
          </a:custGeom>
          <a:gradFill rotWithShape="0">
            <a:gsLst>
              <a:gs pos="0">
                <a:srgbClr val="7eb9f0"/>
              </a:gs>
              <a:gs pos="100000">
                <a:srgbClr val="057ae5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rot="16200000">
            <a:off x="2830680" y="2438280"/>
            <a:ext cx="1301040" cy="363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513" y="21088"/>
                </a:moveTo>
                <a:arcTo wR="10800" hR="10800" stAng="6463041" swAng="18902017"/>
                <a:lnTo>
                  <a:pt x="10800" y="10800"/>
                </a:lnTo>
                <a:close/>
              </a:path>
              <a:path fill="none" w="21600" h="21600">
                <a:moveTo>
                  <a:pt x="7513" y="21088"/>
                </a:moveTo>
                <a:arcTo wR="10800" hR="10800" stAng="6463041" swAng="18902017"/>
              </a:path>
            </a:pathLst>
          </a:custGeom>
          <a:gradFill rotWithShape="0">
            <a:gsLst>
              <a:gs pos="0">
                <a:srgbClr val="f57409"/>
              </a:gs>
              <a:gs pos="100000">
                <a:srgbClr val="f8b68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rot="16200000">
            <a:off x="2823120" y="2428560"/>
            <a:ext cx="1334520" cy="3628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471" y="18733"/>
                </a:moveTo>
                <a:arcTo wR="10800" hR="10800" stAng="7963962" swAng="17401096"/>
                <a:lnTo>
                  <a:pt x="10800" y="10800"/>
                </a:lnTo>
                <a:close/>
              </a:path>
              <a:path fill="none" w="21600" h="21600">
                <a:moveTo>
                  <a:pt x="3471" y="18733"/>
                </a:moveTo>
                <a:arcTo wR="10800" hR="10800" stAng="7963962" swAng="17401096"/>
              </a:path>
            </a:pathLst>
          </a:custGeom>
          <a:gradFill rotWithShape="0">
            <a:gsLst>
              <a:gs pos="0">
                <a:srgbClr val="782c6f"/>
              </a:gs>
              <a:gs pos="100000">
                <a:srgbClr val="be46b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4343400" y="4332240"/>
            <a:ext cx="57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815000" y="4043520"/>
            <a:ext cx="5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210280" y="4457880"/>
            <a:ext cx="0" cy="1728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815000" y="4700520"/>
            <a:ext cx="3240" cy="162000"/>
          </a:xfrm>
          <a:prstGeom prst="line">
            <a:avLst/>
          </a:prstGeom>
          <a:ln w="9360">
            <a:solidFill>
              <a:srgbClr val="1c1c1c">
                <a:alpha val="3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2704680" y="4222800"/>
            <a:ext cx="955800" cy="78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6200000">
            <a:off x="2791080" y="2078280"/>
            <a:ext cx="1738080" cy="444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4" y="6497"/>
                </a:moveTo>
                <a:arcTo wR="10800" hR="10800" stAng="-9391229" swAng="13448554"/>
                <a:lnTo>
                  <a:pt x="10800" y="10800"/>
                </a:lnTo>
                <a:close/>
              </a:path>
              <a:path fill="none" w="21600" h="21600">
                <a:moveTo>
                  <a:pt x="894" y="6497"/>
                </a:moveTo>
                <a:arcTo wR="10800" hR="10800" stAng="-9391229" swAng="13448554"/>
              </a:path>
            </a:pathLst>
          </a:custGeom>
          <a:gradFill rotWithShape="0">
            <a:gsLst>
              <a:gs pos="0">
                <a:srgbClr val="213847"/>
              </a:gs>
              <a:gs pos="100000">
                <a:srgbClr val="416f8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541840" y="3711600"/>
            <a:ext cx="211320" cy="27936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416f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rot="16200000">
            <a:off x="2799360" y="1924920"/>
            <a:ext cx="1739880" cy="4443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3" y="6191"/>
                </a:moveTo>
                <a:arcTo wR="10800" hR="10800" stAng="-9284196" swAng="13341521"/>
                <a:lnTo>
                  <a:pt x="10800" y="10800"/>
                </a:lnTo>
                <a:close/>
              </a:path>
              <a:path fill="none" w="21600" h="21600">
                <a:moveTo>
                  <a:pt x="1033" y="6191"/>
                </a:moveTo>
                <a:arcTo wR="10800" hR="10800" stAng="-9284196" swAng="13341521"/>
              </a:path>
            </a:pathLst>
          </a:custGeom>
          <a:gradFill rotWithShape="0">
            <a:gsLst>
              <a:gs pos="0">
                <a:srgbClr val="416f8b"/>
              </a:gs>
              <a:gs pos="100000">
                <a:srgbClr val="b2c4c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506680" y="3556080"/>
            <a:ext cx="8841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d4d4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>
            <a:stCxn id="813" idx="1"/>
            <a:endCxn id="811" idx="3"/>
          </p:cNvCxnSpPr>
          <p:nvPr/>
        </p:nvCxnSpPr>
        <p:spPr>
          <a:xfrm flipV="1" rot="10800000">
            <a:off x="3390120" y="3049560"/>
            <a:ext cx="3114000" cy="705240"/>
          </a:xfrm>
          <a:prstGeom prst="bentConnector3">
            <a:avLst>
              <a:gd name="adj1" fmla="val 500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4" name=""/>
          <p:cNvCxnSpPr>
            <a:endCxn id="804" idx="3"/>
          </p:cNvCxnSpPr>
          <p:nvPr/>
        </p:nvCxnSpPr>
        <p:spPr>
          <a:xfrm rot="10800000">
            <a:off x="5320440" y="4195080"/>
            <a:ext cx="1437480" cy="373680"/>
          </a:xfrm>
          <a:prstGeom prst="bentConnector3">
            <a:avLst>
              <a:gd name="adj1" fmla="val 76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5" name=""/>
          <p:cNvSpPr/>
          <p:nvPr/>
        </p:nvSpPr>
        <p:spPr>
          <a:xfrm>
            <a:off x="3465360" y="443880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238480" y="2058840"/>
            <a:ext cx="531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6504120" y="2849400"/>
            <a:ext cx="1912680" cy="455760"/>
            <a:chOff x="6504120" y="2849400"/>
            <a:chExt cx="1912680" cy="455760"/>
          </a:xfrm>
        </p:grpSpPr>
        <p:sp>
          <p:nvSpPr>
            <p:cNvPr id="818" name=""/>
            <p:cNvSpPr/>
            <p:nvPr/>
          </p:nvSpPr>
          <p:spPr>
            <a:xfrm>
              <a:off x="6616800" y="3111840"/>
              <a:ext cx="1686600" cy="19332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504120" y="2849400"/>
              <a:ext cx="1912680" cy="399600"/>
            </a:xfrm>
            <a:prstGeom prst="rect">
              <a:avLst/>
            </a:prstGeom>
            <a:gradFill rotWithShape="0">
              <a:gsLst>
                <a:gs pos="0">
                  <a:srgbClr val="416f8b"/>
                </a:gs>
                <a:gs pos="100000">
                  <a:srgbClr val="31536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548400" y="4286160"/>
            <a:ext cx="1913040" cy="455760"/>
            <a:chOff x="6548400" y="4286160"/>
            <a:chExt cx="1913040" cy="455760"/>
          </a:xfrm>
        </p:grpSpPr>
        <p:sp>
          <p:nvSpPr>
            <p:cNvPr id="820" name=""/>
            <p:cNvSpPr/>
            <p:nvPr/>
          </p:nvSpPr>
          <p:spPr>
            <a:xfrm>
              <a:off x="6661080" y="4548600"/>
              <a:ext cx="1686960" cy="19332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48400" y="4286160"/>
              <a:ext cx="1913040" cy="399600"/>
            </a:xfrm>
            <a:prstGeom prst="rect">
              <a:avLst/>
            </a:prstGeom>
            <a:gradFill rotWithShape="0">
              <a:gsLst>
                <a:gs pos="0">
                  <a:srgbClr val="057ae5"/>
                </a:gs>
                <a:gs pos="100000">
                  <a:srgbClr val="0463b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6116760" y="5508720"/>
            <a:ext cx="1912680" cy="453600"/>
            <a:chOff x="6116760" y="5508720"/>
            <a:chExt cx="1912680" cy="453600"/>
          </a:xfrm>
        </p:grpSpPr>
        <p:sp>
          <p:nvSpPr>
            <p:cNvPr id="823" name=""/>
            <p:cNvSpPr/>
            <p:nvPr/>
          </p:nvSpPr>
          <p:spPr>
            <a:xfrm>
              <a:off x="6229440" y="5770080"/>
              <a:ext cx="1686600" cy="1922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16760" y="5508720"/>
              <a:ext cx="1912680" cy="398160"/>
            </a:xfrm>
            <a:prstGeom prst="rect">
              <a:avLst/>
            </a:prstGeom>
            <a:gradFill rotWithShape="0">
              <a:gsLst>
                <a:gs pos="0">
                  <a:srgbClr val="f57409"/>
                </a:gs>
                <a:gs pos="100000">
                  <a:srgbClr val="c85e0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1447920" y="5651640"/>
            <a:ext cx="1912680" cy="455040"/>
            <a:chOff x="1447920" y="5651640"/>
            <a:chExt cx="1912680" cy="455040"/>
          </a:xfrm>
        </p:grpSpPr>
        <p:sp>
          <p:nvSpPr>
            <p:cNvPr id="826" name=""/>
            <p:cNvSpPr/>
            <p:nvPr/>
          </p:nvSpPr>
          <p:spPr>
            <a:xfrm>
              <a:off x="1560600" y="5913720"/>
              <a:ext cx="1686600" cy="19296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447920" y="5651640"/>
              <a:ext cx="1912680" cy="399240"/>
            </a:xfrm>
            <a:prstGeom prst="rect">
              <a:avLst/>
            </a:prstGeom>
            <a:gradFill rotWithShape="0">
              <a:gsLst>
                <a:gs pos="0">
                  <a:srgbClr val="be46b0"/>
                </a:gs>
                <a:gs pos="100000">
                  <a:srgbClr val="6d286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28" name=""/>
          <p:cNvCxnSpPr/>
          <p:nvPr/>
        </p:nvCxnSpPr>
        <p:spPr>
          <a:xfrm rot="10800000">
            <a:off x="4895280" y="4572720"/>
            <a:ext cx="1221480" cy="115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9" name=""/>
          <p:cNvCxnSpPr/>
          <p:nvPr/>
        </p:nvCxnSpPr>
        <p:spPr>
          <a:xfrm flipV="1">
            <a:off x="3360240" y="4717440"/>
            <a:ext cx="242280" cy="113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309920" y="2784600"/>
            <a:ext cx="1711440" cy="536040"/>
            <a:chOff x="4309920" y="2784600"/>
            <a:chExt cx="1711440" cy="536040"/>
          </a:xfrm>
        </p:grpSpPr>
        <p:sp>
          <p:nvSpPr>
            <p:cNvPr id="832" name=""/>
            <p:cNvSpPr/>
            <p:nvPr/>
          </p:nvSpPr>
          <p:spPr>
            <a:xfrm>
              <a:off x="4309920" y="278460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336200" y="281700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748836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be46b0"/>
              </a:gs>
              <a:gs pos="100000">
                <a:srgbClr val="89327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324480" y="4648320"/>
            <a:ext cx="1086120" cy="1263600"/>
          </a:xfrm>
          <a:prstGeom prst="rect">
            <a:avLst/>
          </a:prstGeom>
          <a:gradFill rotWithShape="0">
            <a:gsLst>
              <a:gs pos="0">
                <a:srgbClr val="be46b0"/>
              </a:gs>
              <a:gs pos="100000">
                <a:srgbClr val="89327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1262160" y="3960720"/>
            <a:ext cx="2273040" cy="536400"/>
            <a:chOff x="1262160" y="3960720"/>
            <a:chExt cx="2273040" cy="536400"/>
          </a:xfrm>
        </p:grpSpPr>
        <p:sp>
          <p:nvSpPr>
            <p:cNvPr id="837" name=""/>
            <p:cNvSpPr/>
            <p:nvPr/>
          </p:nvSpPr>
          <p:spPr>
            <a:xfrm>
              <a:off x="1262160" y="396072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5740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97080" y="399312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5740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307200" y="3960720"/>
            <a:ext cx="2273400" cy="536400"/>
            <a:chOff x="6307200" y="3960720"/>
            <a:chExt cx="2273400" cy="536400"/>
          </a:xfrm>
        </p:grpSpPr>
        <p:sp>
          <p:nvSpPr>
            <p:cNvPr id="840" name=""/>
            <p:cNvSpPr/>
            <p:nvPr/>
          </p:nvSpPr>
          <p:spPr>
            <a:xfrm>
              <a:off x="6307200" y="396072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be46b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342120" y="399312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be46b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3781440" y="3970440"/>
            <a:ext cx="2273400" cy="536040"/>
            <a:chOff x="3781440" y="3970440"/>
            <a:chExt cx="2273400" cy="536040"/>
          </a:xfrm>
        </p:grpSpPr>
        <p:sp>
          <p:nvSpPr>
            <p:cNvPr id="843" name=""/>
            <p:cNvSpPr/>
            <p:nvPr/>
          </p:nvSpPr>
          <p:spPr>
            <a:xfrm>
              <a:off x="3781440" y="39704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416f8b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816360" y="40028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416f8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2136600" y="2784600"/>
            <a:ext cx="1711440" cy="536040"/>
            <a:chOff x="2136600" y="2784600"/>
            <a:chExt cx="1711440" cy="536040"/>
          </a:xfrm>
        </p:grpSpPr>
        <p:sp>
          <p:nvSpPr>
            <p:cNvPr id="846" name=""/>
            <p:cNvSpPr/>
            <p:nvPr/>
          </p:nvSpPr>
          <p:spPr>
            <a:xfrm>
              <a:off x="2136600" y="2784600"/>
              <a:ext cx="171144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2880" y="2817000"/>
              <a:ext cx="16513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195640" y="1925640"/>
            <a:ext cx="1596960" cy="536040"/>
            <a:chOff x="2195640" y="1925640"/>
            <a:chExt cx="1596960" cy="536040"/>
          </a:xfrm>
        </p:grpSpPr>
        <p:sp>
          <p:nvSpPr>
            <p:cNvPr id="849" name=""/>
            <p:cNvSpPr/>
            <p:nvPr/>
          </p:nvSpPr>
          <p:spPr>
            <a:xfrm>
              <a:off x="2195640" y="192564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20120" y="1958040"/>
              <a:ext cx="15411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128124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f57409"/>
              </a:gs>
              <a:gs pos="100000">
                <a:srgbClr val="b1530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44476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f57409"/>
              </a:gs>
              <a:gs pos="100000">
                <a:srgbClr val="b15306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3" name=""/>
          <p:cNvCxnSpPr/>
          <p:nvPr/>
        </p:nvCxnSpPr>
        <p:spPr>
          <a:xfrm flipH="1">
            <a:off x="3866400" y="302544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4" name=""/>
          <p:cNvCxnSpPr>
            <a:stCxn id="837" idx="0"/>
            <a:endCxn id="846" idx="2"/>
          </p:cNvCxnSpPr>
          <p:nvPr/>
        </p:nvCxnSpPr>
        <p:spPr>
          <a:xfrm flipH="1" flipV="1" rot="5400000">
            <a:off x="2375280" y="3343320"/>
            <a:ext cx="640440" cy="59436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5" name=""/>
          <p:cNvCxnSpPr>
            <a:stCxn id="840" idx="0"/>
            <a:endCxn id="846" idx="2"/>
          </p:cNvCxnSpPr>
          <p:nvPr/>
        </p:nvCxnSpPr>
        <p:spPr>
          <a:xfrm flipV="1" rot="16200000">
            <a:off x="4897440" y="1414440"/>
            <a:ext cx="640440" cy="4452120"/>
          </a:xfrm>
          <a:prstGeom prst="bentConnector3">
            <a:avLst>
              <a:gd name="adj1" fmla="val 4983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56" name=""/>
          <p:cNvSpPr/>
          <p:nvPr/>
        </p:nvSpPr>
        <p:spPr>
          <a:xfrm>
            <a:off x="2490840" y="200664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319640" y="28843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 Depar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6348240" y="40514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289160" y="40417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18116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340000" y="498312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811680" y="40482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798720" y="4648320"/>
            <a:ext cx="1086120" cy="1263600"/>
          </a:xfrm>
          <a:prstGeom prst="rect">
            <a:avLst/>
          </a:prstGeom>
          <a:gradFill rotWithShape="0">
            <a:gsLst>
              <a:gs pos="0">
                <a:srgbClr val="416f8b"/>
              </a:gs>
              <a:gs pos="100000">
                <a:srgbClr val="2e506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962600" y="4648320"/>
            <a:ext cx="1085760" cy="1263600"/>
          </a:xfrm>
          <a:prstGeom prst="rect">
            <a:avLst/>
          </a:prstGeom>
          <a:gradFill rotWithShape="0">
            <a:gsLst>
              <a:gs pos="0">
                <a:srgbClr val="416f8b"/>
              </a:gs>
              <a:gs pos="100000">
                <a:srgbClr val="2e5064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9900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85784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22476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383600" y="498312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b 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266920" y="28605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0" name=""/>
          <p:cNvCxnSpPr>
            <a:stCxn id="849" idx="2"/>
            <a:endCxn id="846" idx="0"/>
          </p:cNvCxnSpPr>
          <p:nvPr/>
        </p:nvCxnSpPr>
        <p:spPr>
          <a:xfrm flipH="1">
            <a:off x="2991600" y="2462040"/>
            <a:ext cx="2520" cy="322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1" name=""/>
          <p:cNvCxnSpPr>
            <a:stCxn id="846" idx="2"/>
            <a:endCxn id="843" idx="0"/>
          </p:cNvCxnSpPr>
          <p:nvPr/>
        </p:nvCxnSpPr>
        <p:spPr>
          <a:xfrm flipH="1" rot="16200000">
            <a:off x="3629520" y="2682720"/>
            <a:ext cx="650160" cy="1926360"/>
          </a:xfrm>
          <a:prstGeom prst="bentConnector3">
            <a:avLst>
              <a:gd name="adj1" fmla="val 49861"/>
            </a:avLst>
          </a:prstGeom>
          <a:ln w="9360">
            <a:solidFill>
              <a:srgbClr val="000000"/>
            </a:solidFill>
            <a:miter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232000" y="3613320"/>
            <a:ext cx="5311800" cy="688680"/>
            <a:chOff x="2232000" y="3613320"/>
            <a:chExt cx="5311800" cy="688680"/>
          </a:xfrm>
        </p:grpSpPr>
        <p:sp>
          <p:nvSpPr>
            <p:cNvPr id="98" name=""/>
            <p:cNvSpPr/>
            <p:nvPr/>
          </p:nvSpPr>
          <p:spPr>
            <a:xfrm>
              <a:off x="2232000" y="361332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e46b0"/>
                </a:gs>
                <a:gs pos="50000">
                  <a:srgbClr val="ae40a1"/>
                </a:gs>
                <a:gs pos="100000">
                  <a:srgbClr val="be46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2244960" y="3634560"/>
              <a:ext cx="5292000" cy="636840"/>
              <a:chOff x="2244960" y="3634560"/>
              <a:chExt cx="5292000" cy="636840"/>
            </a:xfrm>
          </p:grpSpPr>
          <p:sp>
            <p:nvSpPr>
              <p:cNvPr id="100" name=""/>
              <p:cNvSpPr/>
              <p:nvPr/>
            </p:nvSpPr>
            <p:spPr>
              <a:xfrm>
                <a:off x="2244960" y="4106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46b0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244960" y="3634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be46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2232000" y="4478400"/>
            <a:ext cx="5311800" cy="689040"/>
            <a:chOff x="2232000" y="4478400"/>
            <a:chExt cx="5311800" cy="689040"/>
          </a:xfrm>
        </p:grpSpPr>
        <p:sp>
          <p:nvSpPr>
            <p:cNvPr id="103" name=""/>
            <p:cNvSpPr/>
            <p:nvPr/>
          </p:nvSpPr>
          <p:spPr>
            <a:xfrm>
              <a:off x="2232000" y="447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57ae5"/>
                </a:gs>
                <a:gs pos="50000">
                  <a:srgbClr val="046fd2"/>
                </a:gs>
                <a:gs pos="100000">
                  <a:srgbClr val="057a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244960" y="4499640"/>
              <a:ext cx="5292000" cy="636840"/>
              <a:chOff x="2244960" y="4499640"/>
              <a:chExt cx="5292000" cy="636840"/>
            </a:xfrm>
          </p:grpSpPr>
          <p:sp>
            <p:nvSpPr>
              <p:cNvPr id="105" name=""/>
              <p:cNvSpPr/>
              <p:nvPr/>
            </p:nvSpPr>
            <p:spPr>
              <a:xfrm>
                <a:off x="2244960" y="497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57ae5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244960" y="449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057ae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2232000" y="5335560"/>
            <a:ext cx="5311800" cy="689040"/>
            <a:chOff x="2232000" y="5335560"/>
            <a:chExt cx="5311800" cy="689040"/>
          </a:xfrm>
        </p:grpSpPr>
        <p:sp>
          <p:nvSpPr>
            <p:cNvPr id="108" name=""/>
            <p:cNvSpPr/>
            <p:nvPr/>
          </p:nvSpPr>
          <p:spPr>
            <a:xfrm>
              <a:off x="2232000" y="53355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57409"/>
                </a:gs>
                <a:gs pos="50000">
                  <a:srgbClr val="e06a08"/>
                </a:gs>
                <a:gs pos="100000">
                  <a:srgbClr val="f5740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2244960" y="5356800"/>
              <a:ext cx="5292000" cy="636840"/>
              <a:chOff x="2244960" y="5356800"/>
              <a:chExt cx="5292000" cy="636840"/>
            </a:xfrm>
          </p:grpSpPr>
          <p:sp>
            <p:nvSpPr>
              <p:cNvPr id="110" name=""/>
              <p:cNvSpPr/>
              <p:nvPr/>
            </p:nvSpPr>
            <p:spPr>
              <a:xfrm>
                <a:off x="2244960" y="58287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57409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244960" y="53568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5740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" name=""/>
          <p:cNvGrpSpPr/>
          <p:nvPr/>
        </p:nvGrpSpPr>
        <p:grpSpPr>
          <a:xfrm>
            <a:off x="2232000" y="2749680"/>
            <a:ext cx="5311800" cy="688680"/>
            <a:chOff x="2232000" y="2749680"/>
            <a:chExt cx="5311800" cy="688680"/>
          </a:xfrm>
        </p:grpSpPr>
        <p:sp>
          <p:nvSpPr>
            <p:cNvPr id="113" name=""/>
            <p:cNvSpPr/>
            <p:nvPr/>
          </p:nvSpPr>
          <p:spPr>
            <a:xfrm>
              <a:off x="2232000" y="2749680"/>
              <a:ext cx="5311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6f8b"/>
                </a:gs>
                <a:gs pos="50000">
                  <a:srgbClr val="3b657f"/>
                </a:gs>
                <a:gs pos="100000">
                  <a:srgbClr val="416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2244960" y="2770920"/>
              <a:ext cx="5292000" cy="636840"/>
              <a:chOff x="2244960" y="2770920"/>
              <a:chExt cx="5292000" cy="636840"/>
            </a:xfrm>
          </p:grpSpPr>
          <p:sp>
            <p:nvSpPr>
              <p:cNvPr id="115" name=""/>
              <p:cNvSpPr/>
              <p:nvPr/>
            </p:nvSpPr>
            <p:spPr>
              <a:xfrm>
                <a:off x="2244960" y="3242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6f8b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44960" y="27709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416f8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"/>
          <p:cNvSpPr/>
          <p:nvPr/>
        </p:nvSpPr>
        <p:spPr>
          <a:xfrm>
            <a:off x="2698920" y="2863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09720" y="372096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9720" y="45799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9720" y="5427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2031840" y="5299200"/>
            <a:ext cx="792360" cy="94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2048040" y="44528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2048040" y="36021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rcRect l="42620" t="64489" r="19467" b="0"/>
          <a:stretch/>
        </p:blipFill>
        <p:spPr>
          <a:xfrm>
            <a:off x="2036880" y="274464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378160" y="5435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57280" y="2841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70240" y="3700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70240" y="45878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828800"/>
            <a:ext cx="655344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7ae5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1FC67-C0CB-4CCC-950B-7FC774CDB0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 txBox="1"/>
          <p:nvPr/>
        </p:nvSpPr>
        <p:spPr>
          <a:xfrm>
            <a:off x="1752480" y="5410080"/>
            <a:ext cx="5791320" cy="7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818181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818181"/>
                  </a:gs>
                </a:gsLst>
                <a:lin ang="54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8f8f8"/>
                </a:solidFill>
                <a:latin typeface="Arial"/>
              </a:rPr>
              <a:t>Your Business Company slogan in here</a:t>
            </a:r>
            <a:endParaRPr b="1" lang="en-US" sz="1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Hot Tip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47320" y="1453680"/>
            <a:ext cx="72342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</a:t>
            </a:r>
            <a:r>
              <a:rPr b="1" lang="en-US" sz="3200" spc="-1" strike="noStrike" u="sng">
                <a:solidFill>
                  <a:srgbClr val="416f8b"/>
                </a:solidFill>
                <a:uFillTx/>
                <a:latin typeface="Arial"/>
              </a:rPr>
              <a:t>logo</a:t>
            </a:r>
            <a:r>
              <a:rPr b="1" lang="en-US" sz="3200" spc="-1" strike="noStrike">
                <a:solidFill>
                  <a:srgbClr val="416f8b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3200" spc="-1" strike="noStrike">
                <a:solidFill>
                  <a:srgbClr val="416f8b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416f8b"/>
                </a:solidFill>
                <a:uFillTx/>
                <a:latin typeface="Arial"/>
              </a:rPr>
              <a:t>URL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a slide that will apply to all the other slid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</a:t>
            </a:r>
            <a:r>
              <a:rPr b="0" lang="en-US" sz="2000" spc="-1" strike="noStrike">
                <a:solidFill>
                  <a:srgbClr val="416f8b"/>
                </a:solidFill>
                <a:latin typeface="Arial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nu, point to </a:t>
            </a:r>
            <a:r>
              <a:rPr b="0" lang="en-US" sz="2000" spc="-1" strike="noStrike">
                <a:solidFill>
                  <a:srgbClr val="416f8b"/>
                </a:solidFill>
                <a:latin typeface="Arial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n cl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7ae5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416f8b"/>
                </a:solidFill>
                <a:latin typeface="Arial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416f8b"/>
                </a:solidFill>
                <a:latin typeface="Arial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ge images to the one you like, then it will apply to all the other slides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5181480"/>
            <a:ext cx="6400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888120" y="1735920"/>
            <a:ext cx="8033760" cy="4218840"/>
            <a:chOff x="888120" y="1735920"/>
            <a:chExt cx="8033760" cy="4218840"/>
          </a:xfrm>
        </p:grpSpPr>
        <p:sp>
          <p:nvSpPr>
            <p:cNvPr id="135" name=""/>
            <p:cNvSpPr/>
            <p:nvPr/>
          </p:nvSpPr>
          <p:spPr>
            <a:xfrm rot="3418800">
              <a:off x="2232000" y="2469240"/>
              <a:ext cx="787680" cy="855720"/>
            </a:xfrm>
            <a:prstGeom prst="rect">
              <a:avLst/>
            </a:prstGeom>
            <a:gradFill rotWithShape="0">
              <a:gsLst>
                <a:gs pos="0">
                  <a:srgbClr val="416f8b"/>
                </a:gs>
                <a:gs pos="100000">
                  <a:srgbClr val="1d3340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68000" y="277992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3418800">
              <a:off x="3455640" y="4092480"/>
              <a:ext cx="785880" cy="852480"/>
            </a:xfrm>
            <a:prstGeom prst="rect">
              <a:avLst/>
            </a:prstGeom>
            <a:gradFill rotWithShape="0">
              <a:gsLst>
                <a:gs pos="0">
                  <a:srgbClr val="f57409"/>
                </a:gs>
                <a:gs pos="100000">
                  <a:srgbClr val="703504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41440" y="434340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05~200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3418800">
              <a:off x="5218560" y="3110760"/>
              <a:ext cx="787320" cy="855720"/>
            </a:xfrm>
            <a:prstGeom prst="rect">
              <a:avLst/>
            </a:prstGeom>
            <a:gradFill rotWithShape="0">
              <a:gsLst>
                <a:gs pos="0">
                  <a:srgbClr val="be46b0"/>
                </a:gs>
                <a:gs pos="100000">
                  <a:srgbClr val="572051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10120" y="3382920"/>
              <a:ext cx="120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006~200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3418800">
              <a:off x="7220520" y="1870920"/>
              <a:ext cx="785880" cy="853920"/>
            </a:xfrm>
            <a:prstGeom prst="rect">
              <a:avLst/>
            </a:prstGeom>
            <a:gradFill rotWithShape="0">
              <a:gsLst>
                <a:gs pos="0">
                  <a:srgbClr val="057ae5"/>
                </a:gs>
                <a:gs pos="100000">
                  <a:srgbClr val="023869"/>
                </a:gs>
              </a:gsLst>
              <a:lin ang="1980000"/>
            </a:gradFill>
            <a:ln w="38160">
              <a:solidFill>
                <a:srgbClr val="ffffff"/>
              </a:solidFill>
              <a:miter/>
            </a:ln>
            <a:effectLst>
              <a:outerShdw dist="178285" dir="24315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256160" y="21765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16360" y="3286080"/>
              <a:ext cx="649080" cy="9097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278240" y="3740400"/>
              <a:ext cx="909720" cy="51912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095880" y="2560320"/>
              <a:ext cx="1103400" cy="662040"/>
            </a:xfrm>
            <a:prstGeom prst="line">
              <a:avLst/>
            </a:prstGeom>
            <a:ln cap="rnd" w="572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49640" y="2243160"/>
              <a:ext cx="350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ompany His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48760" y="5221440"/>
              <a:ext cx="234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1~`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1~`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1~`03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94920" y="4313520"/>
              <a:ext cx="234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4~`06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4~`06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04~`06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04000" y="3016440"/>
              <a:ext cx="2117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7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7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7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8120" y="3618000"/>
              <a:ext cx="234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99~`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99~`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`99~`00.10   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981080" y="2016000"/>
            <a:ext cx="6248520" cy="990360"/>
            <a:chOff x="1981080" y="2016000"/>
            <a:chExt cx="6248520" cy="990360"/>
          </a:xfrm>
        </p:grpSpPr>
        <p:sp>
          <p:nvSpPr>
            <p:cNvPr id="153" name=""/>
            <p:cNvSpPr/>
            <p:nvPr/>
          </p:nvSpPr>
          <p:spPr>
            <a:xfrm>
              <a:off x="1981080" y="2016000"/>
              <a:ext cx="624852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be46b0"/>
                </a:gs>
                <a:gs pos="50000">
                  <a:srgbClr val="ae40a1"/>
                </a:gs>
                <a:gs pos="100000">
                  <a:srgbClr val="be46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1996200" y="2046600"/>
              <a:ext cx="6225480" cy="915480"/>
              <a:chOff x="1996200" y="2046600"/>
              <a:chExt cx="6225480" cy="915480"/>
            </a:xfrm>
          </p:grpSpPr>
          <p:sp>
            <p:nvSpPr>
              <p:cNvPr id="155" name=""/>
              <p:cNvSpPr/>
              <p:nvPr/>
            </p:nvSpPr>
            <p:spPr>
              <a:xfrm>
                <a:off x="1996200" y="272520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46b0">
                      <a:alpha val="0"/>
                    </a:srgbClr>
                  </a:gs>
                  <a:gs pos="100000">
                    <a:srgbClr val="e3b2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996200" y="204660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8c0e3"/>
                  </a:gs>
                  <a:gs pos="100000">
                    <a:srgbClr val="be46b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1752480" y="1787400"/>
            <a:ext cx="611280" cy="608040"/>
            <a:chOff x="1752480" y="1787400"/>
            <a:chExt cx="611280" cy="608040"/>
          </a:xfrm>
        </p:grpSpPr>
        <p:sp>
          <p:nvSpPr>
            <p:cNvPr id="158" name=""/>
            <p:cNvSpPr/>
            <p:nvPr/>
          </p:nvSpPr>
          <p:spPr>
            <a:xfrm>
              <a:off x="1752480" y="178740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1765080" y="1796760"/>
              <a:ext cx="585720" cy="585720"/>
              <a:chOff x="1765080" y="1796760"/>
              <a:chExt cx="585720" cy="585720"/>
            </a:xfrm>
          </p:grpSpPr>
          <p:sp>
            <p:nvSpPr>
              <p:cNvPr id="160" name=""/>
              <p:cNvSpPr/>
              <p:nvPr/>
            </p:nvSpPr>
            <p:spPr>
              <a:xfrm>
                <a:off x="1765080" y="179676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773000" y="180000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79480" y="180468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09360" y="182052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>
            <a:off x="1860480" y="1857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981080" y="3260880"/>
            <a:ext cx="6248520" cy="990000"/>
            <a:chOff x="1981080" y="3260880"/>
            <a:chExt cx="6248520" cy="990000"/>
          </a:xfrm>
        </p:grpSpPr>
        <p:sp>
          <p:nvSpPr>
            <p:cNvPr id="166" name=""/>
            <p:cNvSpPr/>
            <p:nvPr/>
          </p:nvSpPr>
          <p:spPr>
            <a:xfrm>
              <a:off x="1981080" y="3260880"/>
              <a:ext cx="6248520" cy="99000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057ae5"/>
                </a:gs>
                <a:gs pos="50000">
                  <a:srgbClr val="046ccb"/>
                </a:gs>
                <a:gs pos="100000">
                  <a:srgbClr val="057ae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1996200" y="3291480"/>
              <a:ext cx="6225480" cy="915480"/>
              <a:chOff x="1996200" y="3291480"/>
              <a:chExt cx="6225480" cy="915480"/>
            </a:xfrm>
          </p:grpSpPr>
          <p:sp>
            <p:nvSpPr>
              <p:cNvPr id="168" name=""/>
              <p:cNvSpPr/>
              <p:nvPr/>
            </p:nvSpPr>
            <p:spPr>
              <a:xfrm>
                <a:off x="1996200" y="397008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57ae5">
                      <a:alpha val="0"/>
                    </a:srgbClr>
                  </a:gs>
                  <a:gs pos="100000">
                    <a:srgbClr val="97c7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96200" y="329148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ad1f5"/>
                  </a:gs>
                  <a:gs pos="100000">
                    <a:srgbClr val="057ae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"/>
          <p:cNvGrpSpPr/>
          <p:nvPr/>
        </p:nvGrpSpPr>
        <p:grpSpPr>
          <a:xfrm>
            <a:off x="1752480" y="3032280"/>
            <a:ext cx="611280" cy="607680"/>
            <a:chOff x="1752480" y="3032280"/>
            <a:chExt cx="611280" cy="607680"/>
          </a:xfrm>
        </p:grpSpPr>
        <p:sp>
          <p:nvSpPr>
            <p:cNvPr id="171" name=""/>
            <p:cNvSpPr/>
            <p:nvPr/>
          </p:nvSpPr>
          <p:spPr>
            <a:xfrm>
              <a:off x="1752480" y="3032280"/>
              <a:ext cx="611280" cy="60768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65080" y="3041280"/>
              <a:ext cx="585720" cy="585720"/>
              <a:chOff x="1765080" y="3041280"/>
              <a:chExt cx="585720" cy="585720"/>
            </a:xfrm>
          </p:grpSpPr>
          <p:sp>
            <p:nvSpPr>
              <p:cNvPr id="173" name=""/>
              <p:cNvSpPr/>
              <p:nvPr/>
            </p:nvSpPr>
            <p:spPr>
              <a:xfrm>
                <a:off x="1765080" y="304128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73000" y="304452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779480" y="304920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809360" y="306504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"/>
          <p:cNvSpPr/>
          <p:nvPr/>
        </p:nvSpPr>
        <p:spPr>
          <a:xfrm>
            <a:off x="1860480" y="3102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81080" y="4572000"/>
            <a:ext cx="6248520" cy="990360"/>
            <a:chOff x="1981080" y="4572000"/>
            <a:chExt cx="6248520" cy="990360"/>
          </a:xfrm>
        </p:grpSpPr>
        <p:sp>
          <p:nvSpPr>
            <p:cNvPr id="179" name=""/>
            <p:cNvSpPr/>
            <p:nvPr/>
          </p:nvSpPr>
          <p:spPr>
            <a:xfrm>
              <a:off x="1981080" y="4572000"/>
              <a:ext cx="6248520" cy="99036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416f8b"/>
                </a:gs>
                <a:gs pos="50000">
                  <a:srgbClr val="3b657f"/>
                </a:gs>
                <a:gs pos="100000">
                  <a:srgbClr val="416f8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1996200" y="4602600"/>
              <a:ext cx="6225480" cy="915480"/>
              <a:chOff x="1996200" y="4602600"/>
              <a:chExt cx="6225480" cy="915480"/>
            </a:xfrm>
          </p:grpSpPr>
          <p:sp>
            <p:nvSpPr>
              <p:cNvPr id="181" name=""/>
              <p:cNvSpPr/>
              <p:nvPr/>
            </p:nvSpPr>
            <p:spPr>
              <a:xfrm>
                <a:off x="1996200" y="528120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16f8b">
                      <a:alpha val="0"/>
                    </a:srgbClr>
                  </a:gs>
                  <a:gs pos="100000">
                    <a:srgbClr val="b0c2c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96200" y="4602600"/>
                <a:ext cx="6225480" cy="236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eced7"/>
                  </a:gs>
                  <a:gs pos="100000">
                    <a:srgbClr val="416f8b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1752480" y="4343400"/>
            <a:ext cx="611280" cy="608040"/>
            <a:chOff x="1752480" y="4343400"/>
            <a:chExt cx="611280" cy="608040"/>
          </a:xfrm>
        </p:grpSpPr>
        <p:sp>
          <p:nvSpPr>
            <p:cNvPr id="184" name=""/>
            <p:cNvSpPr/>
            <p:nvPr/>
          </p:nvSpPr>
          <p:spPr>
            <a:xfrm>
              <a:off x="1752480" y="4343400"/>
              <a:ext cx="611280" cy="60804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1765080" y="4352760"/>
              <a:ext cx="585720" cy="585720"/>
              <a:chOff x="1765080" y="4352760"/>
              <a:chExt cx="585720" cy="585720"/>
            </a:xfrm>
          </p:grpSpPr>
          <p:sp>
            <p:nvSpPr>
              <p:cNvPr id="186" name=""/>
              <p:cNvSpPr/>
              <p:nvPr/>
            </p:nvSpPr>
            <p:spPr>
              <a:xfrm>
                <a:off x="1765080" y="4352760"/>
                <a:ext cx="585720" cy="5857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773000" y="4356000"/>
                <a:ext cx="569880" cy="571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779480" y="4360680"/>
                <a:ext cx="542880" cy="5349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809360" y="4376520"/>
                <a:ext cx="484200" cy="4334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1860480" y="44132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22440" y="219384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22440" y="347652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22440" y="4770360"/>
            <a:ext cx="5639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066680" y="2057400"/>
            <a:ext cx="7696080" cy="3333600"/>
            <a:chOff x="1066680" y="2057400"/>
            <a:chExt cx="7696080" cy="3333600"/>
          </a:xfrm>
        </p:grpSpPr>
        <p:sp>
          <p:nvSpPr>
            <p:cNvPr id="196" name=""/>
            <p:cNvSpPr/>
            <p:nvPr/>
          </p:nvSpPr>
          <p:spPr>
            <a:xfrm>
              <a:off x="5950440" y="2344680"/>
              <a:ext cx="0" cy="2772720"/>
            </a:xfrm>
            <a:prstGeom prst="line">
              <a:avLst/>
            </a:prstGeom>
            <a:ln w="1260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967360" y="26107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977440" y="34664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77440" y="43034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Cont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11360" y="2902680"/>
              <a:ext cx="265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11360" y="3729960"/>
              <a:ext cx="265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11360" y="4558320"/>
              <a:ext cx="2651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380960" y="2435400"/>
              <a:ext cx="2538000" cy="2557440"/>
            </a:xfrm>
            <a:prstGeom prst="ellipse">
              <a:avLst/>
            </a:prstGeom>
            <a:noFill/>
            <a:ln w="936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1583640" y="2657880"/>
              <a:ext cx="2121480" cy="2163600"/>
              <a:chOff x="1583640" y="2657880"/>
              <a:chExt cx="2121480" cy="2163600"/>
            </a:xfrm>
          </p:grpSpPr>
          <p:sp>
            <p:nvSpPr>
              <p:cNvPr id="205" name=""/>
              <p:cNvSpPr/>
              <p:nvPr/>
            </p:nvSpPr>
            <p:spPr>
              <a:xfrm>
                <a:off x="1583640" y="2657880"/>
                <a:ext cx="2121480" cy="216360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e2e2e2"/>
                  </a:gs>
                </a:gsLst>
                <a:lin ang="13500000"/>
              </a:gradFill>
              <a:ln w="38160">
                <a:solidFill>
                  <a:srgbClr val="f8f8f8"/>
                </a:solidFill>
                <a:miter/>
              </a:ln>
              <a:effectLst>
                <a:outerShdw dist="40186" dir="4303641" blurRad="0" rotWithShape="0">
                  <a:srgbClr val="5f5f5f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71120" y="2742120"/>
                <a:ext cx="1944720" cy="1985400"/>
              </a:xfrm>
              <a:prstGeom prst="ellipse">
                <a:avLst/>
              </a:prstGeom>
              <a:gradFill rotWithShape="0">
                <a:gsLst>
                  <a:gs pos="0">
                    <a:srgbClr val="98b0bf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  <a:effectLst>
                <a:outerShdw dist="0" dir="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30040" y="3121200"/>
                <a:ext cx="1245240" cy="1271520"/>
              </a:xfrm>
              <a:prstGeom prst="ellipse">
                <a:avLst/>
              </a:prstGeom>
              <a:gradFill rotWithShape="0">
                <a:gsLst>
                  <a:gs pos="0">
                    <a:srgbClr val="2d4d60"/>
                  </a:gs>
                  <a:gs pos="100000">
                    <a:srgbClr val="416f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>
              <a:off x="1223640" y="2271240"/>
              <a:ext cx="2869560" cy="2896200"/>
            </a:xfrm>
            <a:prstGeom prst="ellipse">
              <a:avLst/>
            </a:prstGeom>
            <a:noFill/>
            <a:ln w="19080">
              <a:solidFill>
                <a:srgbClr val="b2b2b2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66680" y="3725640"/>
              <a:ext cx="3169800" cy="0"/>
            </a:xfrm>
            <a:prstGeom prst="line">
              <a:avLst/>
            </a:prstGeom>
            <a:ln w="1260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51400" y="2057400"/>
              <a:ext cx="0" cy="3333600"/>
            </a:xfrm>
            <a:prstGeom prst="line">
              <a:avLst/>
            </a:prstGeom>
            <a:ln w="12600">
              <a:solidFill>
                <a:srgbClr val="80808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160080" y="2255400"/>
              <a:ext cx="302760" cy="303120"/>
              <a:chOff x="3160080" y="2255400"/>
              <a:chExt cx="302760" cy="303120"/>
            </a:xfrm>
          </p:grpSpPr>
          <p:sp>
            <p:nvSpPr>
              <p:cNvPr id="212" name=""/>
              <p:cNvSpPr/>
              <p:nvPr/>
            </p:nvSpPr>
            <p:spPr>
              <a:xfrm>
                <a:off x="3160080" y="2255400"/>
                <a:ext cx="302760" cy="303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84200" y="2280600"/>
                <a:ext cx="251640" cy="25200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"/>
            <p:cNvSpPr/>
            <p:nvPr/>
          </p:nvSpPr>
          <p:spPr>
            <a:xfrm>
              <a:off x="3441600" y="2229840"/>
              <a:ext cx="18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39360" y="3535920"/>
              <a:ext cx="185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64760" y="2827800"/>
              <a:ext cx="185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14000" y="4273560"/>
              <a:ext cx="185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35840" y="4843080"/>
              <a:ext cx="185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80808"/>
                  </a:solidFill>
                  <a:latin typeface="Arial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80560" y="3425400"/>
              <a:ext cx="177264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8f8f8"/>
                  </a:solidFill>
                  <a:latin typeface="Times New Roman"/>
                </a:rPr>
                <a:t>Description of the 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3794400" y="2884320"/>
              <a:ext cx="303120" cy="303120"/>
              <a:chOff x="3794400" y="2884320"/>
              <a:chExt cx="303120" cy="303120"/>
            </a:xfrm>
          </p:grpSpPr>
          <p:sp>
            <p:nvSpPr>
              <p:cNvPr id="221" name=""/>
              <p:cNvSpPr/>
              <p:nvPr/>
            </p:nvSpPr>
            <p:spPr>
              <a:xfrm>
                <a:off x="3794400" y="2884320"/>
                <a:ext cx="303120" cy="303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18520" y="2909520"/>
                <a:ext cx="252000" cy="25200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4001400" y="3569760"/>
              <a:ext cx="303120" cy="302760"/>
              <a:chOff x="4001400" y="3569760"/>
              <a:chExt cx="303120" cy="302760"/>
            </a:xfrm>
          </p:grpSpPr>
          <p:sp>
            <p:nvSpPr>
              <p:cNvPr id="224" name=""/>
              <p:cNvSpPr/>
              <p:nvPr/>
            </p:nvSpPr>
            <p:spPr>
              <a:xfrm>
                <a:off x="4001400" y="3569760"/>
                <a:ext cx="303120" cy="30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025520" y="3594960"/>
                <a:ext cx="252000" cy="25164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786120" y="4297680"/>
              <a:ext cx="302760" cy="303120"/>
              <a:chOff x="3786120" y="4297680"/>
              <a:chExt cx="302760" cy="303120"/>
            </a:xfrm>
          </p:grpSpPr>
          <p:sp>
            <p:nvSpPr>
              <p:cNvPr id="227" name=""/>
              <p:cNvSpPr/>
              <p:nvPr/>
            </p:nvSpPr>
            <p:spPr>
              <a:xfrm>
                <a:off x="3786120" y="4297680"/>
                <a:ext cx="302760" cy="303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10240" y="4322880"/>
                <a:ext cx="251640" cy="25200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227760" y="4852800"/>
              <a:ext cx="303120" cy="302760"/>
              <a:chOff x="3227760" y="4852800"/>
              <a:chExt cx="303120" cy="302760"/>
            </a:xfrm>
          </p:grpSpPr>
          <p:sp>
            <p:nvSpPr>
              <p:cNvPr id="230" name=""/>
              <p:cNvSpPr/>
              <p:nvPr/>
            </p:nvSpPr>
            <p:spPr>
              <a:xfrm>
                <a:off x="3227760" y="4852800"/>
                <a:ext cx="303120" cy="30276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251880" y="4878000"/>
                <a:ext cx="252000" cy="251640"/>
              </a:xfrm>
              <a:prstGeom prst="ellipse">
                <a:avLst/>
              </a:prstGeom>
              <a:gradFill rotWithShape="0">
                <a:gsLst>
                  <a:gs pos="0">
                    <a:srgbClr val="85a2b4"/>
                  </a:gs>
                  <a:gs pos="100000">
                    <a:srgbClr val="416f8b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862240" y="2701440"/>
              <a:ext cx="161280" cy="161280"/>
              <a:chOff x="5862240" y="2701440"/>
              <a:chExt cx="161280" cy="161280"/>
            </a:xfrm>
          </p:grpSpPr>
          <p:sp>
            <p:nvSpPr>
              <p:cNvPr id="233" name=""/>
              <p:cNvSpPr/>
              <p:nvPr/>
            </p:nvSpPr>
            <p:spPr>
              <a:xfrm>
                <a:off x="5862240" y="2701440"/>
                <a:ext cx="161280" cy="161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75200" y="2714760"/>
                <a:ext cx="134280" cy="1342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862240" y="3552840"/>
              <a:ext cx="161280" cy="160920"/>
              <a:chOff x="5862240" y="3552840"/>
              <a:chExt cx="161280" cy="160920"/>
            </a:xfrm>
          </p:grpSpPr>
          <p:sp>
            <p:nvSpPr>
              <p:cNvPr id="236" name=""/>
              <p:cNvSpPr/>
              <p:nvPr/>
            </p:nvSpPr>
            <p:spPr>
              <a:xfrm>
                <a:off x="5862240" y="3552840"/>
                <a:ext cx="161280" cy="160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75200" y="3566160"/>
                <a:ext cx="134280" cy="13392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5862240" y="4386960"/>
              <a:ext cx="161280" cy="161280"/>
              <a:chOff x="5862240" y="4386960"/>
              <a:chExt cx="161280" cy="161280"/>
            </a:xfrm>
          </p:grpSpPr>
          <p:sp>
            <p:nvSpPr>
              <p:cNvPr id="239" name=""/>
              <p:cNvSpPr/>
              <p:nvPr/>
            </p:nvSpPr>
            <p:spPr>
              <a:xfrm>
                <a:off x="5862240" y="4386960"/>
                <a:ext cx="161280" cy="1612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b5b5b5"/>
                  </a:gs>
                </a:gsLst>
                <a:lin ang="13500000"/>
              </a:gradFill>
              <a:ln w="12600">
                <a:solidFill>
                  <a:srgbClr val="f8f8f8"/>
                </a:solidFill>
                <a:miter/>
              </a:ln>
              <a:effectLst>
                <a:outerShdw dist="17819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75200" y="4400280"/>
                <a:ext cx="134280" cy="134280"/>
              </a:xfrm>
              <a:prstGeom prst="ellipse">
                <a:avLst/>
              </a:prstGeom>
              <a:gradFill rotWithShape="0">
                <a:gsLst>
                  <a:gs pos="0">
                    <a:srgbClr val="5c5c5c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698480"/>
            <a:ext cx="7994160" cy="4656240"/>
            <a:chOff x="914400" y="1698480"/>
            <a:chExt cx="7994160" cy="4656240"/>
          </a:xfrm>
        </p:grpSpPr>
        <p:sp>
          <p:nvSpPr>
            <p:cNvPr id="243" name=""/>
            <p:cNvSpPr/>
            <p:nvPr/>
          </p:nvSpPr>
          <p:spPr>
            <a:xfrm>
              <a:off x="3070440" y="2494080"/>
              <a:ext cx="2594520" cy="2594520"/>
            </a:xfrm>
            <a:prstGeom prst="ellipse">
              <a:avLst/>
            </a:pr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51520" y="2980800"/>
              <a:ext cx="1531440" cy="1531440"/>
            </a:xfrm>
            <a:prstGeom prst="ellipse">
              <a:avLst/>
            </a:prstGeom>
            <a:solidFill>
              <a:srgbClr val="dcdcd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31160" y="3719160"/>
              <a:ext cx="1441440" cy="7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23880" y="2638080"/>
              <a:ext cx="864720" cy="86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313520" y="4079880"/>
              <a:ext cx="774360" cy="133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48960" y="4007520"/>
              <a:ext cx="21600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448960" y="2782080"/>
              <a:ext cx="504360" cy="79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55240" y="3350160"/>
              <a:ext cx="846720" cy="84672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358800" y="1701360"/>
              <a:ext cx="1105200" cy="1110600"/>
              <a:chOff x="3358800" y="1701360"/>
              <a:chExt cx="1105200" cy="1110600"/>
            </a:xfrm>
          </p:grpSpPr>
          <p:sp>
            <p:nvSpPr>
              <p:cNvPr id="252" name=""/>
              <p:cNvSpPr/>
              <p:nvPr/>
            </p:nvSpPr>
            <p:spPr>
              <a:xfrm>
                <a:off x="3358800" y="1701360"/>
                <a:ext cx="1083960" cy="10911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3391560" y="1735560"/>
                <a:ext cx="1058760" cy="1076400"/>
                <a:chOff x="3391560" y="1735560"/>
                <a:chExt cx="1058760" cy="1076400"/>
              </a:xfrm>
            </p:grpSpPr>
            <p:pic>
              <p:nvPicPr>
                <p:cNvPr id="25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91560" y="1735560"/>
                  <a:ext cx="1014480" cy="102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5" name=""/>
                <p:cNvSpPr/>
                <p:nvPr/>
              </p:nvSpPr>
              <p:spPr>
                <a:xfrm>
                  <a:off x="3391560" y="1735560"/>
                  <a:ext cx="1020960" cy="1026720"/>
                </a:xfrm>
                <a:prstGeom prst="ellipse">
                  <a:avLst/>
                </a:prstGeom>
                <a:solidFill>
                  <a:srgbClr val="057ae5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56" name="" descr=""/>
                <p:cNvPicPr/>
                <p:nvPr/>
              </p:nvPicPr>
              <p:blipFill>
                <a:blip r:embed="rId3"/>
                <a:srcRect l="0" t="14289" r="0" b="0"/>
                <a:stretch/>
              </p:blipFill>
              <p:spPr>
                <a:xfrm>
                  <a:off x="3401280" y="1778040"/>
                  <a:ext cx="747720" cy="640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57" name=""/>
                <p:cNvGrpSpPr/>
                <p:nvPr/>
              </p:nvGrpSpPr>
              <p:grpSpPr>
                <a:xfrm>
                  <a:off x="3723120" y="2148840"/>
                  <a:ext cx="727200" cy="663120"/>
                  <a:chOff x="3723120" y="2148840"/>
                  <a:chExt cx="727200" cy="663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890520" y="2148840"/>
                    <a:ext cx="559800" cy="657000"/>
                    <a:chOff x="3890520" y="2148840"/>
                    <a:chExt cx="559800" cy="65700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 flipH="1" flipV="1" rot="1528800">
                      <a:off x="4202280" y="215064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 flipH="1" flipV="1" rot="2344200">
                      <a:off x="4160160" y="223092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 flipH="1" flipV="1" rot="2640000">
                      <a:off x="4124880" y="2270520"/>
                      <a:ext cx="13248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flipV="1" rot="3172200">
                      <a:off x="4080600" y="231516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23120" y="2329560"/>
                    <a:ext cx="703080" cy="482400"/>
                    <a:chOff x="3723120" y="2329560"/>
                    <a:chExt cx="703080" cy="48240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flipV="1" rot="2881800">
                      <a:off x="4111560" y="228816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flipV="1" rot="3697200">
                      <a:off x="4041720" y="2346840"/>
                      <a:ext cx="13320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 flipH="1" flipV="1" rot="3993000">
                      <a:off x="3993480" y="236844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 flipH="1" flipV="1" rot="4525200">
                      <a:off x="3936960" y="239364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68" name=""/>
              <p:cNvGrpSpPr/>
              <p:nvPr/>
            </p:nvGrpSpPr>
            <p:grpSpPr>
              <a:xfrm>
                <a:off x="3823560" y="2177640"/>
                <a:ext cx="640440" cy="583560"/>
                <a:chOff x="3823560" y="2177640"/>
                <a:chExt cx="640440" cy="58356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3971520" y="2177640"/>
                  <a:ext cx="492480" cy="578520"/>
                  <a:chOff x="3971520" y="2177640"/>
                  <a:chExt cx="492480" cy="5785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flipH="1" flipV="1" rot="1528800">
                    <a:off x="4245480" y="21790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 rot="2344200">
                    <a:off x="4208040" y="224964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 rot="2640000">
                    <a:off x="4177440" y="228384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H="1" flipV="1" rot="3172200">
                    <a:off x="4139280" y="232380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3823560" y="2337120"/>
                  <a:ext cx="619560" cy="424080"/>
                  <a:chOff x="3823560" y="2337120"/>
                  <a:chExt cx="619560" cy="4240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 flipH="1" flipV="1" rot="2881800">
                    <a:off x="4165560" y="2301120"/>
                    <a:ext cx="118080" cy="47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 flipH="1" flipV="1" rot="3697200">
                    <a:off x="4104000" y="2351520"/>
                    <a:ext cx="11808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flipH="1" flipV="1" rot="3993000">
                    <a:off x="4062600" y="2370600"/>
                    <a:ext cx="11808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 flipH="1" flipV="1" rot="4525200">
                    <a:off x="4011480" y="239292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9" name=""/>
              <p:cNvSpPr/>
              <p:nvPr/>
            </p:nvSpPr>
            <p:spPr>
              <a:xfrm>
                <a:off x="3611880" y="209736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2423520" y="3022560"/>
              <a:ext cx="1105560" cy="1111320"/>
              <a:chOff x="2423520" y="3022560"/>
              <a:chExt cx="1105560" cy="1111320"/>
            </a:xfrm>
          </p:grpSpPr>
          <p:sp>
            <p:nvSpPr>
              <p:cNvPr id="281" name=""/>
              <p:cNvSpPr/>
              <p:nvPr/>
            </p:nvSpPr>
            <p:spPr>
              <a:xfrm>
                <a:off x="2423520" y="3022560"/>
                <a:ext cx="1083960" cy="109152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2456280" y="3056760"/>
                <a:ext cx="1059120" cy="1077120"/>
                <a:chOff x="2456280" y="3056760"/>
                <a:chExt cx="1059120" cy="1077120"/>
              </a:xfrm>
            </p:grpSpPr>
            <p:pic>
              <p:nvPicPr>
                <p:cNvPr id="28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56280" y="3056760"/>
                  <a:ext cx="1014480" cy="102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456280" y="3056760"/>
                  <a:ext cx="1020960" cy="1026720"/>
                </a:xfrm>
                <a:prstGeom prst="ellipse">
                  <a:avLst/>
                </a:prstGeom>
                <a:solidFill>
                  <a:srgbClr val="be46b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85" name="" descr=""/>
                <p:cNvPicPr/>
                <p:nvPr/>
              </p:nvPicPr>
              <p:blipFill>
                <a:blip r:embed="rId5"/>
                <a:srcRect l="0" t="14289" r="0" b="0"/>
                <a:stretch/>
              </p:blipFill>
              <p:spPr>
                <a:xfrm>
                  <a:off x="2466000" y="3099240"/>
                  <a:ext cx="747720" cy="641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86" name=""/>
                <p:cNvGrpSpPr/>
                <p:nvPr/>
              </p:nvGrpSpPr>
              <p:grpSpPr>
                <a:xfrm>
                  <a:off x="2787120" y="3470400"/>
                  <a:ext cx="728280" cy="663480"/>
                  <a:chOff x="2787120" y="3470400"/>
                  <a:chExt cx="728280" cy="66348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2955240" y="3470400"/>
                    <a:ext cx="560160" cy="657000"/>
                    <a:chOff x="2955240" y="3470400"/>
                    <a:chExt cx="560160" cy="65700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flipH="1" flipV="1" rot="1528800">
                      <a:off x="3267360" y="347220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flipH="1" flipV="1" rot="2344200">
                      <a:off x="3225240" y="355212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flipH="1" flipV="1" rot="2640000">
                      <a:off x="3190680" y="3591360"/>
                      <a:ext cx="1324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 flipH="1" flipV="1" rot="3172200">
                      <a:off x="3146040" y="363672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2787120" y="3651480"/>
                    <a:ext cx="703440" cy="482400"/>
                    <a:chOff x="2787120" y="3651480"/>
                    <a:chExt cx="703440" cy="48240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flipH="1" flipV="1" rot="2881800">
                      <a:off x="3175920" y="361008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flipH="1" flipV="1" rot="3697200">
                      <a:off x="3106080" y="3668400"/>
                      <a:ext cx="13320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 flipH="1" flipV="1" rot="3993000">
                      <a:off x="3058560" y="369036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 flipH="1" flipV="1" rot="4525200">
                      <a:off x="3000960" y="371592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7" name=""/>
              <p:cNvGrpSpPr/>
              <p:nvPr/>
            </p:nvGrpSpPr>
            <p:grpSpPr>
              <a:xfrm>
                <a:off x="2888280" y="3498840"/>
                <a:ext cx="640800" cy="583920"/>
                <a:chOff x="2888280" y="3498840"/>
                <a:chExt cx="640800" cy="583920"/>
              </a:xfrm>
            </p:grpSpPr>
            <p:grpSp>
              <p:nvGrpSpPr>
                <p:cNvPr id="298" name=""/>
                <p:cNvGrpSpPr/>
                <p:nvPr/>
              </p:nvGrpSpPr>
              <p:grpSpPr>
                <a:xfrm>
                  <a:off x="3036600" y="3498840"/>
                  <a:ext cx="492480" cy="578520"/>
                  <a:chOff x="3036600" y="3498840"/>
                  <a:chExt cx="492480" cy="578520"/>
                </a:xfrm>
              </p:grpSpPr>
              <p:sp>
                <p:nvSpPr>
                  <p:cNvPr id="299" name=""/>
                  <p:cNvSpPr/>
                  <p:nvPr/>
                </p:nvSpPr>
                <p:spPr>
                  <a:xfrm flipH="1" flipV="1" rot="1528800">
                    <a:off x="3310560" y="35002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 flipV="1" rot="2344200">
                    <a:off x="3273120" y="357084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flipV="1" rot="2640000">
                    <a:off x="3242160" y="360504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 flipV="1" rot="3172200">
                    <a:off x="3204360" y="364500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2888280" y="3657960"/>
                  <a:ext cx="620280" cy="424800"/>
                  <a:chOff x="2888280" y="3657960"/>
                  <a:chExt cx="620280" cy="4248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H="1" flipV="1" rot="2881800">
                    <a:off x="3230640" y="362196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 flipV="1" rot="3697200">
                    <a:off x="3169440" y="367200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 flipV="1" rot="3993000">
                    <a:off x="3127320" y="369216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flipV="1" rot="4525200">
                    <a:off x="3076200" y="371448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8" name=""/>
              <p:cNvSpPr/>
              <p:nvPr/>
            </p:nvSpPr>
            <p:spPr>
              <a:xfrm>
                <a:off x="2676600" y="341892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476160" y="5243400"/>
              <a:ext cx="1105560" cy="1111320"/>
              <a:chOff x="3476160" y="5243400"/>
              <a:chExt cx="1105560" cy="1111320"/>
            </a:xfrm>
          </p:grpSpPr>
          <p:sp>
            <p:nvSpPr>
              <p:cNvPr id="310" name=""/>
              <p:cNvSpPr/>
              <p:nvPr/>
            </p:nvSpPr>
            <p:spPr>
              <a:xfrm>
                <a:off x="3476160" y="5243400"/>
                <a:ext cx="1083960" cy="109152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1" name=""/>
              <p:cNvGrpSpPr/>
              <p:nvPr/>
            </p:nvGrpSpPr>
            <p:grpSpPr>
              <a:xfrm>
                <a:off x="3508920" y="5277600"/>
                <a:ext cx="1059120" cy="1077120"/>
                <a:chOff x="3508920" y="5277600"/>
                <a:chExt cx="1059120" cy="1077120"/>
              </a:xfrm>
            </p:grpSpPr>
            <p:pic>
              <p:nvPicPr>
                <p:cNvPr id="312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508920" y="5277600"/>
                  <a:ext cx="1014480" cy="102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3" name=""/>
                <p:cNvSpPr/>
                <p:nvPr/>
              </p:nvSpPr>
              <p:spPr>
                <a:xfrm>
                  <a:off x="3508920" y="5277600"/>
                  <a:ext cx="1020960" cy="1026720"/>
                </a:xfrm>
                <a:prstGeom prst="ellipse">
                  <a:avLst/>
                </a:prstGeom>
                <a:solidFill>
                  <a:srgbClr val="416f8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14" name="" descr=""/>
                <p:cNvPicPr/>
                <p:nvPr/>
              </p:nvPicPr>
              <p:blipFill>
                <a:blip r:embed="rId7"/>
                <a:srcRect l="0" t="14289" r="0" b="0"/>
                <a:stretch/>
              </p:blipFill>
              <p:spPr>
                <a:xfrm>
                  <a:off x="3518640" y="5320080"/>
                  <a:ext cx="747720" cy="641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15" name=""/>
                <p:cNvGrpSpPr/>
                <p:nvPr/>
              </p:nvGrpSpPr>
              <p:grpSpPr>
                <a:xfrm>
                  <a:off x="3839760" y="5691240"/>
                  <a:ext cx="728280" cy="663480"/>
                  <a:chOff x="3839760" y="5691240"/>
                  <a:chExt cx="728280" cy="663480"/>
                </a:xfrm>
              </p:grpSpPr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4007880" y="5691240"/>
                    <a:ext cx="560160" cy="657000"/>
                    <a:chOff x="4007880" y="5691240"/>
                    <a:chExt cx="560160" cy="65700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flipH="1" flipV="1" rot="1528800">
                      <a:off x="4320000" y="569304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flipH="1" flipV="1" rot="2344200">
                      <a:off x="4277880" y="577296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 flipH="1" flipV="1" rot="2640000">
                      <a:off x="4243320" y="5812200"/>
                      <a:ext cx="1324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 flipH="1" flipV="1" rot="3172200">
                      <a:off x="4198680" y="585756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3839760" y="5872320"/>
                    <a:ext cx="703440" cy="482400"/>
                    <a:chOff x="3839760" y="5872320"/>
                    <a:chExt cx="703440" cy="482400"/>
                  </a:xfrm>
                </p:grpSpPr>
                <p:sp>
                  <p:nvSpPr>
                    <p:cNvPr id="322" name=""/>
                    <p:cNvSpPr/>
                    <p:nvPr/>
                  </p:nvSpPr>
                  <p:spPr>
                    <a:xfrm flipH="1" flipV="1" rot="2881800">
                      <a:off x="4228560" y="583092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 flipH="1" flipV="1" rot="3697200">
                      <a:off x="4158720" y="5889240"/>
                      <a:ext cx="13320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flipH="1" flipV="1" rot="3993000">
                      <a:off x="4111200" y="591120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 flipH="1" flipV="1" rot="4525200">
                      <a:off x="4053600" y="593676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6" name=""/>
              <p:cNvGrpSpPr/>
              <p:nvPr/>
            </p:nvGrpSpPr>
            <p:grpSpPr>
              <a:xfrm>
                <a:off x="3940920" y="5719680"/>
                <a:ext cx="640800" cy="583920"/>
                <a:chOff x="3940920" y="5719680"/>
                <a:chExt cx="640800" cy="58392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4089240" y="5719680"/>
                  <a:ext cx="492480" cy="578520"/>
                  <a:chOff x="4089240" y="5719680"/>
                  <a:chExt cx="492480" cy="57852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flipH="1" flipV="1" rot="1528800">
                    <a:off x="4363200" y="572112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flipH="1" flipV="1" rot="2344200">
                    <a:off x="4325760" y="57916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 flipV="1" rot="2640000">
                    <a:off x="4294800" y="582588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 flipV="1" rot="3172200">
                    <a:off x="4257000" y="586584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3940920" y="5878800"/>
                  <a:ext cx="620280" cy="424800"/>
                  <a:chOff x="3940920" y="5878800"/>
                  <a:chExt cx="620280" cy="42480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 flipH="1" flipV="1" rot="2881800">
                    <a:off x="4283280" y="584280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 flipH="1" flipV="1" rot="3697200">
                    <a:off x="4222080" y="589284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flipH="1" flipV="1" rot="3993000">
                    <a:off x="4179960" y="591300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flipH="1" flipV="1" rot="4525200">
                    <a:off x="4128840" y="593532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7" name=""/>
              <p:cNvSpPr/>
              <p:nvPr/>
            </p:nvSpPr>
            <p:spPr>
              <a:xfrm>
                <a:off x="3729240" y="563976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452200" y="4004640"/>
              <a:ext cx="1105560" cy="1111320"/>
              <a:chOff x="5452200" y="4004640"/>
              <a:chExt cx="1105560" cy="1111320"/>
            </a:xfrm>
          </p:grpSpPr>
          <p:sp>
            <p:nvSpPr>
              <p:cNvPr id="339" name=""/>
              <p:cNvSpPr/>
              <p:nvPr/>
            </p:nvSpPr>
            <p:spPr>
              <a:xfrm>
                <a:off x="5452200" y="4004640"/>
                <a:ext cx="1083960" cy="109152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5484960" y="4038840"/>
                <a:ext cx="1059120" cy="1077120"/>
                <a:chOff x="5484960" y="4038840"/>
                <a:chExt cx="1059120" cy="1077120"/>
              </a:xfrm>
            </p:grpSpPr>
            <p:pic>
              <p:nvPicPr>
                <p:cNvPr id="34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5484960" y="4038840"/>
                  <a:ext cx="1014480" cy="1024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"/>
                <p:cNvSpPr/>
                <p:nvPr/>
              </p:nvSpPr>
              <p:spPr>
                <a:xfrm>
                  <a:off x="5484960" y="4038840"/>
                  <a:ext cx="1020960" cy="1026720"/>
                </a:xfrm>
                <a:prstGeom prst="ellipse">
                  <a:avLst/>
                </a:prstGeom>
                <a:solidFill>
                  <a:srgbClr val="99336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3" name="" descr=""/>
                <p:cNvPicPr/>
                <p:nvPr/>
              </p:nvPicPr>
              <p:blipFill>
                <a:blip r:embed="rId9"/>
                <a:srcRect l="0" t="14289" r="0" b="0"/>
                <a:stretch/>
              </p:blipFill>
              <p:spPr>
                <a:xfrm>
                  <a:off x="5494680" y="4081320"/>
                  <a:ext cx="747720" cy="641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44" name=""/>
                <p:cNvGrpSpPr/>
                <p:nvPr/>
              </p:nvGrpSpPr>
              <p:grpSpPr>
                <a:xfrm>
                  <a:off x="5815800" y="4452480"/>
                  <a:ext cx="728280" cy="663480"/>
                  <a:chOff x="5815800" y="4452480"/>
                  <a:chExt cx="728280" cy="663480"/>
                </a:xfrm>
              </p:grpSpPr>
              <p:grpSp>
                <p:nvGrpSpPr>
                  <p:cNvPr id="345" name=""/>
                  <p:cNvGrpSpPr/>
                  <p:nvPr/>
                </p:nvGrpSpPr>
                <p:grpSpPr>
                  <a:xfrm>
                    <a:off x="5983920" y="4452480"/>
                    <a:ext cx="560160" cy="657000"/>
                    <a:chOff x="5983920" y="4452480"/>
                    <a:chExt cx="560160" cy="657000"/>
                  </a:xfrm>
                </p:grpSpPr>
                <p:sp>
                  <p:nvSpPr>
                    <p:cNvPr id="346" name=""/>
                    <p:cNvSpPr/>
                    <p:nvPr/>
                  </p:nvSpPr>
                  <p:spPr>
                    <a:xfrm flipH="1" flipV="1" rot="1528800">
                      <a:off x="6296040" y="445428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 flipH="1" flipV="1" rot="2344200">
                      <a:off x="6253920" y="453420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flipV="1" rot="2640000">
                      <a:off x="6219360" y="4573440"/>
                      <a:ext cx="13248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 flipH="1" flipV="1" rot="3172200">
                      <a:off x="6174720" y="461880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5815800" y="4633560"/>
                    <a:ext cx="703440" cy="482400"/>
                    <a:chOff x="5815800" y="4633560"/>
                    <a:chExt cx="703440" cy="48240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 flipH="1" flipV="1" rot="2881800">
                      <a:off x="6204600" y="459216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H="1" flipV="1" rot="3697200">
                      <a:off x="6134760" y="4650480"/>
                      <a:ext cx="13320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 flipH="1" flipV="1" rot="3993000">
                      <a:off x="6087240" y="467244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flipV="1" rot="4525200">
                      <a:off x="6029640" y="4698000"/>
                      <a:ext cx="133560" cy="54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5" name=""/>
              <p:cNvGrpSpPr/>
              <p:nvPr/>
            </p:nvGrpSpPr>
            <p:grpSpPr>
              <a:xfrm>
                <a:off x="5916960" y="4480920"/>
                <a:ext cx="640800" cy="583920"/>
                <a:chOff x="5916960" y="4480920"/>
                <a:chExt cx="640800" cy="58392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6065280" y="4480920"/>
                  <a:ext cx="492480" cy="578520"/>
                  <a:chOff x="6065280" y="4480920"/>
                  <a:chExt cx="492480" cy="57852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flipH="1" flipV="1" rot="1528800">
                    <a:off x="6339240" y="448236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flipH="1" flipV="1" rot="2344200">
                    <a:off x="6301800" y="455292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flipV="1" rot="2640000">
                    <a:off x="6270840" y="458712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flipH="1" flipV="1" rot="3172200">
                    <a:off x="6233040" y="46270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5916960" y="4640040"/>
                  <a:ext cx="620280" cy="424800"/>
                  <a:chOff x="5916960" y="4640040"/>
                  <a:chExt cx="620280" cy="42480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H="1" flipV="1" rot="2881800">
                    <a:off x="6259320" y="460404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flipH="1" flipV="1" rot="3697200">
                    <a:off x="6198120" y="4654080"/>
                    <a:ext cx="118080" cy="4809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H="1" flipV="1" rot="3993000">
                    <a:off x="6156000" y="467424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flipV="1" rot="4525200">
                    <a:off x="6104880" y="469656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6" name=""/>
              <p:cNvSpPr/>
              <p:nvPr/>
            </p:nvSpPr>
            <p:spPr>
              <a:xfrm>
                <a:off x="5705280" y="440100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593320" y="1818360"/>
              <a:ext cx="1105200" cy="1110600"/>
              <a:chOff x="5593320" y="1818360"/>
              <a:chExt cx="1105200" cy="1110600"/>
            </a:xfrm>
          </p:grpSpPr>
          <p:sp>
            <p:nvSpPr>
              <p:cNvPr id="368" name=""/>
              <p:cNvSpPr/>
              <p:nvPr/>
            </p:nvSpPr>
            <p:spPr>
              <a:xfrm>
                <a:off x="5593320" y="1818360"/>
                <a:ext cx="1083960" cy="1091160"/>
              </a:xfrm>
              <a:prstGeom prst="ellipse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5626080" y="1852560"/>
                <a:ext cx="1058760" cy="1076400"/>
                <a:chOff x="5626080" y="1852560"/>
                <a:chExt cx="1058760" cy="1076400"/>
              </a:xfrm>
            </p:grpSpPr>
            <p:pic>
              <p:nvPicPr>
                <p:cNvPr id="37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626080" y="1852560"/>
                  <a:ext cx="1014480" cy="1024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1" name=""/>
                <p:cNvSpPr/>
                <p:nvPr/>
              </p:nvSpPr>
              <p:spPr>
                <a:xfrm>
                  <a:off x="5626080" y="1852560"/>
                  <a:ext cx="1020960" cy="1026720"/>
                </a:xfrm>
                <a:prstGeom prst="ellipse">
                  <a:avLst/>
                </a:prstGeom>
                <a:solidFill>
                  <a:srgbClr val="f5740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72" name="" descr=""/>
                <p:cNvPicPr/>
                <p:nvPr/>
              </p:nvPicPr>
              <p:blipFill>
                <a:blip r:embed="rId11"/>
                <a:srcRect l="0" t="14289" r="0" b="0"/>
                <a:stretch/>
              </p:blipFill>
              <p:spPr>
                <a:xfrm>
                  <a:off x="5635800" y="1895040"/>
                  <a:ext cx="747720" cy="640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373" name=""/>
                <p:cNvGrpSpPr/>
                <p:nvPr/>
              </p:nvGrpSpPr>
              <p:grpSpPr>
                <a:xfrm>
                  <a:off x="5957640" y="2265840"/>
                  <a:ext cx="727200" cy="663120"/>
                  <a:chOff x="5957640" y="2265840"/>
                  <a:chExt cx="727200" cy="663120"/>
                </a:xfrm>
              </p:grpSpPr>
              <p:grpSp>
                <p:nvGrpSpPr>
                  <p:cNvPr id="374" name=""/>
                  <p:cNvGrpSpPr/>
                  <p:nvPr/>
                </p:nvGrpSpPr>
                <p:grpSpPr>
                  <a:xfrm>
                    <a:off x="6125040" y="2265840"/>
                    <a:ext cx="559800" cy="657000"/>
                    <a:chOff x="6125040" y="2265840"/>
                    <a:chExt cx="559800" cy="657000"/>
                  </a:xfrm>
                </p:grpSpPr>
                <p:sp>
                  <p:nvSpPr>
                    <p:cNvPr id="375" name=""/>
                    <p:cNvSpPr/>
                    <p:nvPr/>
                  </p:nvSpPr>
                  <p:spPr>
                    <a:xfrm flipH="1" flipV="1" rot="1528800">
                      <a:off x="6436800" y="2267640"/>
                      <a:ext cx="13284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 flipH="1" flipV="1" rot="2344200">
                      <a:off x="6394680" y="234792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flipH="1" flipV="1" rot="2640000">
                      <a:off x="6359400" y="2387520"/>
                      <a:ext cx="132480" cy="54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"/>
                    <p:cNvSpPr/>
                    <p:nvPr/>
                  </p:nvSpPr>
                  <p:spPr>
                    <a:xfrm flipH="1" flipV="1" rot="3172200">
                      <a:off x="6315120" y="2432160"/>
                      <a:ext cx="132840" cy="54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9" name=""/>
                  <p:cNvGrpSpPr/>
                  <p:nvPr/>
                </p:nvGrpSpPr>
                <p:grpSpPr>
                  <a:xfrm>
                    <a:off x="5957640" y="2446560"/>
                    <a:ext cx="703080" cy="482400"/>
                    <a:chOff x="5957640" y="2446560"/>
                    <a:chExt cx="703080" cy="482400"/>
                  </a:xfrm>
                </p:grpSpPr>
                <p:sp>
                  <p:nvSpPr>
                    <p:cNvPr id="380" name=""/>
                    <p:cNvSpPr/>
                    <p:nvPr/>
                  </p:nvSpPr>
                  <p:spPr>
                    <a:xfrm flipH="1" flipV="1" rot="2881800">
                      <a:off x="6346080" y="240516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 flipH="1" flipV="1" rot="3697200">
                      <a:off x="6276240" y="2463840"/>
                      <a:ext cx="13320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 flipH="1" flipV="1" rot="3993000">
                      <a:off x="6228000" y="248544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flipV="1" rot="4525200">
                      <a:off x="6171480" y="2510640"/>
                      <a:ext cx="133560" cy="54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84" name=""/>
              <p:cNvGrpSpPr/>
              <p:nvPr/>
            </p:nvGrpSpPr>
            <p:grpSpPr>
              <a:xfrm>
                <a:off x="6058080" y="2294640"/>
                <a:ext cx="640440" cy="583560"/>
                <a:chOff x="6058080" y="2294640"/>
                <a:chExt cx="640440" cy="5835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6206040" y="2294640"/>
                  <a:ext cx="492480" cy="578520"/>
                  <a:chOff x="6206040" y="2294640"/>
                  <a:chExt cx="492480" cy="578520"/>
                </a:xfrm>
              </p:grpSpPr>
              <p:sp>
                <p:nvSpPr>
                  <p:cNvPr id="386" name=""/>
                  <p:cNvSpPr/>
                  <p:nvPr/>
                </p:nvSpPr>
                <p:spPr>
                  <a:xfrm flipH="1" flipV="1" rot="1528800">
                    <a:off x="6480000" y="229608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 flipH="1" flipV="1" rot="2344200">
                    <a:off x="6442560" y="236664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flipH="1" flipV="1" rot="2640000">
                    <a:off x="6411960" y="2400840"/>
                    <a:ext cx="11736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flipH="1" flipV="1" rot="3172200">
                    <a:off x="6373800" y="2440800"/>
                    <a:ext cx="11736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0" name=""/>
                <p:cNvGrpSpPr/>
                <p:nvPr/>
              </p:nvGrpSpPr>
              <p:grpSpPr>
                <a:xfrm>
                  <a:off x="6058080" y="2454120"/>
                  <a:ext cx="619560" cy="424080"/>
                  <a:chOff x="6058080" y="2454120"/>
                  <a:chExt cx="619560" cy="424080"/>
                </a:xfrm>
              </p:grpSpPr>
              <p:sp>
                <p:nvSpPr>
                  <p:cNvPr id="391" name=""/>
                  <p:cNvSpPr/>
                  <p:nvPr/>
                </p:nvSpPr>
                <p:spPr>
                  <a:xfrm flipH="1" flipV="1" rot="2881800">
                    <a:off x="6400080" y="2418120"/>
                    <a:ext cx="118080" cy="479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flipH="1" flipV="1" rot="3697200">
                    <a:off x="6338520" y="2468520"/>
                    <a:ext cx="11808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 flipH="1" flipV="1" rot="3993000">
                    <a:off x="6297120" y="2487600"/>
                    <a:ext cx="118080" cy="48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 rot="4525200">
                    <a:off x="6246000" y="2509920"/>
                    <a:ext cx="118080" cy="48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5" name=""/>
              <p:cNvSpPr/>
              <p:nvPr/>
            </p:nvSpPr>
            <p:spPr>
              <a:xfrm>
                <a:off x="5846400" y="2214360"/>
                <a:ext cx="59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4858920" y="3422520"/>
              <a:ext cx="784080" cy="799200"/>
              <a:chOff x="4858920" y="3422520"/>
              <a:chExt cx="784080" cy="799200"/>
            </a:xfrm>
          </p:grpSpPr>
          <p:pic>
            <p:nvPicPr>
              <p:cNvPr id="397" name="" descr=""/>
              <p:cNvPicPr/>
              <p:nvPr/>
            </p:nvPicPr>
            <p:blipFill>
              <a:blip r:embed="rId12"/>
              <a:stretch/>
            </p:blipFill>
            <p:spPr>
              <a:xfrm rot="4976400">
                <a:off x="4975920" y="3547800"/>
                <a:ext cx="541800" cy="537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8" name=""/>
              <p:cNvSpPr/>
              <p:nvPr/>
            </p:nvSpPr>
            <p:spPr>
              <a:xfrm rot="4977000">
                <a:off x="4977000" y="3545640"/>
                <a:ext cx="539280" cy="537480"/>
              </a:xfrm>
              <a:prstGeom prst="ellipse">
                <a:avLst/>
              </a:prstGeom>
              <a:gradFill rotWithShape="0">
                <a:gsLst>
                  <a:gs pos="0">
                    <a:srgbClr val="3b3b3b"/>
                  </a:gs>
                  <a:gs pos="50000">
                    <a:srgbClr val="808080">
                      <a:alpha val="50196"/>
                    </a:srgbClr>
                  </a:gs>
                  <a:gs pos="100000">
                    <a:srgbClr val="3b3b3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9" name=""/>
              <p:cNvGrpSpPr/>
              <p:nvPr/>
            </p:nvGrpSpPr>
            <p:grpSpPr>
              <a:xfrm>
                <a:off x="4957200" y="3604680"/>
                <a:ext cx="212760" cy="474120"/>
                <a:chOff x="4957200" y="3604680"/>
                <a:chExt cx="212760" cy="474120"/>
              </a:xfrm>
            </p:grpSpPr>
            <p:grpSp>
              <p:nvGrpSpPr>
                <p:cNvPr id="400" name=""/>
                <p:cNvGrpSpPr/>
                <p:nvPr/>
              </p:nvGrpSpPr>
              <p:grpSpPr>
                <a:xfrm>
                  <a:off x="4962240" y="3693960"/>
                  <a:ext cx="207720" cy="384840"/>
                  <a:chOff x="4962240" y="3693960"/>
                  <a:chExt cx="207720" cy="384840"/>
                </a:xfrm>
              </p:grpSpPr>
              <p:sp>
                <p:nvSpPr>
                  <p:cNvPr id="401" name=""/>
                  <p:cNvSpPr/>
                  <p:nvPr/>
                </p:nvSpPr>
                <p:spPr>
                  <a:xfrm flipH="1" flipV="1" rot="8941800">
                    <a:off x="5030280" y="3795120"/>
                    <a:ext cx="7056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 rot="9757200">
                    <a:off x="5007600" y="3753720"/>
                    <a:ext cx="70560" cy="285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 rot="10053000">
                    <a:off x="5001480" y="3727080"/>
                    <a:ext cx="7056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 rot="10585200">
                    <a:off x="4993920" y="3695040"/>
                    <a:ext cx="70560" cy="28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5" name=""/>
                <p:cNvGrpSpPr/>
                <p:nvPr/>
              </p:nvGrpSpPr>
              <p:grpSpPr>
                <a:xfrm>
                  <a:off x="4957200" y="3604680"/>
                  <a:ext cx="159840" cy="399960"/>
                  <a:chOff x="4957200" y="3604680"/>
                  <a:chExt cx="159840" cy="39996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 flipV="1" rot="10294800">
                    <a:off x="4996800" y="3714840"/>
                    <a:ext cx="709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 rot="11110200">
                    <a:off x="4991040" y="3667320"/>
                    <a:ext cx="7128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 rot="11406000">
                    <a:off x="4995000" y="3640680"/>
                    <a:ext cx="709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 rot="11938200">
                    <a:off x="5001480" y="3607920"/>
                    <a:ext cx="70920" cy="285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0" name=""/>
              <p:cNvSpPr/>
              <p:nvPr/>
            </p:nvSpPr>
            <p:spPr>
              <a:xfrm flipH="1" rot="1129200">
                <a:off x="4944960" y="3503880"/>
                <a:ext cx="611640" cy="635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802" y="16773"/>
                    </a:moveTo>
                    <a:arcTo wR="10800" hR="10800" stAng="8785564" swAng="17992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802" y="16773"/>
                    </a:moveTo>
                    <a:arcTo wR="10800" hR="10800" stAng="8785564" swAng="17992071"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11" name="" descr=""/>
              <p:cNvPicPr/>
              <p:nvPr/>
            </p:nvPicPr>
            <p:blipFill>
              <a:blip r:embed="rId13"/>
              <a:srcRect l="0" t="23740" r="0" b="0"/>
              <a:stretch/>
            </p:blipFill>
            <p:spPr>
              <a:xfrm rot="2403600">
                <a:off x="5123880" y="3576600"/>
                <a:ext cx="402120" cy="26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2" name=""/>
            <p:cNvSpPr/>
            <p:nvPr/>
          </p:nvSpPr>
          <p:spPr>
            <a:xfrm>
              <a:off x="7480800" y="2075400"/>
              <a:ext cx="1427760" cy="346320"/>
            </a:xfrm>
            <a:noFill/>
            <a:ln w="9360">
              <a:solidFill>
                <a:srgbClr val="f57409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92440" y="3925080"/>
              <a:ext cx="1428120" cy="370800"/>
            </a:xfrm>
            <a:noFill/>
            <a:ln w="9360">
              <a:solidFill>
                <a:srgbClr val="80808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556640" y="1698480"/>
              <a:ext cx="1507680" cy="411120"/>
            </a:xfrm>
            <a:noFill/>
            <a:ln w="9360">
              <a:solidFill>
                <a:srgbClr val="057ae5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914400" y="4069080"/>
              <a:ext cx="1507320" cy="411120"/>
            </a:xfrm>
            <a:noFill/>
            <a:ln w="9360">
              <a:solidFill>
                <a:srgbClr val="be46b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30400" y="5304960"/>
              <a:ext cx="1428120" cy="370800"/>
            </a:xfrm>
            <a:noFill/>
            <a:ln w="9360">
              <a:solidFill>
                <a:srgbClr val="416f8b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 Description of the busin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27280" y="5377320"/>
              <a:ext cx="3154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hemeGallery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94720" y="5581440"/>
              <a:ext cx="40320" cy="335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1371600" y="1295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7ae5"/>
                </a:solidFill>
                <a:uFillTx/>
                <a:latin typeface="Arial"/>
                <a:hlinkClick r:id="rId1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378080" y="182880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206800" y="5521320"/>
            <a:ext cx="6240240" cy="34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868480" y="2587680"/>
            <a:ext cx="4751640" cy="284616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ecf0f3">
                  <a:alpha val="80000"/>
                </a:srgbClr>
              </a:gs>
              <a:gs pos="100000">
                <a:srgbClr val="416f8b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159000" y="5513400"/>
            <a:ext cx="520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</a:rPr>
              <a:t>01        02        03       04        05        06        07        0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117240" y="4662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50840" y="45514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183920" y="38480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848840" y="3151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06200" y="46148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720" y="38368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522120" y="21798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38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195640" y="5927760"/>
            <a:ext cx="62625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xt in here  (unit: 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60440" y="5599080"/>
            <a:ext cx="6559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</a:rPr>
              <a:t>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386000" y="2684520"/>
            <a:ext cx="163188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301760" y="2592360"/>
            <a:ext cx="38257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03720" y="4933800"/>
            <a:ext cx="129960" cy="13032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86200" y="4883040"/>
            <a:ext cx="130320" cy="13032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495680" y="4218120"/>
            <a:ext cx="130320" cy="12996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3456000"/>
            <a:ext cx="130320" cy="13032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38680" y="4446720"/>
            <a:ext cx="130320" cy="12996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4218120"/>
            <a:ext cx="130320" cy="12996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2541600"/>
            <a:ext cx="130320" cy="13032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515360" y="3152880"/>
            <a:ext cx="129960" cy="129960"/>
          </a:xfrm>
          <a:prstGeom prst="ellipse">
            <a:avLst/>
          </a:prstGeom>
          <a:solidFill>
            <a:srgbClr val="f57409"/>
          </a:soli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2684520"/>
            <a:ext cx="163224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876"/>
              </a:spcBef>
              <a:buClr>
                <a:srgbClr val="416f8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439760" y="287496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78454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447920" y="1752480"/>
            <a:ext cx="6863760" cy="4246560"/>
            <a:chOff x="1447920" y="1752480"/>
            <a:chExt cx="6863760" cy="4246560"/>
          </a:xfrm>
        </p:grpSpPr>
        <p:sp>
          <p:nvSpPr>
            <p:cNvPr id="448" name=""/>
            <p:cNvSpPr/>
            <p:nvPr/>
          </p:nvSpPr>
          <p:spPr>
            <a:xfrm flipV="1">
              <a:off x="1458000" y="4546800"/>
              <a:ext cx="1551960" cy="145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49494">
                    <a:alpha val="20000"/>
                  </a:srgbClr>
                </a:gs>
                <a:gs pos="50000">
                  <a:srgbClr val="eaeaea">
                    <a:alpha val="20000"/>
                  </a:srgbClr>
                </a:gs>
                <a:gs pos="100000">
                  <a:srgbClr val="949494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224880" y="4017240"/>
              <a:ext cx="1551960" cy="1981440"/>
            </a:xfrm>
            <a:prstGeom prst="can">
              <a:avLst>
                <a:gd name="adj" fmla="val 18638"/>
              </a:avLst>
            </a:prstGeom>
            <a:gradFill rotWithShape="0">
              <a:gsLst>
                <a:gs pos="0">
                  <a:srgbClr val="949494">
                    <a:alpha val="20000"/>
                  </a:srgbClr>
                </a:gs>
                <a:gs pos="50000">
                  <a:srgbClr val="eaeaea">
                    <a:alpha val="20000"/>
                  </a:srgbClr>
                </a:gs>
                <a:gs pos="100000">
                  <a:srgbClr val="949494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001840" y="3312720"/>
              <a:ext cx="1541520" cy="2685240"/>
            </a:xfrm>
            <a:prstGeom prst="can">
              <a:avLst>
                <a:gd name="adj" fmla="val 13388"/>
              </a:avLst>
            </a:prstGeom>
            <a:gradFill rotWithShape="0">
              <a:gsLst>
                <a:gs pos="0">
                  <a:srgbClr val="949494">
                    <a:alpha val="20000"/>
                  </a:srgbClr>
                </a:gs>
                <a:gs pos="50000">
                  <a:srgbClr val="eaeaea">
                    <a:alpha val="20000"/>
                  </a:srgbClr>
                </a:gs>
                <a:gs pos="100000">
                  <a:srgbClr val="949494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769800" y="2626560"/>
              <a:ext cx="1541880" cy="3371400"/>
            </a:xfrm>
            <a:prstGeom prst="can">
              <a:avLst>
                <a:gd name="adj" fmla="val 10495"/>
              </a:avLst>
            </a:prstGeom>
            <a:gradFill rotWithShape="0">
              <a:gsLst>
                <a:gs pos="0">
                  <a:srgbClr val="949494">
                    <a:alpha val="20000"/>
                  </a:srgbClr>
                </a:gs>
                <a:gs pos="50000">
                  <a:srgbClr val="eaeaea">
                    <a:alpha val="20000"/>
                  </a:srgbClr>
                </a:gs>
                <a:gs pos="100000">
                  <a:srgbClr val="949494">
                    <a:alpha val="2000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5001840" y="3291840"/>
              <a:ext cx="1541160" cy="475560"/>
              <a:chOff x="5001840" y="3291840"/>
              <a:chExt cx="1541160" cy="475560"/>
            </a:xfrm>
          </p:grpSpPr>
          <p:sp>
            <p:nvSpPr>
              <p:cNvPr id="453" name=""/>
              <p:cNvSpPr/>
              <p:nvPr/>
            </p:nvSpPr>
            <p:spPr>
              <a:xfrm>
                <a:off x="5005800" y="333000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915700"/>
                  </a:gs>
                  <a:gs pos="50000">
                    <a:srgbClr val="ff9900"/>
                  </a:gs>
                  <a:gs pos="100000">
                    <a:srgbClr val="9157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001840" y="329184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ff9900"/>
                  </a:gs>
                  <a:gs pos="100000">
                    <a:srgbClr val="fee0b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768360" y="2611440"/>
              <a:ext cx="1541160" cy="475560"/>
              <a:chOff x="6768360" y="2611440"/>
              <a:chExt cx="1541160" cy="475560"/>
            </a:xfrm>
          </p:grpSpPr>
          <p:sp>
            <p:nvSpPr>
              <p:cNvPr id="456" name=""/>
              <p:cNvSpPr/>
              <p:nvPr/>
            </p:nvSpPr>
            <p:spPr>
              <a:xfrm>
                <a:off x="6772320" y="264960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3a5700"/>
                  </a:gs>
                  <a:gs pos="50000">
                    <a:srgbClr val="669900"/>
                  </a:gs>
                  <a:gs pos="100000">
                    <a:srgbClr val="3a57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68360" y="261144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669900"/>
                  </a:gs>
                  <a:gs pos="100000">
                    <a:srgbClr val="d2e0b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1463760" y="4514760"/>
              <a:ext cx="1541160" cy="475560"/>
              <a:chOff x="1463760" y="4514760"/>
              <a:chExt cx="1541160" cy="475560"/>
            </a:xfrm>
          </p:grpSpPr>
          <p:sp>
            <p:nvSpPr>
              <p:cNvPr id="459" name=""/>
              <p:cNvSpPr/>
              <p:nvPr/>
            </p:nvSpPr>
            <p:spPr>
              <a:xfrm>
                <a:off x="1467720" y="455292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253f4f"/>
                  </a:gs>
                  <a:gs pos="50000">
                    <a:srgbClr val="416f8b"/>
                  </a:gs>
                  <a:gs pos="100000">
                    <a:srgbClr val="253f4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63760" y="451476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416f8b"/>
                  </a:gs>
                  <a:gs pos="100000">
                    <a:srgbClr val="c1d0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234960" y="3970440"/>
              <a:ext cx="1541160" cy="475560"/>
              <a:chOff x="3234960" y="3970440"/>
              <a:chExt cx="1541160" cy="475560"/>
            </a:xfrm>
          </p:grpSpPr>
          <p:sp>
            <p:nvSpPr>
              <p:cNvPr id="462" name=""/>
              <p:cNvSpPr/>
              <p:nvPr/>
            </p:nvSpPr>
            <p:spPr>
              <a:xfrm>
                <a:off x="3238920" y="400860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8b4205"/>
                  </a:gs>
                  <a:gs pos="50000">
                    <a:srgbClr val="f57409"/>
                  </a:gs>
                  <a:gs pos="100000">
                    <a:srgbClr val="8b420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34960" y="3970440"/>
                <a:ext cx="1537200" cy="437400"/>
              </a:xfrm>
              <a:prstGeom prst="ellipse">
                <a:avLst/>
              </a:prstGeom>
              <a:gradFill rotWithShape="0">
                <a:gsLst>
                  <a:gs pos="0">
                    <a:srgbClr val="f57409"/>
                  </a:gs>
                  <a:gs pos="100000">
                    <a:srgbClr val="fad2b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Text Box 9"/>
            <p:cNvSpPr/>
            <p:nvPr/>
          </p:nvSpPr>
          <p:spPr>
            <a:xfrm>
              <a:off x="1475280" y="2057040"/>
              <a:ext cx="373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Arial"/>
                  <a:ea typeface="Arial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447920" y="5115600"/>
              <a:ext cx="1494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27760" y="5115600"/>
              <a:ext cx="14950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17320" y="5115600"/>
              <a:ext cx="1495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790320" y="5115600"/>
              <a:ext cx="1492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10000"/>
                  </a:solidFill>
                  <a:latin typeface="Arial"/>
                  <a:ea typeface="Arial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" name="" descr=""/>
            <p:cNvPicPr/>
            <p:nvPr/>
          </p:nvPicPr>
          <p:blipFill>
            <a:blip r:embed="rId2">
              <a:lum bright="12000"/>
            </a:blip>
            <a:stretch/>
          </p:blipFill>
          <p:spPr>
            <a:xfrm>
              <a:off x="6950880" y="2736000"/>
              <a:ext cx="1087920" cy="20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0" name=""/>
            <p:cNvGrpSpPr/>
            <p:nvPr/>
          </p:nvGrpSpPr>
          <p:grpSpPr>
            <a:xfrm>
              <a:off x="6932160" y="1752480"/>
              <a:ext cx="1149840" cy="1112040"/>
              <a:chOff x="6932160" y="1752480"/>
              <a:chExt cx="1149840" cy="1112040"/>
            </a:xfrm>
          </p:grpSpPr>
          <p:pic>
            <p:nvPicPr>
              <p:cNvPr id="47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32160" y="1752480"/>
                <a:ext cx="1141920" cy="11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6932160" y="1752480"/>
                <a:ext cx="1149840" cy="1112040"/>
              </a:xfrm>
              <a:prstGeom prst="ellipse">
                <a:avLst/>
              </a:prstGeom>
              <a:gradFill rotWithShape="0">
                <a:gsLst>
                  <a:gs pos="0">
                    <a:srgbClr val="99cc00">
                      <a:alpha val="55294"/>
                    </a:srgbClr>
                  </a:gs>
                  <a:gs pos="50000">
                    <a:srgbClr val="465e00">
                      <a:alpha val="90196"/>
                    </a:srgbClr>
                  </a:gs>
                  <a:gs pos="100000">
                    <a:srgbClr val="99cc00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046280" y="1762920"/>
                <a:ext cx="91620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4" name=""/>
            <p:cNvSpPr/>
            <p:nvPr/>
          </p:nvSpPr>
          <p:spPr>
            <a:xfrm>
              <a:off x="7104240" y="208296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" descr=""/>
            <p:cNvPicPr/>
            <p:nvPr/>
          </p:nvPicPr>
          <p:blipFill>
            <a:blip r:embed="rId5">
              <a:lum bright="12000"/>
            </a:blip>
            <a:stretch/>
          </p:blipFill>
          <p:spPr>
            <a:xfrm>
              <a:off x="5208840" y="3388680"/>
              <a:ext cx="1086480" cy="20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"/>
            <p:cNvGrpSpPr/>
            <p:nvPr/>
          </p:nvGrpSpPr>
          <p:grpSpPr>
            <a:xfrm>
              <a:off x="5190120" y="2405160"/>
              <a:ext cx="1148400" cy="1112400"/>
              <a:chOff x="5190120" y="2405160"/>
              <a:chExt cx="1148400" cy="1112400"/>
            </a:xfrm>
          </p:grpSpPr>
          <p:pic>
            <p:nvPicPr>
              <p:cNvPr id="4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190120" y="2405160"/>
                <a:ext cx="1140480" cy="11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5190120" y="2405160"/>
                <a:ext cx="1148400" cy="1112400"/>
              </a:xfrm>
              <a:prstGeom prst="ellipse">
                <a:avLst/>
              </a:prstGeom>
              <a:gradFill rotWithShape="0">
                <a:gsLst>
                  <a:gs pos="0">
                    <a:srgbClr val="ff9900">
                      <a:alpha val="55294"/>
                    </a:srgbClr>
                  </a:gs>
                  <a:gs pos="50000">
                    <a:srgbClr val="754600">
                      <a:alpha val="90196"/>
                    </a:srgbClr>
                  </a:gs>
                  <a:gs pos="100000">
                    <a:srgbClr val="ff9900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304240" y="2415600"/>
                <a:ext cx="914760" cy="392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0" name=""/>
            <p:cNvSpPr/>
            <p:nvPr/>
          </p:nvSpPr>
          <p:spPr>
            <a:xfrm>
              <a:off x="5360760" y="273600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8">
              <a:lum bright="12000"/>
            </a:blip>
            <a:stretch/>
          </p:blipFill>
          <p:spPr>
            <a:xfrm>
              <a:off x="3455280" y="4091040"/>
              <a:ext cx="1087560" cy="20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2" name=""/>
            <p:cNvGrpSpPr/>
            <p:nvPr/>
          </p:nvGrpSpPr>
          <p:grpSpPr>
            <a:xfrm>
              <a:off x="3438000" y="3107520"/>
              <a:ext cx="1148400" cy="1112040"/>
              <a:chOff x="3438000" y="3107520"/>
              <a:chExt cx="1148400" cy="1112040"/>
            </a:xfrm>
          </p:grpSpPr>
          <p:pic>
            <p:nvPicPr>
              <p:cNvPr id="48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438000" y="3107520"/>
                <a:ext cx="1140480" cy="11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3438000" y="3107520"/>
                <a:ext cx="1148400" cy="1112040"/>
              </a:xfrm>
              <a:prstGeom prst="ellipse">
                <a:avLst/>
              </a:prstGeom>
              <a:gradFill rotWithShape="0">
                <a:gsLst>
                  <a:gs pos="0">
                    <a:srgbClr val="f57409">
                      <a:alpha val="55294"/>
                    </a:srgbClr>
                  </a:gs>
                  <a:gs pos="50000">
                    <a:srgbClr val="703504">
                      <a:alpha val="90196"/>
                    </a:srgbClr>
                  </a:gs>
                  <a:gs pos="100000">
                    <a:srgbClr val="f57409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552120" y="3117960"/>
                <a:ext cx="914760" cy="392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6" name=""/>
            <p:cNvSpPr/>
            <p:nvPr/>
          </p:nvSpPr>
          <p:spPr>
            <a:xfrm>
              <a:off x="3608280" y="343800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7" name="" descr=""/>
            <p:cNvPicPr/>
            <p:nvPr/>
          </p:nvPicPr>
          <p:blipFill>
            <a:blip r:embed="rId11">
              <a:lum bright="12000"/>
            </a:blip>
            <a:stretch/>
          </p:blipFill>
          <p:spPr>
            <a:xfrm>
              <a:off x="1665000" y="4624920"/>
              <a:ext cx="1086480" cy="20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"/>
            <p:cNvGrpSpPr/>
            <p:nvPr/>
          </p:nvGrpSpPr>
          <p:grpSpPr>
            <a:xfrm>
              <a:off x="1646280" y="3641040"/>
              <a:ext cx="1149840" cy="1112400"/>
              <a:chOff x="1646280" y="3641040"/>
              <a:chExt cx="1149840" cy="1112400"/>
            </a:xfrm>
          </p:grpSpPr>
          <p:pic>
            <p:nvPicPr>
              <p:cNvPr id="48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1646280" y="3641040"/>
                <a:ext cx="1141920" cy="11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1646280" y="3641040"/>
                <a:ext cx="1149840" cy="1112400"/>
              </a:xfrm>
              <a:prstGeom prst="ellipse">
                <a:avLst/>
              </a:prstGeom>
              <a:gradFill rotWithShape="0">
                <a:gsLst>
                  <a:gs pos="0">
                    <a:srgbClr val="416f8b">
                      <a:alpha val="55294"/>
                    </a:srgbClr>
                  </a:gs>
                  <a:gs pos="50000">
                    <a:srgbClr val="1d3340">
                      <a:alpha val="90196"/>
                    </a:srgbClr>
                  </a:gs>
                  <a:gs pos="100000">
                    <a:srgbClr val="416f8b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60400" y="3651480"/>
                <a:ext cx="916200" cy="392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2" name=""/>
            <p:cNvSpPr/>
            <p:nvPr/>
          </p:nvSpPr>
          <p:spPr>
            <a:xfrm>
              <a:off x="1816200" y="3972240"/>
              <a:ext cx="91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effff"/>
                  </a:solidFill>
                  <a:latin typeface="Arial"/>
                  <a:ea typeface="Arial"/>
                </a:rPr>
                <a:t>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05:54:2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53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