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4172B-65D1-4E69-B521-182DA95B9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1B44-4705-4C86-B255-116D50FB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7C993-A5CA-4E8E-8404-AC1CBAAD9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DD821-A51D-4AD4-8FF7-4DAF6ABE4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CE719-C4B5-4658-A7F0-3D9B4F774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E211A-7692-4656-81FB-E9139229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A2D20-A7CF-4B4E-9A7E-38C2E84B7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D0229-F8EF-4AD0-9C5F-A9188F73E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1BEF-8048-4BFA-9774-EAA35FADE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6096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993BC-F825-45F7-A98B-2086B42C3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5846-B79C-4A78-AEC7-E45DE4F63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5EBC2-EC45-4FCB-A2C2-796205C0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AEAEB-689F-400C-97C0-14E27D71A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FF9A9-DA02-4F11-AD56-B6ACAD53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3D61D-197B-41D2-91D7-F4C90F773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BFBFD-C492-46F2-9481-A087E3970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C31F2-183F-4664-8C4F-29733F0C2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19C8-7DF8-4CEE-B474-AFCFC1E77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2CAF-C2D0-4ABF-8429-84BBE4F13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9817C-3F32-4228-BE41-99AFF3FB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6096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9AA4-BB5A-4615-8FEE-F74716E76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DDBF-8A6F-429C-BD0A-342B4B7E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D375-8A8C-4A72-8BAB-FCB1EBCFD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00FE-46E9-49E9-BD42-FB13C8628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6F42-146E-4187-820D-1F4932429C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0EA1-B30A-4FB2-A48B-0B3447E4AA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666520"/>
            <a:ext cx="5029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alibri"/>
              <a:ea typeface="宋体"/>
            </a:endParaRPr>
          </a:p>
        </p:txBody>
      </p:sp>
      <p:sp>
        <p:nvSpPr>
          <p:cNvPr id="83" name="PlaceHolder 2"/>
          <p:cNvSpPr>
            <a:spLocks noGrp="1"/>
          </p:cNvSpPr>
          <p:nvPr>
            <p:ph type="subTitle"/>
          </p:nvPr>
        </p:nvSpPr>
        <p:spPr>
          <a:xfrm>
            <a:off x="0" y="4038120"/>
            <a:ext cx="3200400" cy="7621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Presentation Subtitle</a:t>
            </a:r>
            <a:endParaRPr b="0" lang="en-US" sz="2400" spc="-1" strike="noStrike">
              <a:solidFill>
                <a:srgbClr val="0000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Calibri"/>
            </a:endParaRPr>
          </a:p>
        </p:txBody>
      </p:sp>
      <p:sp>
        <p:nvSpPr>
          <p:cNvPr id="85" name=""/>
          <p:cNvSpPr/>
          <p:nvPr/>
        </p:nvSpPr>
        <p:spPr>
          <a:xfrm>
            <a:off x="1574280" y="233280"/>
            <a:ext cx="414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医学药物研究医学</a:t>
            </a:r>
            <a:r>
              <a:rPr b="0" lang="zh-CN" sz="4000" spc="-1" strike="noStrike">
                <a:solidFill>
                  <a:srgbClr val="000000"/>
                </a:solidFill>
                <a:latin typeface="Arial"/>
                <a:ea typeface="宋体"/>
              </a:rPr>
              <a:t>幻灯片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2280"/>
            <a:ext cx="6096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87" name=""/>
          <p:cNvSpPr txBox="1"/>
          <p:nvPr/>
        </p:nvSpPr>
        <p:spPr>
          <a:xfrm>
            <a:off x="2133360" y="1600200"/>
            <a:ext cx="6553080" cy="4525920"/>
          </a:xfrm>
          <a:prstGeom prst="rect">
            <a:avLst/>
          </a:prstGeom>
          <a:noFill/>
          <a:ln w="0">
            <a:noFill/>
          </a:ln>
        </p:spPr>
        <p:txBody>
          <a:bodyPr lIns="90000" rIns="90000" tIns="46800" bIns="46800"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Your Text here</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1ede1"/>
                </a:solidFill>
                <a:uFillTx/>
                <a:latin typeface="Calibri"/>
                <a:ea typeface="宋体"/>
                <a:hlinkClick r:id="rId2"/>
              </a:rPr>
              <a:t>http://</a:t>
            </a:r>
            <a:r>
              <a:rPr b="0" lang="en-US" sz="1400" spc="-1" strike="noStrike" u="sng">
                <a:solidFill>
                  <a:srgbClr val="f1ede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1ede1"/>
                </a:solidFill>
                <a:uFillTx/>
                <a:latin typeface="Calibri"/>
                <a:ea typeface="宋体"/>
                <a:hlinkClick r:id="rId7"/>
              </a:rPr>
              <a:t> </a:t>
            </a:r>
            <a:r>
              <a:rPr b="0" lang="en-US" sz="1200" spc="-1" strike="noStrike" u="sng">
                <a:solidFill>
                  <a:srgbClr val="f1ede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1ede1"/>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1ede1"/>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1ede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1ede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1ede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1ede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1ede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1ede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FD504C69-4D01-43C7-8822-8BBF83FFF2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920"/>
            <a:ext cx="609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92" name=""/>
          <p:cNvSpPr txBox="1"/>
          <p:nvPr/>
        </p:nvSpPr>
        <p:spPr>
          <a:xfrm>
            <a:off x="2133360" y="1600200"/>
            <a:ext cx="6553080" cy="4525920"/>
          </a:xfrm>
          <a:prstGeom prst="rect">
            <a:avLst/>
          </a:prstGeom>
          <a:noFill/>
          <a:ln w="0">
            <a:noFill/>
          </a:ln>
        </p:spPr>
        <p:txBody>
          <a:bodyPr lIns="90000" rIns="90000" tIns="46800" bIns="46800"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Your Text here</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
          <p:cNvSpPr/>
          <p:nvPr/>
        </p:nvSpPr>
        <p:spPr>
          <a:xfrm>
            <a:off x="701640" y="1224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1ede1"/>
                </a:solidFill>
                <a:uFillTx/>
                <a:latin typeface="Calibri"/>
                <a:hlinkClick r:id="rId2"/>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6:00:38Z</dcterms:created>
  <dc:creator>幻灯片之家：www.eeppt.com</dc:creator>
  <dc:description>幻灯片之家：www.eeppt.com</dc:description>
  <cp:keywords>幻灯片之家：www.eeppt.com</cp:keywords>
  <dc:language>en-US</dc:language>
  <cp:lastModifiedBy/>
  <dcterms:modified xsi:type="dcterms:W3CDTF">2015-09-18T13:16:54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