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E9DF-FE75-4849-9131-E01D940C7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668E-3442-46DD-A1D6-7A72C36C2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8FCC-22D9-45F7-8399-4C56F3240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334E-9F77-4768-A8B9-F7CF0FC51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8633-BB67-4485-9187-1CBFF28CE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3A05-47AB-4CD1-94D0-BDAD7BA8B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D99C-8B2F-40E2-A30B-E591734A5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61D7-03DB-4102-B58B-D2CB260F4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650B-5EC3-44FD-8A12-9D819D56B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E5A8-3D2F-4106-9C08-1B14CAF6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2704-BFF6-4DC2-9D81-40381F0F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D4D2-3A2A-48B8-8136-8B0BEC92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FA02F-ABBA-48A3-AA34-D760F1573AA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195A0-DC21-4E9D-9783-085BA9CA39F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5831" t="6250" r="0" b="625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1"/>
          <p:cNvSpPr/>
          <p:nvPr/>
        </p:nvSpPr>
        <p:spPr>
          <a:xfrm>
            <a:off x="2953800" y="76500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医院方案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3"/>
          <p:cNvSpPr/>
          <p:nvPr/>
        </p:nvSpPr>
        <p:spPr>
          <a:xfrm>
            <a:off x="7772400" y="3048120"/>
            <a:ext cx="1371600" cy="3682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效果图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rcRect l="22320" t="0" r="0" b="0"/>
          <a:stretch/>
        </p:blipFill>
        <p:spPr>
          <a:xfrm>
            <a:off x="0" y="0"/>
            <a:ext cx="6629400" cy="6827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FCE6-7AE9-442C-8C35-E338C88A68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rcRect l="22320" t="0" r="-29462" b="0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7772400" y="3048120"/>
            <a:ext cx="1371600" cy="3682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研究策划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0AF7-AA19-4C68-97EE-85A716C92C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rcRect l="21877" t="0" r="0" b="3407"/>
          <a:stretch/>
        </p:blipFill>
        <p:spPr>
          <a:xfrm>
            <a:off x="0" y="0"/>
            <a:ext cx="69343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7772400" y="3048120"/>
            <a:ext cx="1371600" cy="3682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总体规划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2F3E-3D99-4D09-8B2E-8569FB54AD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rcRect l="22320" t="0" r="0" b="0"/>
          <a:stretch/>
        </p:blipFill>
        <p:spPr>
          <a:xfrm>
            <a:off x="0" y="0"/>
            <a:ext cx="6629400" cy="68263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7772400" y="3048120"/>
            <a:ext cx="1371600" cy="3682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建筑设计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EF49-B7A3-4813-A945-8272F9E4411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020A-B8CD-45F3-9A9A-A91CF774E2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4992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内容占位符 3" descr="400环境设计篇(硫酸).jpg"/>
          <p:cNvPicPr/>
          <p:nvPr/>
        </p:nvPicPr>
        <p:blipFill>
          <a:blip r:embed="rId2"/>
          <a:stretch/>
        </p:blipFill>
        <p:spPr>
          <a:xfrm>
            <a:off x="0" y="0"/>
            <a:ext cx="48499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7772400" y="3048120"/>
            <a:ext cx="1371600" cy="3682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环境设计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"/>
          <p:cNvSpPr/>
          <p:nvPr/>
        </p:nvSpPr>
        <p:spPr>
          <a:xfrm>
            <a:off x="3941280" y="324468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医院 设计 效果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4950-C075-46AC-A17C-93DABC6F3B0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4T09:16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7:27Z</dcterms:modified>
  <cp:revision>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