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019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1" marL="623880" indent="-23976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2" marL="960120" indent="-19188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3" marL="1343880" indent="-19188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4" marL="1728000" indent="-19188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5" marL="1728000" indent="-19188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  <a:p>
            <a:pPr lvl="6" marL="1728000" indent="-19188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7920" y="1488600"/>
            <a:ext cx="60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ireoDisplay"/>
                <a:ea typeface="宋体"/>
              </a:rPr>
              <a:t>Medical Presentation</a:t>
            </a:r>
            <a:endParaRPr b="0" lang="en-US" sz="44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191120" y="35049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ireoDisplay"/>
                <a:ea typeface="宋体"/>
              </a:rPr>
              <a:t>Add Subtitles Here</a:t>
            </a:r>
            <a:endParaRPr b="0" lang="en-US" sz="24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92920" y="476280"/>
            <a:ext cx="61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用商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ireoDisplay"/>
                <a:ea typeface="宋体"/>
              </a:rPr>
              <a:t>Second Title Page</a:t>
            </a:r>
            <a:endParaRPr b="0" lang="en-US" sz="48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003399"/>
                </a:solidFill>
                <a:latin typeface="AireoDisplay"/>
                <a:ea typeface="宋体"/>
              </a:rPr>
              <a:t>Add Subtopics Here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ireoDisplay"/>
              </a:rPr>
              <a:t>使用规范说明</a:t>
            </a:r>
            <a:endParaRPr b="0" lang="en-US" sz="3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站点介绍：</a:t>
            </a: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ireoDisplay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特别说明：</a:t>
            </a: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ireoDisplay"/>
              </a:rPr>
              <a:t>栏目推荐：</a:t>
            </a:r>
            <a:endParaRPr b="0" lang="en-US" sz="14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99"/>
              </a:solidFill>
              <a:latin typeface="AireoDisplay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6:53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