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47233-17D3-4809-BA3A-EA9268BC9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E5543-79E0-4939-A7E7-F1086BB6D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6868C-80F5-4151-B7BC-191B248A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6DCCF-FE95-405F-81B2-07D8E7BA8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ABCC7-308B-44F3-BF71-ED049BCFA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6E987-D8C8-4296-8E3C-A5AA42442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6AC80-D144-4FAC-BEC4-D03CC00FA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4EBF3-9C44-44C6-85D8-01B11ED73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335BD-B448-4909-A60F-3DFD1FD25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C75F3-148C-401C-9737-A30A15718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A8557-ACC8-4D74-A343-291BF418F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453BA-4E4B-4130-A927-B903223D9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4D74E-B43A-4061-8E6F-E7B1B5E3E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018DC-A80D-4AEB-971A-0E853A371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E901A-A5AF-40A7-B35F-FA2F0ECC4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ED895-219B-4AE3-BF10-A45478AC6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F1C5B-DE17-4AA1-AC60-B91464A8B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0B40A-D820-46FE-83E6-A836E076B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C938A-8D62-4A52-B303-A769B788A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C681-F23C-4275-8288-F567703EA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46FA5-7E9A-4FBB-AD12-09EB3D6E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49B0-7912-40E8-8851-5B013A817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F01ED-F67D-4C9E-BB44-3B15889C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97EE-25F9-40FC-8022-33654E2CC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2BC9-6F4D-4AD7-BBD3-3870D954A92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E869-49E6-46A0-982A-C0D56FF9E5E3}"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8280"/>
            <a:ext cx="807696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游泳体育运动项</a:t>
            </a:r>
            <a:r>
              <a:rPr b="1" lang="zh-CN" sz="4000" spc="-1" strike="noStrike">
                <a:solidFill>
                  <a:srgbClr val="000000"/>
                </a:solidFill>
                <a:latin typeface="Tahoma"/>
                <a:ea typeface="宋体"/>
              </a:rPr>
              <a:t>PPT</a:t>
            </a:r>
            <a:r>
              <a:rPr b="1" lang="zh-CN" sz="4000" spc="-1" strike="noStrike">
                <a:solidFill>
                  <a:srgbClr val="000000"/>
                </a:solidFill>
                <a:latin typeface="Tahoma"/>
                <a:ea typeface="宋体"/>
              </a:rPr>
              <a:t>完整版下载</a:t>
            </a:r>
            <a:endParaRPr b="1" lang="en-US" sz="4000" spc="-1" strike="noStrike">
              <a:solidFill>
                <a:srgbClr val="000000"/>
              </a:solidFill>
              <a:latin typeface="Tahoma"/>
            </a:endParaRPr>
          </a:p>
        </p:txBody>
      </p:sp>
      <p:sp>
        <p:nvSpPr>
          <p:cNvPr id="83" name="PlaceHolder 2"/>
          <p:cNvSpPr>
            <a:spLocks noGrp="1"/>
          </p:cNvSpPr>
          <p:nvPr>
            <p:ph type="subTitle"/>
          </p:nvPr>
        </p:nvSpPr>
        <p:spPr>
          <a:xfrm>
            <a:off x="1981080" y="5790960"/>
            <a:ext cx="5029200" cy="609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宋体"/>
              </a:rPr>
              <a:t>Presentation Subtitle</a:t>
            </a:r>
            <a:endParaRPr b="0" lang="en-US" sz="2000" spc="-1" strike="noStrike">
              <a:solidFill>
                <a:srgbClr val="000000"/>
              </a:solidFill>
              <a:latin typeface="Calibri"/>
            </a:endParaRPr>
          </a:p>
        </p:txBody>
      </p:sp>
      <p:sp>
        <p:nvSpPr>
          <p:cNvPr id="8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
        <p:nvSpPr>
          <p:cNvPr id="86" name=""/>
          <p:cNvSpPr txBox="1"/>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p:nvPr/>
        </p:nvSpPr>
        <p:spPr>
          <a:xfrm>
            <a:off x="755640" y="1341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daf3c"/>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使用规范说明</a:t>
            </a:r>
            <a:endParaRPr b="1" lang="en-US" sz="32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7daf3c"/>
                </a:solidFill>
                <a:uFillTx/>
                <a:latin typeface="Calibri"/>
                <a:ea typeface="宋体"/>
                <a:hlinkClick r:id="rId2"/>
              </a:rPr>
              <a:t>http://</a:t>
            </a:r>
            <a:r>
              <a:rPr b="0" lang="en-US" sz="1400" spc="-1" strike="noStrike" u="sng">
                <a:solidFill>
                  <a:srgbClr val="7daf3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7daf3c"/>
                </a:solidFill>
                <a:uFillTx/>
                <a:latin typeface="Calibri"/>
                <a:ea typeface="宋体"/>
                <a:hlinkClick r:id="rId7"/>
              </a:rPr>
              <a:t> </a:t>
            </a:r>
            <a:r>
              <a:rPr b="0" lang="en-US" sz="1200" spc="-1" strike="noStrike" u="sng">
                <a:solidFill>
                  <a:srgbClr val="7daf3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7daf3c"/>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daf3c"/>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7daf3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7daf3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7daf3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7daf3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daf3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7daf3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12B2769-0857-4360-82DC-EC835449BA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2" name=""/>
          <p:cNvSpPr txBox="1"/>
          <p:nvPr/>
        </p:nvSpPr>
        <p:spPr>
          <a:xfrm>
            <a:off x="2209680" y="1600200"/>
            <a:ext cx="64771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
  <dcterms:modified xsi:type="dcterms:W3CDTF">2015-09-18T13:21:56Z</dcterms:modified>
  <cp:revision>3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