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78A-40FE-44E3-AE49-29BB143B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4EE-89A5-4F99-AFD8-FDCB7F48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B99-9A47-4AED-AF9E-7FB2B905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36B-5AAA-4D74-AEB4-2E34B621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10A0-9137-4ED2-8157-44E0E884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CF58-7BF1-413B-8DF1-1213476B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3FB7-8E48-4193-9C02-F7E8CB94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218B-55C0-41DA-B25D-24EFFCCC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4359-1899-48FC-BD03-10C01C78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58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47E5-6EE2-4547-8198-8881C38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AFB-8DAA-4157-B352-9F63353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4FE-8DF1-4A49-83D7-CFD40413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5199-4CD0-456F-9765-EBE2156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1025-BEDF-4376-8518-AF790EB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DB03-D17F-452E-9B1D-FA0A0757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E73F-F242-4C5E-A69C-2C5C11D2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06BD-DDEC-4887-91B8-5754F9F8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C610-6952-403D-9692-71EC3168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43FB-C072-4D73-BA3D-22BF9A1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3BA5-6C00-4F13-8314-F0D63F4A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5D15-5A40-49BE-9B57-24FC65D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0A269-222E-4192-8253-75DA0852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961-51D3-4A96-8E40-EE7BE4DB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58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C9D5-4FBA-45CB-8CDE-10BD093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832E-CE77-4C20-80B4-1A028BBD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5982-C035-43DE-A43A-55281032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E836-BF55-40FB-BEC1-EF48672F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2B98-012C-443A-AC5B-2CA97E44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B006-1FF5-4930-AAF4-CE359EBD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4E89-71D8-4930-B431-C8E9C61D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AA7D-46F3-4605-8FB3-11E18428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318E-2157-4C9F-9840-8B2DDCD1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3D4A8-CDC0-4F41-B33E-C0664152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F5F-92DB-410A-86FB-35E0460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7834-25FF-4C77-A5C1-7893B761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58C6C-B567-4154-BDF1-6FBD4DEF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58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87CE7-4D39-4E64-96C3-CFC9F49C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FE8E9-0D11-4BB2-A30F-20D33F3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C283-55E1-4A14-BA90-3255F2C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7A75-A901-42C9-AC6E-F17A41E2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B6F3-72AB-4DFC-88A7-1EA0C3EE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5856C-2010-47C1-A484-9EF69529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96F9-0357-4466-B1B5-84C7FA81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153-BF54-4FA3-9BA2-E124ABE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58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721-9EF3-4BFE-A169-107ABC31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0E1-5ED3-4182-A2EE-1340903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C7D-9FD2-42AE-9D15-3DB100A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849-C03C-43FB-968A-581C0E4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moban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c050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977C-ED85-433D-9FFD-437B27B8D9A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6" descr="未标题-1.png"/>
          <p:cNvPicPr/>
          <p:nvPr/>
        </p:nvPicPr>
        <p:blipFill>
          <a:blip r:embed="rId2"/>
          <a:stretch/>
        </p:blipFill>
        <p:spPr>
          <a:xfrm>
            <a:off x="5734080" y="4286160"/>
            <a:ext cx="3664080" cy="278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743040" y="1819440"/>
            <a:ext cx="36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994320" y="162864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Jingjing\桌面\Romantic_stylish_art_drawin.png"/>
          <p:cNvPicPr/>
          <p:nvPr/>
        </p:nvPicPr>
        <p:blipFill>
          <a:blip r:embed="rId4"/>
          <a:stretch/>
        </p:blipFill>
        <p:spPr>
          <a:xfrm>
            <a:off x="0" y="0"/>
            <a:ext cx="5475240" cy="521496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11"/>
          <p:cNvSpPr/>
          <p:nvPr/>
        </p:nvSpPr>
        <p:spPr>
          <a:xfrm>
            <a:off x="642960" y="5000760"/>
            <a:ext cx="78580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c050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F249-E208-48DE-BC05-6AEA01CABE9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6" descr="未标题-1.png"/>
          <p:cNvPicPr/>
          <p:nvPr/>
        </p:nvPicPr>
        <p:blipFill>
          <a:blip r:embed="rId2"/>
          <a:stretch/>
        </p:blipFill>
        <p:spPr>
          <a:xfrm>
            <a:off x="5734080" y="4286160"/>
            <a:ext cx="3664080" cy="278604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8"/>
          <p:cNvSpPr/>
          <p:nvPr/>
        </p:nvSpPr>
        <p:spPr>
          <a:xfrm>
            <a:off x="642960" y="3500280"/>
            <a:ext cx="785808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c050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DC6-5E30-4393-8683-CF99BCD82B8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Jingjing\桌面\Romantic_stylish_art_drawin.png"/>
          <p:cNvPicPr/>
          <p:nvPr/>
        </p:nvPicPr>
        <p:blipFill>
          <a:blip r:embed="rId2"/>
          <a:stretch/>
        </p:blipFill>
        <p:spPr>
          <a:xfrm>
            <a:off x="-142920" y="-1143000"/>
            <a:ext cx="5475240" cy="5214960"/>
          </a:xfrm>
          <a:prstGeom prst="rect">
            <a:avLst/>
          </a:prstGeom>
          <a:ln w="0">
            <a:noFill/>
          </a:ln>
        </p:spPr>
      </p:pic>
      <p:sp>
        <p:nvSpPr>
          <p:cNvPr id="133" name="直接连接符 9"/>
          <p:cNvSpPr/>
          <p:nvPr/>
        </p:nvSpPr>
        <p:spPr>
          <a:xfrm>
            <a:off x="642960" y="4803840"/>
            <a:ext cx="78580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c050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2500-4568-4060-9ADC-118B7202F25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7360" y="3601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Calibri"/>
              </a:rPr>
              <a:t>优雅休闲风格的卡通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c00000"/>
                </a:solidFill>
                <a:latin typeface="Calibri"/>
              </a:rPr>
              <a:t>模板下载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43040" y="3714840"/>
            <a:ext cx="685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DD YOUR TITLE HER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PART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Other information needed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your title1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dd your content Add your conten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dd your content Add your conten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your title2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dd your content Add your conten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dd your content Add your conten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Add your content Add your content</a:t>
            </a: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Add your content Add your conten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5734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FF1-0A0D-4761-9454-8FC1647F10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43040" y="4009680"/>
            <a:ext cx="685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HANKS FOR YOUR LISTENING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37:5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38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