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EF0C-B8A8-4861-994B-F3250778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E5E7-5806-4DF9-99B5-B5EBC290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84E9-24DE-471B-9704-87F6D6CD4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5A44-093D-4C00-A3EE-B632128D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6655-7F5E-423D-A55D-6A82D2CA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F971-2AF7-48C4-8EC2-E4B12C14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26F0-A32C-4537-8EE9-9094653D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F8FE-E5B3-4EAB-9154-B7928295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4CCD-4425-4AB4-B225-9F89AF8E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93CB-4FC8-4D98-BB90-78CF7BD3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86E5-62D7-4776-BE34-40D935BE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15AF-42A1-4286-96CF-9C7B5AE9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A968-AB9C-4D5D-87B3-20DB400A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7A96-4C5B-472E-87AC-4093B73B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51F5-D3FC-4468-84BC-DFE57F08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26F2-931B-45CF-A5E5-A6964829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6466-F10C-47B7-8E95-D4B5C3B4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2DBFD-E435-4B7A-8B03-DFF39479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D0BB0-A190-414E-9990-FF8CC882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5EC07-DEC8-4FD8-993F-394CE7CE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69690-7D11-4AAB-896E-B6890441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3E54A-FC11-4A7A-9A4B-02FE49ED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2E4C-07D4-4C78-AA9B-EDADB171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554D5-8E8B-4A3C-A2CD-0D1D244B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5074F-0B8D-43B7-8EC3-D304EE48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4FDB3-1DDB-44AB-839B-C1203172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17BA5-4009-4811-BE04-ED1FB312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A7450-8750-4EA1-BBDF-9F66C7B0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A91C7-E966-4B2D-A299-1F25F383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B0B32-9871-47FC-A92E-0DFC3E5F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44B1-0EE5-4991-8B46-C3D49960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C94-ABCF-44C3-8020-2F1251C5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58E0-6A9E-47BC-83D6-3D68D311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B68F-47B3-4D99-BA61-0EF1BBC0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17F8-F8D8-4A32-9DCE-F7EA4798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C6AD-63D1-4BA9-A288-D68959ED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D665-3BA2-4C03-9A21-CD4A0FE2FD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7" descr=""/>
          <p:cNvPicPr/>
          <p:nvPr/>
        </p:nvPicPr>
        <p:blipFill>
          <a:blip r:embed="rId2"/>
          <a:stretch/>
        </p:blipFill>
        <p:spPr>
          <a:xfrm>
            <a:off x="0" y="144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9" descr=""/>
          <p:cNvPicPr/>
          <p:nvPr/>
        </p:nvPicPr>
        <p:blipFill>
          <a:blip r:embed="rId2"/>
          <a:stretch/>
        </p:blipFill>
        <p:spPr>
          <a:xfrm>
            <a:off x="0" y="144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2A0D-73F6-4FD4-B9B3-E3432D32F6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90C8-8C69-4D4A-82A5-2EAD6A2F37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7" descr=""/>
          <p:cNvPicPr/>
          <p:nvPr/>
        </p:nvPicPr>
        <p:blipFill>
          <a:blip r:embed="rId2"/>
          <a:stretch/>
        </p:blipFill>
        <p:spPr>
          <a:xfrm>
            <a:off x="0" y="1440"/>
            <a:ext cx="914724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1627200" y="1703520"/>
            <a:ext cx="5889600" cy="345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98989"/>
                </a:solidFill>
                <a:latin typeface="Calibri"/>
              </a:rPr>
              <a:t>炫彩</a:t>
            </a: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898989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C:\Users\ChangChun\Desktop\ppt01.png"/>
          <p:cNvPicPr/>
          <p:nvPr/>
        </p:nvPicPr>
        <p:blipFill>
          <a:blip r:embed="rId1"/>
          <a:stretch/>
        </p:blipFill>
        <p:spPr>
          <a:xfrm>
            <a:off x="1030320" y="2206800"/>
            <a:ext cx="7023240" cy="1901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22160" y="30574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22160" y="155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7842240" y="36360"/>
            <a:ext cx="12794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7842240" y="36360"/>
            <a:ext cx="1279440" cy="944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9640" y="1052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DCB9-3742-4B8C-A775-68E9B811DB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0:19:21Z</dcterms:created>
  <dc:creator>www.eeppt.com</dc:creator>
  <dc:description>www.eeppt.com</dc:description>
  <cp:keywords>www.eeppt.com</cp:keywords>
  <dc:language>en-US</dc:language>
  <cp:lastModifiedBy>Windows 用户</cp:lastModifiedBy>
  <dcterms:modified xsi:type="dcterms:W3CDTF">2015-09-18T13:22:04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TAG2">
    <vt:lpwstr>0008007a10000000000001024100</vt:lpwstr>
  </property>
</Properties>
</file>