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DB7-B6C7-483C-A17C-C37EF5E1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115-079E-4C59-AAF3-BA16A63B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50F-0927-4853-AB1A-91726388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F3E-0DC5-4AC3-A1C3-CCB9D891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42E4-2341-4C86-A20D-965178F9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E102-6466-4C81-98A4-FF992771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FAD1-F774-45BC-BD18-1A352785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7597-2FB7-49F5-836A-5741EB5C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B101-4F82-48AA-8C57-C5119371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4789-F8D7-431F-87DF-CFFA837D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33CB-F781-48A2-9B72-EFC62CC9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4D6-A03E-41C8-90FE-CA28E923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3FED-1519-4201-A2A1-BA087CFD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716B-534A-4599-ACB1-091BECEB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6265-ABCD-4527-AEA3-E1F83952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8AD8-FC97-4A74-BE21-4CC9526F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B332-D01A-4F84-B856-4CFF9348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862-6F40-4E0F-8453-96532CA8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CDC-AA94-493B-80EE-B954A99B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B79-3823-4775-9E29-3930DBCD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CBA-8D2A-4843-862C-2BE854FE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086-B31D-4C70-903D-526C4B4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96C-E03F-4F95-BDD2-2B4C8532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A2C-EFB1-4773-AECA-574E12ED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7269" r="0" b="0"/>
          <a:stretch/>
        </p:blipFill>
        <p:spPr>
          <a:xfrm>
            <a:off x="-4680" y="0"/>
            <a:ext cx="9148680" cy="5719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"/>
          <p:cNvPicPr/>
          <p:nvPr/>
        </p:nvPicPr>
        <p:blipFill>
          <a:blip r:embed="rId3"/>
          <a:stretch/>
        </p:blipFill>
        <p:spPr>
          <a:xfrm>
            <a:off x="6480" y="4494240"/>
            <a:ext cx="2189160" cy="1220760"/>
          </a:xfrm>
          <a:prstGeom prst="rect">
            <a:avLst/>
          </a:prstGeom>
          <a:ln w="0">
            <a:noFill/>
          </a:ln>
        </p:spPr>
      </p:pic>
      <p:pic>
        <p:nvPicPr>
          <p:cNvPr id="2" name="图片 8" descr=""/>
          <p:cNvPicPr/>
          <p:nvPr/>
        </p:nvPicPr>
        <p:blipFill>
          <a:blip r:embed="rId4"/>
          <a:stretch/>
        </p:blipFill>
        <p:spPr>
          <a:xfrm>
            <a:off x="0" y="3073320"/>
            <a:ext cx="259092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085A-B881-4654-A31C-2DE0D757D22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0057-4C67-4014-8AFC-04027D7CBA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2"/>
          <a:srcRect l="0" t="7269" r="0" b="0"/>
          <a:stretch/>
        </p:blipFill>
        <p:spPr>
          <a:xfrm>
            <a:off x="-4680" y="0"/>
            <a:ext cx="9148680" cy="5719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7" descr=""/>
          <p:cNvPicPr/>
          <p:nvPr/>
        </p:nvPicPr>
        <p:blipFill>
          <a:blip r:embed="rId3"/>
          <a:stretch/>
        </p:blipFill>
        <p:spPr>
          <a:xfrm>
            <a:off x="6480" y="4494240"/>
            <a:ext cx="2189160" cy="12207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8" descr=""/>
          <p:cNvPicPr/>
          <p:nvPr/>
        </p:nvPicPr>
        <p:blipFill>
          <a:blip r:embed="rId4"/>
          <a:stretch/>
        </p:blipFill>
        <p:spPr>
          <a:xfrm>
            <a:off x="0" y="3073320"/>
            <a:ext cx="2590920" cy="2160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FBD0-3CA1-4952-B647-AE624CEA89C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EA4D-B036-4310-B90F-5C15C5A6A5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" descr=""/>
          <p:cNvPicPr/>
          <p:nvPr/>
        </p:nvPicPr>
        <p:blipFill>
          <a:blip r:embed="rId1"/>
          <a:srcRect l="0" t="6899" r="0" b="0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727280" y="134460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5234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17400" y="2286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武术体育运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17C-190E-4FAF-922F-859A8F587B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日期占位符 3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A5FD-999A-45BB-B7CC-E5BE845F87C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01:3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11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