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0BAD-DD2E-471D-8A26-D44DEF997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B653-BAF0-4711-96B2-64F2D11F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AD01-DC4C-400B-9001-ADCD2DD6E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F766-F0FE-4126-861D-1AA1DAC6D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A687-4FEC-4CBE-9309-44115451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783F-AFA6-4D21-B64F-64A7264F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5648-9678-4DB8-A180-FE0DB3D3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7DFC8-0A51-448C-9E5E-66AEBF0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92E87-82A5-4F81-A907-0EB9519C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188640"/>
            <a:ext cx="82184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039E-92E8-4658-BA11-3998F45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E451D-5D9B-4E7E-BD22-4554E91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EDC9-2569-4687-B493-6D6776AF2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F97D-0C20-4ECF-89D4-44A0071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5DDC8-3C7A-4E29-BDE0-9567335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9B43B-6719-410D-83A9-C6972D6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25CE4-B75D-47D5-827D-D673A1D6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E0DFC-022B-4409-A313-B92BCDA5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DA73-F2AF-4BC7-B41A-CB9680D9F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F4D7-F918-454F-ACA7-F6AC9A91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877B-0B8F-4595-B333-EB51E000C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88640"/>
            <a:ext cx="82184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E1BA-85C3-4565-9D91-70E449FEE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01EB-2FAE-405E-9EE9-98808079A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E0A4-525F-46B5-B71C-D85111D9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0C47-637A-49AF-BC2C-34D29F0D2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EF1F-D0B6-40BD-A794-D130A3F2B01F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819520"/>
            <a:ext cx="9144000" cy="761760"/>
          </a:xfrm>
          <a:prstGeom prst="rect">
            <a:avLst/>
          </a:prstGeom>
          <a:gradFill rotWithShape="0">
            <a:gsLst>
              <a:gs pos="0">
                <a:srgbClr val="000b0b"/>
              </a:gs>
              <a:gs pos="50000">
                <a:srgbClr val="004e4c"/>
              </a:gs>
              <a:gs pos="100000">
                <a:srgbClr val="000b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352680" y="2133720"/>
            <a:ext cx="2590920" cy="609480"/>
            <a:chOff x="3352680" y="2133720"/>
            <a:chExt cx="2590920" cy="609480"/>
          </a:xfrm>
        </p:grpSpPr>
        <p:sp>
          <p:nvSpPr>
            <p:cNvPr id="42" name=""/>
            <p:cNvSpPr/>
            <p:nvPr/>
          </p:nvSpPr>
          <p:spPr>
            <a:xfrm>
              <a:off x="5715000" y="2406960"/>
              <a:ext cx="0" cy="336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3600" y="2449080"/>
              <a:ext cx="0" cy="294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52680" y="2449080"/>
              <a:ext cx="0" cy="294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22680" y="2406960"/>
              <a:ext cx="0" cy="336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98800" y="2343960"/>
              <a:ext cx="0" cy="399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73480" y="2281320"/>
              <a:ext cx="0" cy="4618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9600" y="2196360"/>
              <a:ext cx="0" cy="5468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24280" y="213372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29200" y="2196720"/>
              <a:ext cx="0" cy="546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7800" y="2259720"/>
              <a:ext cx="0" cy="483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2322720"/>
              <a:ext cx="0" cy="420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360" y="278100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3434-D186-4643-9933-57A6C9BB594C}" type="slidenum"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360" y="278100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震撼企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幻灯片打包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644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Click to add tit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Competitor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Strength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Weaknes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CD38-E4C3-4959-BF2F-FDA736DA0A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Related Docu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3836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7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