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200"/>
            <a:ext cx="80010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460520"/>
            <a:ext cx="8001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6280" y="3318120"/>
            <a:ext cx="8001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25200"/>
            <a:ext cx="80010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460520"/>
            <a:ext cx="39042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460520"/>
            <a:ext cx="39042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318120"/>
            <a:ext cx="39042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960" y="3318120"/>
            <a:ext cx="39042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25200"/>
            <a:ext cx="80010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460520"/>
            <a:ext cx="25761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1680" y="1460520"/>
            <a:ext cx="25761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77080" y="1460520"/>
            <a:ext cx="25761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6280" y="3318120"/>
            <a:ext cx="25761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1680" y="3318120"/>
            <a:ext cx="25761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77080" y="3318120"/>
            <a:ext cx="25761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4200" y="25200"/>
            <a:ext cx="80010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66280" y="1460520"/>
            <a:ext cx="800100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25200"/>
            <a:ext cx="80010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66280" y="1460520"/>
            <a:ext cx="80010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200"/>
            <a:ext cx="80010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460520"/>
            <a:ext cx="39042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960" y="1460520"/>
            <a:ext cx="39042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25200"/>
            <a:ext cx="80010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74200" y="25200"/>
            <a:ext cx="800100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51"/>
              </a:spcBef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25200"/>
            <a:ext cx="80010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460520"/>
            <a:ext cx="39042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460520"/>
            <a:ext cx="39042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66280" y="3318120"/>
            <a:ext cx="39042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200"/>
            <a:ext cx="80010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460520"/>
            <a:ext cx="39042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460520"/>
            <a:ext cx="39042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960" y="3318120"/>
            <a:ext cx="39042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200"/>
            <a:ext cx="80010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460520"/>
            <a:ext cx="39042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460520"/>
            <a:ext cx="39042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318120"/>
            <a:ext cx="8001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200"/>
            <a:ext cx="80010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460520"/>
            <a:ext cx="80010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66120" indent="-36612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SzPct val="25000"/>
              <a:buFont typeface="Wingdings" charset="2"/>
              <a:buChar char="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3402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SzPct val="25000"/>
              <a:buFont typeface="Wingdings" charset="2"/>
              <a:buChar char="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720" indent="-30816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SzPct val="25000"/>
              <a:buFont typeface="Wingdings" charset="2"/>
              <a:buChar char="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0840" indent="-3006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SzPct val="25000"/>
              <a:buFont typeface="Wingdings" charset="2"/>
              <a:buChar char="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32960" indent="-31032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SzPct val="2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32960" indent="-3103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32960" indent="-31032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1"/>
          <p:cNvSpPr/>
          <p:nvPr/>
        </p:nvSpPr>
        <p:spPr>
          <a:xfrm>
            <a:off x="0" y="0"/>
            <a:ext cx="9144000" cy="73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5745240"/>
          </a:xfrm>
          <a:prstGeom prst="rect">
            <a:avLst/>
          </a:prstGeom>
          <a:ln w="0">
            <a:noFill/>
          </a:ln>
        </p:spPr>
      </p:pic>
      <p:sp>
        <p:nvSpPr>
          <p:cNvPr id="40" name="矩形 11"/>
          <p:cNvSpPr/>
          <p:nvPr/>
        </p:nvSpPr>
        <p:spPr>
          <a:xfrm>
            <a:off x="3798720" y="1434960"/>
            <a:ext cx="5345280" cy="1886040"/>
          </a:xfrm>
          <a:prstGeom prst="rect">
            <a:avLst/>
          </a:prstGeom>
          <a:solidFill>
            <a:srgbClr val="9e2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图片 16" descr=""/>
          <p:cNvPicPr/>
          <p:nvPr/>
        </p:nvPicPr>
        <p:blipFill>
          <a:blip r:embed="rId2"/>
          <a:stretch/>
        </p:blipFill>
        <p:spPr>
          <a:xfrm>
            <a:off x="3794040" y="1432080"/>
            <a:ext cx="1621080" cy="514080"/>
          </a:xfrm>
          <a:prstGeom prst="rect">
            <a:avLst/>
          </a:prstGeom>
          <a:ln w="0">
            <a:noFill/>
          </a:ln>
        </p:spPr>
      </p:pic>
      <p:sp>
        <p:nvSpPr>
          <p:cNvPr id="42" name="矩形 28"/>
          <p:cNvSpPr/>
          <p:nvPr/>
        </p:nvSpPr>
        <p:spPr>
          <a:xfrm>
            <a:off x="-23760" y="-4680"/>
            <a:ext cx="2333520" cy="6969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8"/>
          <p:cNvSpPr/>
          <p:nvPr/>
        </p:nvSpPr>
        <p:spPr>
          <a:xfrm>
            <a:off x="3895560" y="2308320"/>
            <a:ext cx="524844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总结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53341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5960" y="41115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总结报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1000" y="194760"/>
            <a:ext cx="78372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目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10800000">
            <a:off x="895320" y="1003320"/>
            <a:ext cx="41054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2" descr="2008113213643690_2"/>
          <p:cNvPicPr/>
          <p:nvPr/>
        </p:nvPicPr>
        <p:blipFill>
          <a:blip r:embed="rId1"/>
          <a:stretch/>
        </p:blipFill>
        <p:spPr>
          <a:xfrm>
            <a:off x="946080" y="1996920"/>
            <a:ext cx="2586240" cy="1646280"/>
          </a:xfrm>
          <a:prstGeom prst="rect">
            <a:avLst/>
          </a:prstGeom>
          <a:ln w="0">
            <a:noFill/>
          </a:ln>
        </p:spPr>
      </p:pic>
      <p:sp>
        <p:nvSpPr>
          <p:cNvPr id="49" name="直接连接符 13"/>
          <p:cNvSpPr/>
          <p:nvPr/>
        </p:nvSpPr>
        <p:spPr>
          <a:xfrm>
            <a:off x="3745080" y="1600200"/>
            <a:ext cx="0" cy="2873520"/>
          </a:xfrm>
          <a:prstGeom prst="line">
            <a:avLst/>
          </a:prstGeom>
          <a:ln w="19080">
            <a:solidFill>
              <a:srgbClr val="9e2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>
            <a:off x="4102200" y="1816200"/>
            <a:ext cx="355680" cy="269640"/>
          </a:xfrm>
          <a:prstGeom prst="rect">
            <a:avLst/>
          </a:prstGeom>
          <a:solidFill>
            <a:srgbClr val="9e2036"/>
          </a:solidFill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7"/>
          <p:cNvSpPr/>
          <p:nvPr/>
        </p:nvSpPr>
        <p:spPr>
          <a:xfrm>
            <a:off x="4102200" y="2252520"/>
            <a:ext cx="355680" cy="268560"/>
          </a:xfrm>
          <a:prstGeom prst="rect">
            <a:avLst/>
          </a:prstGeom>
          <a:solidFill>
            <a:srgbClr val="9e2036"/>
          </a:solidFill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9"/>
          <p:cNvSpPr/>
          <p:nvPr/>
        </p:nvSpPr>
        <p:spPr>
          <a:xfrm>
            <a:off x="4102200" y="2685960"/>
            <a:ext cx="355680" cy="270000"/>
          </a:xfrm>
          <a:prstGeom prst="rect">
            <a:avLst/>
          </a:prstGeom>
          <a:solidFill>
            <a:srgbClr val="9e2036"/>
          </a:solidFill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4102200" y="3119400"/>
            <a:ext cx="355680" cy="270000"/>
          </a:xfrm>
          <a:prstGeom prst="rect">
            <a:avLst/>
          </a:prstGeom>
          <a:solidFill>
            <a:srgbClr val="9e2036"/>
          </a:solidFill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4102200" y="3554280"/>
            <a:ext cx="355680" cy="268560"/>
          </a:xfrm>
          <a:prstGeom prst="rect">
            <a:avLst/>
          </a:prstGeom>
          <a:solidFill>
            <a:srgbClr val="9e2036"/>
          </a:solidFill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"/>
          <p:cNvGrpSpPr/>
          <p:nvPr/>
        </p:nvGrpSpPr>
        <p:grpSpPr>
          <a:xfrm>
            <a:off x="4457880" y="1816200"/>
            <a:ext cx="3700440" cy="2441520"/>
            <a:chOff x="4457880" y="1816200"/>
            <a:chExt cx="3700440" cy="2441520"/>
          </a:xfrm>
        </p:grpSpPr>
        <p:sp>
          <p:nvSpPr>
            <p:cNvPr id="56" name="矩形 14"/>
            <p:cNvSpPr/>
            <p:nvPr/>
          </p:nvSpPr>
          <p:spPr>
            <a:xfrm>
              <a:off x="4457880" y="1816200"/>
              <a:ext cx="3700440" cy="26892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6"/>
            <p:cNvSpPr/>
            <p:nvPr/>
          </p:nvSpPr>
          <p:spPr>
            <a:xfrm>
              <a:off x="4457880" y="2251800"/>
              <a:ext cx="3700440" cy="26892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8"/>
            <p:cNvSpPr/>
            <p:nvPr/>
          </p:nvSpPr>
          <p:spPr>
            <a:xfrm>
              <a:off x="4457880" y="2685960"/>
              <a:ext cx="3700440" cy="26892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4457880" y="3120120"/>
              <a:ext cx="3700440" cy="26892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2"/>
            <p:cNvSpPr/>
            <p:nvPr/>
          </p:nvSpPr>
          <p:spPr>
            <a:xfrm>
              <a:off x="4457880" y="3554280"/>
              <a:ext cx="3700440" cy="26892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4"/>
            <p:cNvSpPr/>
            <p:nvPr/>
          </p:nvSpPr>
          <p:spPr>
            <a:xfrm>
              <a:off x="4457880" y="3988800"/>
              <a:ext cx="3700440" cy="268920"/>
            </a:xfrm>
            <a:prstGeom prst="rect">
              <a:avLst/>
            </a:prstGeom>
            <a:solidFill>
              <a:srgbClr val="d8d8d8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矩形 25"/>
          <p:cNvSpPr/>
          <p:nvPr/>
        </p:nvSpPr>
        <p:spPr>
          <a:xfrm>
            <a:off x="4102200" y="3987720"/>
            <a:ext cx="355680" cy="270000"/>
          </a:xfrm>
          <a:prstGeom prst="rect">
            <a:avLst/>
          </a:prstGeom>
          <a:solidFill>
            <a:srgbClr val="9e2036"/>
          </a:solidFill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1000" y="194760"/>
            <a:ext cx="78372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内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0" y="0"/>
            <a:ext cx="9144000" cy="57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0680" bIns="406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C:\Documents and Settings\Administrator\桌面\11.jpg"/>
          <p:cNvPicPr/>
          <p:nvPr/>
        </p:nvPicPr>
        <p:blipFill>
          <a:blip r:embed="rId1"/>
          <a:srcRect l="0" t="12198" r="0" b="29267"/>
          <a:stretch/>
        </p:blipFill>
        <p:spPr>
          <a:xfrm>
            <a:off x="1546200" y="2209680"/>
            <a:ext cx="6242040" cy="1729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81560" y="1390680"/>
            <a:ext cx="465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e2036"/>
                </a:solidFill>
                <a:latin typeface="微软雅黑"/>
                <a:ea typeface="微软雅黑"/>
              </a:rPr>
              <a:t>THANKS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"/>
          <p:cNvSpPr/>
          <p:nvPr/>
        </p:nvSpPr>
        <p:spPr>
          <a:xfrm>
            <a:off x="-11160" y="-11160"/>
            <a:ext cx="2351160" cy="7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1:19:00Z</dcterms:created>
  <dc:creator>www.eeppt.com</dc:creator>
  <dc:description>www.eeppt.com</dc:description>
  <cp:keywords>www.eeppt.com</cp:keywords>
  <dc:language>en-US</dc:language>
  <cp:lastModifiedBy>for_yang@qq.com</cp:lastModifiedBy>
  <dcterms:modified xsi:type="dcterms:W3CDTF">2015-09-18T13:20:08Z</dcterms:modified>
  <cp:revision>110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