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0C12451-14D9-4814-A3AF-FCF89B5D54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Kostenlose Vorlage Fussball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26040"/>
            <a:ext cx="74851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3640" y="5786280"/>
            <a:ext cx="75103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7920" y="58428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足球场球门运动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eader WM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970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Kostenlose Vorlage Fussball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26040"/>
            <a:ext cx="74851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5:2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4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