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E29B4-A715-4DD3-B6FB-889580E6C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971440" y="-36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971440" y="1219320"/>
            <a:ext cx="6172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971440" y="3766680"/>
            <a:ext cx="6172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28FF9-6654-48C2-A5CD-DE5FC41B4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971440" y="-36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971440" y="1219320"/>
            <a:ext cx="30117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34040" y="1219320"/>
            <a:ext cx="30117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971440" y="3766680"/>
            <a:ext cx="30117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134040" y="3766680"/>
            <a:ext cx="30117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ADB2A-E4FC-4DB9-8639-AC7AA08E2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971440" y="-36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971440" y="1219320"/>
            <a:ext cx="1987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058360" y="1219320"/>
            <a:ext cx="1987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145280" y="1219320"/>
            <a:ext cx="1987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971440" y="3766680"/>
            <a:ext cx="1987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5058360" y="3766680"/>
            <a:ext cx="1987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145280" y="3766680"/>
            <a:ext cx="1987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1235E-BCAE-4CB0-9957-BED40DDC8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971440" y="-36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971440" y="1219320"/>
            <a:ext cx="61722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F8832-8E9C-4B66-81C7-D5A613545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971440" y="-36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971440" y="1219320"/>
            <a:ext cx="6172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2AF61-898B-4389-9E25-02CDC9D96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971440" y="-36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971440" y="1219320"/>
            <a:ext cx="30117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134040" y="1219320"/>
            <a:ext cx="30117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FC1D6-F672-458D-88AC-51FC44A93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971440" y="-36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C8037-E7CB-45D6-ADEF-7ECE68C65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971440" y="-360"/>
            <a:ext cx="61722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A1766-837A-44A0-9D97-98094CB2C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971440" y="-36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971440" y="1219320"/>
            <a:ext cx="30117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134040" y="1219320"/>
            <a:ext cx="30117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971440" y="3766680"/>
            <a:ext cx="30117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5BDE7-DAA0-442E-B133-1EF5EC7F9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971440" y="-36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971440" y="1219320"/>
            <a:ext cx="30117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134040" y="1219320"/>
            <a:ext cx="30117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134040" y="3766680"/>
            <a:ext cx="30117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F26BB-0967-4631-9A92-CF1E3C30A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971440" y="-36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971440" y="1219320"/>
            <a:ext cx="30117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134040" y="1219320"/>
            <a:ext cx="30117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971440" y="3766680"/>
            <a:ext cx="6172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16121-98F3-4130-AC5A-58D336117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971440" y="-36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971440" y="1219320"/>
            <a:ext cx="6172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BD164-88D7-4752-B190-6B101B020A3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29718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d817"/>
                </a:solidFill>
                <a:latin typeface="Arial"/>
                <a:ea typeface="宋体"/>
              </a:rPr>
              <a:t>4●4●2</a:t>
            </a:r>
            <a:endParaRPr b="1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33520" y="4266720"/>
            <a:ext cx="72388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Your Subtitle Goes 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9280" y="652608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65080" y="1628640"/>
            <a:ext cx="4153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足球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模板完整版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971440" y="-36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Your Topic Goes Here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971440" y="1219320"/>
            <a:ext cx="6172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Your Subtopics Go 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971440" y="-36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Your Topic Goes Here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971440" y="1219320"/>
            <a:ext cx="6172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Your Subtopics Go 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203640" y="263700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71392-3077-44DC-ACA8-FF1EC0ED409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2590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"/>
                <a:ea typeface="宋体"/>
              </a:rPr>
              <a:t>Transitional Page</a:t>
            </a:r>
            <a:endParaRPr b="1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7:20:00Z</dcterms:created>
  <dc:creator>幻灯片之家：www.eeppt.com</dc:creator>
  <dc:description>幻灯片之家：www.eeppt.com</dc:description>
  <cp:keywords>幻灯片之家：www.eeppt.com</cp:keywords>
  <dc:language>en-US</dc:language>
  <cp:lastModifiedBy/>
  <dcterms:modified xsi:type="dcterms:W3CDTF">2015-09-18T13:25:31Z</dcterms:modified>
  <cp:revision>2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