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E89-00C5-47A6-85BD-628849A3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070880"/>
            <a:ext cx="7391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AF3-ACE9-4FEB-985C-B0C68A8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070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070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472-2CA6-4F03-9AF3-7C9837F6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52352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52352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07088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07088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07088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95F-8BCD-47C1-8E4F-D5F8A97D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8AA0-05C7-4F58-BB6E-BC98975A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F6FA-F402-4173-B8B5-D7A39EDE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1C15-69D2-49B0-B789-4506B8CC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5774-8A2D-413B-9DE1-0F8D6403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1607-E6B9-473B-A99D-BEFB79AD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221D-DC67-4EB2-9DD1-C954D4E8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070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5AD8-5503-4788-8F90-596F7EAC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8B1-23C4-499C-9853-B7BDAEB1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070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140F-7BC6-4853-95BB-926A6D16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070880"/>
            <a:ext cx="7391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AF87-53B6-4F0B-9140-13E8A9D4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070880"/>
            <a:ext cx="7391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53C5-CCAE-44E9-AA5B-11287219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070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070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59F4-6291-4777-9ACD-B2822BDE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52352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52352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07088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07088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070880"/>
            <a:ext cx="237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D36E-75F9-485E-BF76-D2000697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641-4B3B-4304-8499-DB88D9A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145-5CF3-4FC9-8A18-0257EDFF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2D7-3C30-46BA-B30C-73ABDECF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DCF-DBE1-4433-8FAD-4F871094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070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36D-758E-4CD3-8A12-250E6966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070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3FA-F7F9-4C63-B378-209E2116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523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070880"/>
            <a:ext cx="7391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629-FDC9-4C8F-906B-C148614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A121-A543-4015-AE85-9585FE55E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EA0-BCD7-4994-BB86-596CBF94D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Impact"/>
              </a:rPr>
              <a:t>KICK 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440" y="194472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足球体育运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mpact"/>
              </a:rPr>
              <a:t>Title Goes He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PRINT P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1640" y="31147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09C-74D6-495E-96C8-C09E9AAE9C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2:4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3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