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2B9-52E6-44E6-AAE4-08626101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884F-63C3-4E38-BDE0-D5DAA776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565D-E578-416E-93A8-F46BEB32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4996-06B4-4071-A657-806595CE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EAE1-C43D-4898-B7C8-A86D339C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202A-8691-4E26-9074-4452BCC2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BF3B-B0AE-473E-8A1D-5D715D4A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FE5D-49A5-4F9B-B865-9DA8004C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8B7D-EABD-4F93-9E98-841A6A66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AD71-02F2-4641-B9EF-AA52CC0E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EC3-2537-4632-842B-5768104F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D3D-55EB-4472-8E20-A03CAF31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D:\SLIDEtoME\TP模板\新建文件夹 (8)\bg2-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457200" indent="4572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371600" indent="-4572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E1D0-327E-45E7-97C7-9966F3875F1D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6224-F094-4DCC-843F-DCDE3B6F314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SLIDEtoME\TP模板\新建文件夹 (8)\bg2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778040"/>
            <a:ext cx="83534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11111"/>
                </a:solidFill>
                <a:latin typeface="Arial Black"/>
              </a:rPr>
              <a:t>紫色黄色相间工作总结</a:t>
            </a:r>
            <a:r>
              <a:rPr b="1" lang="en-US" sz="4000" spc="-1" strike="noStrike">
                <a:solidFill>
                  <a:srgbClr val="111111"/>
                </a:solidFill>
                <a:latin typeface="Arial Black"/>
              </a:rPr>
              <a:t>PPT</a:t>
            </a:r>
            <a:r>
              <a:rPr b="1" lang="zh-CN" sz="4000" spc="-1" strike="noStrike">
                <a:solidFill>
                  <a:srgbClr val="111111"/>
                </a:solidFill>
                <a:latin typeface="Arial Black"/>
              </a:rPr>
              <a:t>模板</a:t>
            </a:r>
            <a:endParaRPr b="0" lang="en-US" sz="40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2568600"/>
            <a:ext cx="835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</a:rPr>
              <a:t>点击此处添加幻灯副标题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00D3-F3B4-45DB-985F-7ADE4391F1CF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68" name="图片占位符 11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69" name=""/>
          <p:cNvSpPr txBox="1"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D040-77B9-436E-BF33-94DEA04A66A4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FF9B-AAAB-4597-BE26-64CAB26362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64"/>
          <p:cNvGrpSpPr/>
          <p:nvPr/>
        </p:nvGrpSpPr>
        <p:grpSpPr>
          <a:xfrm>
            <a:off x="480960" y="1631880"/>
            <a:ext cx="8340480" cy="3236760"/>
            <a:chOff x="480960" y="1631880"/>
            <a:chExt cx="8340480" cy="3236760"/>
          </a:xfrm>
        </p:grpSpPr>
        <p:sp>
          <p:nvSpPr>
            <p:cNvPr id="172" name="Freeform 65"/>
            <p:cNvSpPr/>
            <p:nvPr/>
          </p:nvSpPr>
          <p:spPr>
            <a:xfrm>
              <a:off x="676800" y="1631880"/>
              <a:ext cx="4841640" cy="186264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3" name="Freeform 66"/>
            <p:cNvSpPr/>
            <p:nvPr/>
          </p:nvSpPr>
          <p:spPr>
            <a:xfrm>
              <a:off x="4049640" y="2203920"/>
              <a:ext cx="558720" cy="57060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4" name="Freeform 67"/>
            <p:cNvSpPr/>
            <p:nvPr/>
          </p:nvSpPr>
          <p:spPr>
            <a:xfrm>
              <a:off x="480960" y="2618280"/>
              <a:ext cx="1681200" cy="176292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5" name="Freeform 68"/>
            <p:cNvSpPr/>
            <p:nvPr/>
          </p:nvSpPr>
          <p:spPr>
            <a:xfrm>
              <a:off x="3627360" y="3769200"/>
              <a:ext cx="1011600" cy="69408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5547600" y="1708920"/>
              <a:ext cx="3273840" cy="315972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659520" y="2083320"/>
              <a:ext cx="299520" cy="22788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1951200" y="3810600"/>
              <a:ext cx="187200" cy="32760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3203280" y="3378240"/>
              <a:ext cx="785160" cy="40968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3547440" y="3351600"/>
              <a:ext cx="416880" cy="31716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3957840" y="3463560"/>
              <a:ext cx="671400" cy="32760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3737880" y="3051720"/>
              <a:ext cx="238680" cy="34128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4404240" y="4481280"/>
              <a:ext cx="112320" cy="10116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4920480" y="4347360"/>
              <a:ext cx="318240" cy="31536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7583040" y="2955240"/>
              <a:ext cx="456480" cy="15192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6" name="Oval 79"/>
            <p:cNvSpPr/>
            <p:nvPr/>
          </p:nvSpPr>
          <p:spPr>
            <a:xfrm>
              <a:off x="3642480" y="2943360"/>
              <a:ext cx="39240" cy="33840"/>
            </a:xfrm>
            <a:prstGeom prst="ellips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929C-0B91-4113-9A02-EA1EEB8F4C30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6318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0" name="矩形 8"/>
          <p:cNvSpPr/>
          <p:nvPr/>
        </p:nvSpPr>
        <p:spPr>
          <a:xfrm>
            <a:off x="26827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1" name="矩形 9"/>
          <p:cNvSpPr/>
          <p:nvPr/>
        </p:nvSpPr>
        <p:spPr>
          <a:xfrm>
            <a:off x="47340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2" name="矩形 10"/>
          <p:cNvSpPr/>
          <p:nvPr/>
        </p:nvSpPr>
        <p:spPr>
          <a:xfrm>
            <a:off x="67849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3" name="矩形 18"/>
          <p:cNvSpPr/>
          <p:nvPr/>
        </p:nvSpPr>
        <p:spPr>
          <a:xfrm>
            <a:off x="6318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4" name="矩形 19"/>
          <p:cNvSpPr/>
          <p:nvPr/>
        </p:nvSpPr>
        <p:spPr>
          <a:xfrm>
            <a:off x="26827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5" name="矩形 20"/>
          <p:cNvSpPr/>
          <p:nvPr/>
        </p:nvSpPr>
        <p:spPr>
          <a:xfrm>
            <a:off x="47340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6" name="矩形 21"/>
          <p:cNvSpPr/>
          <p:nvPr/>
        </p:nvSpPr>
        <p:spPr>
          <a:xfrm>
            <a:off x="67849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7" name="矩形 23"/>
          <p:cNvSpPr/>
          <p:nvPr/>
        </p:nvSpPr>
        <p:spPr>
          <a:xfrm>
            <a:off x="6318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8" name="矩形 24"/>
          <p:cNvSpPr/>
          <p:nvPr/>
        </p:nvSpPr>
        <p:spPr>
          <a:xfrm>
            <a:off x="26827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9" name="矩形 25"/>
          <p:cNvSpPr/>
          <p:nvPr/>
        </p:nvSpPr>
        <p:spPr>
          <a:xfrm>
            <a:off x="47340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0" name="矩形 26"/>
          <p:cNvSpPr/>
          <p:nvPr/>
        </p:nvSpPr>
        <p:spPr>
          <a:xfrm>
            <a:off x="67849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1" name="矩形 28"/>
          <p:cNvSpPr/>
          <p:nvPr/>
        </p:nvSpPr>
        <p:spPr>
          <a:xfrm>
            <a:off x="6318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2" name="矩形 29"/>
          <p:cNvSpPr/>
          <p:nvPr/>
        </p:nvSpPr>
        <p:spPr>
          <a:xfrm>
            <a:off x="26827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3" name="矩形 30"/>
          <p:cNvSpPr/>
          <p:nvPr/>
        </p:nvSpPr>
        <p:spPr>
          <a:xfrm>
            <a:off x="47340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4" name="矩形 31"/>
          <p:cNvSpPr/>
          <p:nvPr/>
        </p:nvSpPr>
        <p:spPr>
          <a:xfrm>
            <a:off x="67849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5" name="标题 6"/>
          <p:cNvSpPr/>
          <p:nvPr/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6" name="文本占位符 8"/>
          <p:cNvSpPr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使用规范说明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AD9-F5BE-4FB8-9D6D-24011148DB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D:\SLIDEtoME\TP模板\新建文件夹 (8)\bg2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11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395280" y="2708280"/>
            <a:ext cx="835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</a:rPr>
              <a:t>单击此处添加公司信息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575D-36D3-4E73-9E2E-2A24F6BD4EB3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C07B-2268-43F5-9C89-265CDBDCB7D6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395280" y="1565280"/>
            <a:ext cx="6969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1092240" y="1565280"/>
            <a:ext cx="696960" cy="38412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矩形 13"/>
          <p:cNvSpPr/>
          <p:nvPr/>
        </p:nvSpPr>
        <p:spPr>
          <a:xfrm>
            <a:off x="1789200" y="1565280"/>
            <a:ext cx="696960" cy="384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2482920" y="1565280"/>
            <a:ext cx="696960" cy="3841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矩形 16"/>
          <p:cNvSpPr/>
          <p:nvPr/>
        </p:nvSpPr>
        <p:spPr>
          <a:xfrm>
            <a:off x="3179880" y="1565280"/>
            <a:ext cx="696960" cy="384120"/>
          </a:xfrm>
          <a:prstGeom prst="rect">
            <a:avLst/>
          </a:prstGeom>
          <a:solidFill>
            <a:srgbClr val="481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矩形 17"/>
          <p:cNvSpPr/>
          <p:nvPr/>
        </p:nvSpPr>
        <p:spPr>
          <a:xfrm>
            <a:off x="3876840" y="1565280"/>
            <a:ext cx="684000" cy="3841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矩形 18"/>
          <p:cNvSpPr/>
          <p:nvPr/>
        </p:nvSpPr>
        <p:spPr>
          <a:xfrm>
            <a:off x="4560840" y="1565280"/>
            <a:ext cx="709560" cy="384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矩形 19"/>
          <p:cNvSpPr/>
          <p:nvPr/>
        </p:nvSpPr>
        <p:spPr>
          <a:xfrm>
            <a:off x="5267160" y="1565280"/>
            <a:ext cx="696960" cy="384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矩形 22"/>
          <p:cNvSpPr/>
          <p:nvPr/>
        </p:nvSpPr>
        <p:spPr>
          <a:xfrm>
            <a:off x="5964120" y="1565280"/>
            <a:ext cx="696960" cy="384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矩形 23"/>
          <p:cNvSpPr/>
          <p:nvPr/>
        </p:nvSpPr>
        <p:spPr>
          <a:xfrm>
            <a:off x="6661080" y="1565280"/>
            <a:ext cx="696960" cy="38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1" name="矩形 24"/>
          <p:cNvSpPr/>
          <p:nvPr/>
        </p:nvSpPr>
        <p:spPr>
          <a:xfrm>
            <a:off x="7358040" y="1565280"/>
            <a:ext cx="696960" cy="384120"/>
          </a:xfrm>
          <a:prstGeom prst="rect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矩形 25"/>
          <p:cNvSpPr/>
          <p:nvPr/>
        </p:nvSpPr>
        <p:spPr>
          <a:xfrm>
            <a:off x="8051760" y="1565280"/>
            <a:ext cx="696960" cy="3841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直接连接符 31"/>
          <p:cNvSpPr/>
          <p:nvPr/>
        </p:nvSpPr>
        <p:spPr>
          <a:xfrm>
            <a:off x="395280" y="156528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TextBox 2057"/>
          <p:cNvSpPr/>
          <p:nvPr/>
        </p:nvSpPr>
        <p:spPr>
          <a:xfrm>
            <a:off x="519120" y="2227320"/>
            <a:ext cx="93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" name="TextBox 115"/>
          <p:cNvSpPr/>
          <p:nvPr/>
        </p:nvSpPr>
        <p:spPr>
          <a:xfrm>
            <a:off x="3265200" y="2227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TextBox 116"/>
          <p:cNvSpPr/>
          <p:nvPr/>
        </p:nvSpPr>
        <p:spPr>
          <a:xfrm>
            <a:off x="7484760" y="2227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TextBox 117"/>
          <p:cNvSpPr/>
          <p:nvPr/>
        </p:nvSpPr>
        <p:spPr>
          <a:xfrm>
            <a:off x="449640" y="1965240"/>
            <a:ext cx="61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TextBox 124"/>
          <p:cNvSpPr/>
          <p:nvPr/>
        </p:nvSpPr>
        <p:spPr>
          <a:xfrm>
            <a:off x="3394080" y="1965240"/>
            <a:ext cx="32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TextBox 125"/>
          <p:cNvSpPr/>
          <p:nvPr/>
        </p:nvSpPr>
        <p:spPr>
          <a:xfrm>
            <a:off x="744588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TextBox 126"/>
          <p:cNvSpPr/>
          <p:nvPr/>
        </p:nvSpPr>
        <p:spPr>
          <a:xfrm>
            <a:off x="468468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TextBox 127"/>
          <p:cNvSpPr/>
          <p:nvPr/>
        </p:nvSpPr>
        <p:spPr>
          <a:xfrm>
            <a:off x="608076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TextBox 128"/>
          <p:cNvSpPr/>
          <p:nvPr/>
        </p:nvSpPr>
        <p:spPr>
          <a:xfrm>
            <a:off x="813960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直接连接符 133"/>
          <p:cNvSpPr/>
          <p:nvPr/>
        </p:nvSpPr>
        <p:spPr>
          <a:xfrm flipV="1">
            <a:off x="874872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直接连接符 134"/>
          <p:cNvSpPr/>
          <p:nvPr/>
        </p:nvSpPr>
        <p:spPr>
          <a:xfrm flipV="1">
            <a:off x="3952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直接连接符 132"/>
          <p:cNvSpPr/>
          <p:nvPr/>
        </p:nvSpPr>
        <p:spPr>
          <a:xfrm>
            <a:off x="395280" y="2563920"/>
            <a:ext cx="8353440" cy="14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直接连接符 141"/>
          <p:cNvSpPr/>
          <p:nvPr/>
        </p:nvSpPr>
        <p:spPr>
          <a:xfrm>
            <a:off x="395280" y="21985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直接连接符 145"/>
          <p:cNvSpPr/>
          <p:nvPr/>
        </p:nvSpPr>
        <p:spPr>
          <a:xfrm flipV="1">
            <a:off x="31798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直接连接符 146"/>
          <p:cNvSpPr/>
          <p:nvPr/>
        </p:nvSpPr>
        <p:spPr>
          <a:xfrm flipV="1">
            <a:off x="735804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直接连接符 142"/>
          <p:cNvSpPr/>
          <p:nvPr/>
        </p:nvSpPr>
        <p:spPr>
          <a:xfrm flipV="1">
            <a:off x="456084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直接连接符 147"/>
          <p:cNvSpPr/>
          <p:nvPr/>
        </p:nvSpPr>
        <p:spPr>
          <a:xfrm flipV="1">
            <a:off x="5964120" y="1564920"/>
            <a:ext cx="180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1" name="直接连接符 152"/>
          <p:cNvSpPr/>
          <p:nvPr/>
        </p:nvSpPr>
        <p:spPr>
          <a:xfrm flipV="1">
            <a:off x="805176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TextBox 135"/>
          <p:cNvSpPr/>
          <p:nvPr/>
        </p:nvSpPr>
        <p:spPr>
          <a:xfrm>
            <a:off x="2510280" y="196524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矩形 2061"/>
          <p:cNvSpPr/>
          <p:nvPr/>
        </p:nvSpPr>
        <p:spPr>
          <a:xfrm>
            <a:off x="403200" y="3370320"/>
            <a:ext cx="2082960" cy="379440"/>
          </a:xfrm>
          <a:prstGeom prst="rect">
            <a:avLst/>
          </a:prstGeom>
          <a:solidFill>
            <a:srgbClr val="481f67"/>
          </a:solidFill>
          <a:ln w="9360">
            <a:solidFill>
              <a:srgbClr val="240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矩形 155"/>
          <p:cNvSpPr/>
          <p:nvPr/>
        </p:nvSpPr>
        <p:spPr>
          <a:xfrm>
            <a:off x="403200" y="3821040"/>
            <a:ext cx="2082960" cy="379440"/>
          </a:xfrm>
          <a:prstGeom prst="rect">
            <a:avLst/>
          </a:prstGeom>
          <a:solidFill>
            <a:srgbClr val="c00000"/>
          </a:solidFill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矩形 156"/>
          <p:cNvSpPr/>
          <p:nvPr/>
        </p:nvSpPr>
        <p:spPr>
          <a:xfrm>
            <a:off x="403200" y="4273560"/>
            <a:ext cx="2082960" cy="377640"/>
          </a:xfrm>
          <a:prstGeom prst="rect">
            <a:avLst/>
          </a:prstGeom>
          <a:solidFill>
            <a:srgbClr val="ff6600"/>
          </a:solidFill>
          <a:ln w="9360">
            <a:solidFill>
              <a:srgbClr val="7f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矩形 157"/>
          <p:cNvSpPr/>
          <p:nvPr/>
        </p:nvSpPr>
        <p:spPr>
          <a:xfrm>
            <a:off x="403200" y="4724280"/>
            <a:ext cx="2082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矩形 158"/>
          <p:cNvSpPr/>
          <p:nvPr/>
        </p:nvSpPr>
        <p:spPr>
          <a:xfrm>
            <a:off x="403200" y="5175360"/>
            <a:ext cx="1386000" cy="379440"/>
          </a:xfrm>
          <a:prstGeom prst="rect">
            <a:avLst/>
          </a:prstGeom>
          <a:solidFill>
            <a:srgbClr val="777777"/>
          </a:solidFill>
          <a:ln w="9360">
            <a:solidFill>
              <a:srgbClr val="1d1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8" name="TextBox 161"/>
          <p:cNvSpPr/>
          <p:nvPr/>
        </p:nvSpPr>
        <p:spPr>
          <a:xfrm>
            <a:off x="7763400" y="5375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9" name="矩形 2063"/>
          <p:cNvSpPr/>
          <p:nvPr/>
        </p:nvSpPr>
        <p:spPr>
          <a:xfrm>
            <a:off x="554400" y="12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0" name="矩形 163"/>
          <p:cNvSpPr/>
          <p:nvPr/>
        </p:nvSpPr>
        <p:spPr>
          <a:xfrm>
            <a:off x="595800" y="300024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1" name="矩形 164"/>
          <p:cNvSpPr/>
          <p:nvPr/>
        </p:nvSpPr>
        <p:spPr>
          <a:xfrm>
            <a:off x="3369240" y="30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92" name="内容占位符 6" descr=""/>
          <p:cNvPicPr/>
          <p:nvPr/>
        </p:nvPicPr>
        <p:blipFill>
          <a:blip r:embed="rId1"/>
          <a:stretch/>
        </p:blipFill>
        <p:spPr>
          <a:xfrm>
            <a:off x="3179880" y="3332160"/>
            <a:ext cx="5568840" cy="2052720"/>
          </a:xfrm>
          <a:prstGeom prst="rect">
            <a:avLst/>
          </a:prstGeom>
          <a:ln w="0">
            <a:noFill/>
          </a:ln>
        </p:spPr>
      </p:pic>
      <p:sp>
        <p:nvSpPr>
          <p:cNvPr id="93" name="直接连接符 149"/>
          <p:cNvSpPr/>
          <p:nvPr/>
        </p:nvSpPr>
        <p:spPr>
          <a:xfrm flipV="1">
            <a:off x="248292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4" name="直接连接符 150"/>
          <p:cNvSpPr/>
          <p:nvPr/>
        </p:nvSpPr>
        <p:spPr>
          <a:xfrm>
            <a:off x="395280" y="19447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矩形 2053"/>
          <p:cNvSpPr/>
          <p:nvPr/>
        </p:nvSpPr>
        <p:spPr>
          <a:xfrm>
            <a:off x="1948320" y="5210280"/>
            <a:ext cx="500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</a:rPr>
              <a:t>超链接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D:\SLIDEtoME\TP模板\新建文件夹 (8)\bg2-2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F9EE-86EC-4364-99CE-1CA9752C3BFB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714400"/>
            <a:ext cx="8353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2311560"/>
            <a:ext cx="835344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272520"/>
            <a:ext cx="83534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03" name="内容占位符 8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04" name=""/>
          <p:cNvSpPr txBox="1"/>
          <p:nvPr/>
        </p:nvSpPr>
        <p:spPr>
          <a:xfrm>
            <a:off x="5651640" y="1125360"/>
            <a:ext cx="3070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F6A0-8042-4EE4-9B01-1B3553693EE2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4FD8-BBBD-4205-A365-72A805FDEE30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95280" y="1339920"/>
            <a:ext cx="8353080" cy="4610160"/>
            <a:chOff x="395280" y="1339920"/>
            <a:chExt cx="8353080" cy="4610160"/>
          </a:xfrm>
        </p:grpSpPr>
        <p:sp>
          <p:nvSpPr>
            <p:cNvPr id="110" name=""/>
            <p:cNvSpPr/>
            <p:nvPr/>
          </p:nvSpPr>
          <p:spPr>
            <a:xfrm rot="5400000">
              <a:off x="5386320" y="-540000"/>
              <a:ext cx="29592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ecbd3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4183200" y="2354040"/>
              <a:ext cx="2668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5280" y="2489040"/>
              <a:ext cx="1925640" cy="36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8480" y="2507040"/>
              <a:ext cx="18392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5386320" y="-151560"/>
              <a:ext cx="29592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ecbd3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4183200" y="2742120"/>
              <a:ext cx="2668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5280" y="2877480"/>
              <a:ext cx="1925640" cy="36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480" y="2895480"/>
              <a:ext cx="18392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5386320" y="236520"/>
              <a:ext cx="29592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ecbd3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183200" y="3130560"/>
              <a:ext cx="2668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5280" y="3265920"/>
              <a:ext cx="1925640" cy="36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8480" y="3283920"/>
              <a:ext cx="18392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5400000">
              <a:off x="5386320" y="624960"/>
              <a:ext cx="29592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ecbd3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4183200" y="3519000"/>
              <a:ext cx="2668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5280" y="3654360"/>
              <a:ext cx="1925640" cy="36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8480" y="3672360"/>
              <a:ext cx="18392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5386320" y="1013400"/>
              <a:ext cx="29592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ecbd3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6200000">
              <a:off x="4183200" y="3907440"/>
              <a:ext cx="2668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5280" y="4042800"/>
              <a:ext cx="1925640" cy="36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8480" y="4060800"/>
              <a:ext cx="18392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5386320" y="1401840"/>
              <a:ext cx="29592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ecbd3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4183200" y="4295880"/>
              <a:ext cx="2668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5280" y="4431240"/>
              <a:ext cx="1925640" cy="36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8480" y="4449240"/>
              <a:ext cx="18392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6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06480" y="1339920"/>
            <a:ext cx="7332480" cy="4487760"/>
            <a:chOff x="906480" y="1339920"/>
            <a:chExt cx="7332480" cy="4487760"/>
          </a:xfrm>
        </p:grpSpPr>
        <p:sp>
          <p:nvSpPr>
            <p:cNvPr id="136" name=""/>
            <p:cNvSpPr/>
            <p:nvPr/>
          </p:nvSpPr>
          <p:spPr>
            <a:xfrm>
              <a:off x="906480" y="2583000"/>
              <a:ext cx="2031840" cy="2082960"/>
            </a:xfrm>
            <a:custGeom>
              <a:avLst/>
              <a:gdLst>
                <a:gd name="textAreaLeft" fmla="*/ 59400 w 2031840"/>
                <a:gd name="textAreaRight" fmla="*/ 1972440 w 2031840"/>
                <a:gd name="textAreaTop" fmla="*/ 59400 h 2082960"/>
                <a:gd name="textAreaBottom" fmla="*/ 2023560 h 2082960"/>
              </a:gdLst>
              <a:ahLst/>
              <a:rect l="textAreaLeft" t="textAreaTop" r="textAreaRight" b="textAreaBottom"/>
              <a:pathLst>
                <a:path w="21600" h="22143">
                  <a:moveTo>
                    <a:pt x="2160" y="0"/>
                  </a:moveTo>
                  <a:arcTo wR="2160" hR="2160" stAng="16200000" swAng="-5400000"/>
                  <a:lnTo>
                    <a:pt x="0" y="19983"/>
                  </a:lnTo>
                  <a:arcTo wR="2160" hR="2160" stAng="10800000" swAng="-5400000"/>
                  <a:lnTo>
                    <a:pt x="19440" y="221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481e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45000" y="2630880"/>
              <a:ext cx="1954800" cy="15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65680" y="3156480"/>
              <a:ext cx="2149200" cy="2671200"/>
            </a:xfrm>
            <a:custGeom>
              <a:avLst/>
              <a:gdLst>
                <a:gd name="textAreaLeft" fmla="*/ 0 w 2149200"/>
                <a:gd name="textAreaRight" fmla="*/ 2149560 w 2149200"/>
                <a:gd name="textAreaTop" fmla="*/ 0 h 2671200"/>
                <a:gd name="textAreaBottom" fmla="*/ 2671560 h 26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0" y="4923"/>
                  </a:moveTo>
                  <a:arcTo wR="-10211" hR="-10211" stAng="-8691767" swAng="-14683745"/>
                  <a:lnTo>
                    <a:pt x="1409" y="16133"/>
                  </a:lnTo>
                  <a:arcTo wR="10800" hR="10800" stAng="9024489" swAng="14683745"/>
                  <a:lnTo>
                    <a:pt x="21840" y="18570"/>
                  </a:lnTo>
                  <a:lnTo>
                    <a:pt x="17668" y="19295"/>
                  </a:lnTo>
                  <a:lnTo>
                    <a:pt x="16942" y="151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57920" y="4219920"/>
              <a:ext cx="1806120" cy="892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78800" y="4245840"/>
              <a:ext cx="176400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43760" y="2583000"/>
              <a:ext cx="2031840" cy="2082960"/>
            </a:xfrm>
            <a:custGeom>
              <a:avLst/>
              <a:gdLst>
                <a:gd name="textAreaLeft" fmla="*/ 59400 w 2031840"/>
                <a:gd name="textAreaRight" fmla="*/ 1972440 w 2031840"/>
                <a:gd name="textAreaTop" fmla="*/ 59400 h 2082960"/>
                <a:gd name="textAreaBottom" fmla="*/ 2023560 h 2082960"/>
              </a:gdLst>
              <a:ahLst/>
              <a:rect l="textAreaLeft" t="textAreaTop" r="textAreaRight" b="textAreaBottom"/>
              <a:pathLst>
                <a:path w="21600" h="22143">
                  <a:moveTo>
                    <a:pt x="2160" y="0"/>
                  </a:moveTo>
                  <a:arcTo wR="2160" hR="2160" stAng="16200000" swAng="-5400000"/>
                  <a:lnTo>
                    <a:pt x="0" y="19983"/>
                  </a:lnTo>
                  <a:arcTo wR="2160" hR="2160" stAng="10800000" swAng="-5400000"/>
                  <a:lnTo>
                    <a:pt x="19440" y="221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481e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82280" y="3077280"/>
              <a:ext cx="1954800" cy="15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86040" y="1339920"/>
              <a:ext cx="2408760" cy="2994120"/>
            </a:xfrm>
            <a:custGeom>
              <a:avLst/>
              <a:gdLst>
                <a:gd name="textAreaLeft" fmla="*/ 0 w 2408760"/>
                <a:gd name="textAreaRight" fmla="*/ 2409120 w 2408760"/>
                <a:gd name="textAreaTop" fmla="*/ 0 h 2994120"/>
                <a:gd name="textAreaBottom" fmla="*/ 2994480 h 299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334" y="16620"/>
                  </a:moveTo>
                  <a:arcTo wR="-10274" hR="-10274" stAng="8729652" swAng="-6954142"/>
                  <a:lnTo>
                    <a:pt x="1409" y="5467"/>
                  </a:lnTo>
                  <a:arcTo wR="10800" hR="10800" stAng="-9024489" swAng="6954142"/>
                  <a:lnTo>
                    <a:pt x="21925" y="3152"/>
                  </a:lnTo>
                  <a:lnTo>
                    <a:pt x="21162" y="7273"/>
                  </a:lnTo>
                  <a:lnTo>
                    <a:pt x="17041" y="65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95200" y="2136600"/>
              <a:ext cx="1806120" cy="892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6440" y="2162880"/>
              <a:ext cx="176400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81040" y="2583000"/>
              <a:ext cx="2031840" cy="2082960"/>
            </a:xfrm>
            <a:custGeom>
              <a:avLst/>
              <a:gdLst>
                <a:gd name="textAreaLeft" fmla="*/ 59400 w 2031840"/>
                <a:gd name="textAreaRight" fmla="*/ 1972440 w 2031840"/>
                <a:gd name="textAreaTop" fmla="*/ 59400 h 2082960"/>
                <a:gd name="textAreaBottom" fmla="*/ 2023560 h 2082960"/>
              </a:gdLst>
              <a:ahLst/>
              <a:rect l="textAreaLeft" t="textAreaTop" r="textAreaRight" b="textAreaBottom"/>
              <a:pathLst>
                <a:path w="21600" h="22143">
                  <a:moveTo>
                    <a:pt x="2160" y="0"/>
                  </a:moveTo>
                  <a:arcTo wR="2160" hR="2160" stAng="16200000" swAng="-5400000"/>
                  <a:lnTo>
                    <a:pt x="0" y="19983"/>
                  </a:lnTo>
                  <a:arcTo wR="2160" hR="2160" stAng="10800000" swAng="-5400000"/>
                  <a:lnTo>
                    <a:pt x="19440" y="221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481e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2630880"/>
              <a:ext cx="1954800" cy="15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32840" y="4219920"/>
              <a:ext cx="1806120" cy="892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53720" y="4245840"/>
              <a:ext cx="176400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50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F9F4-0168-4B71-8D25-213DB0EDF6C3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95280" y="1413000"/>
          <a:ext cx="8353440" cy="439236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040"/>
                <a:gridCol w="1671840"/>
                <a:gridCol w="1670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481f6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481f6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481f6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481f6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481f67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1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C77F-088C-40EE-8969-4573A3691728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7338960" y="5819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72D9-CA21-4EFC-820F-BBDAC7453511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3090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159" name="内容占位符 6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105440" cy="4753080"/>
          </a:xfrm>
          <a:prstGeom prst="rect">
            <a:avLst/>
          </a:prstGeom>
          <a:ln w="0">
            <a:noFill/>
          </a:ln>
        </p:spPr>
      </p:pic>
      <p:pic>
        <p:nvPicPr>
          <p:cNvPr id="160" name="内容占位符 6" descr=""/>
          <p:cNvPicPr/>
          <p:nvPr/>
        </p:nvPicPr>
        <p:blipFill>
          <a:blip r:embed="rId2"/>
          <a:stretch/>
        </p:blipFill>
        <p:spPr>
          <a:xfrm>
            <a:off x="4635360" y="1197000"/>
            <a:ext cx="4105440" cy="4753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6720" y="83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63" name="内容占位符 6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4753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7CFD-0E15-440C-9238-8D07D2BB434F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10:42:00Z</dcterms:created>
  <dc:creator>www.eeppt.com</dc:creator>
  <dc:description>www.eeppt.com</dc:description>
  <cp:keywords>www.eeppt.com</cp:keywords>
  <dc:language>en-US</dc:language>
  <cp:lastModifiedBy>微软用户</cp:lastModifiedBy>
  <dcterms:modified xsi:type="dcterms:W3CDTF">2015-09-18T13:23:45Z</dcterms:modified>
  <cp:revision>1</cp:revision>
  <dc:subject>TP-通用纹理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