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7412-48C8-49D2-B194-DD7164E85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65CA-55C9-4D61-A962-E1733F1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1500-56A4-4A04-A803-18354BD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252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10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252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410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D60F-EAC0-40AC-A863-AB0834076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7D15E-C9ED-4DD9-9513-CDFAB323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B86F3-A185-4385-93C8-0FABC337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41CA5-5F17-44A0-A23A-9A1B3602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057B6-0BDB-426C-8134-7AF8F06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422E6-4E5C-4720-9CE0-A3C97A3F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809520"/>
            <a:ext cx="64008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3DE0E-4E85-4039-8D0C-57E9C93D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53C81-5C2A-420E-A891-1EDA6FF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AF46-A765-4E18-BE0C-BF228197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D8FA5-3A9A-4EB5-85E5-CC8EC02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03AB0-B580-4E22-BFE7-00104F4F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8B59F-B82D-4260-9001-2E61830D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0D01-BA24-46A3-A846-09C70CA7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252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1080" y="533376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252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41080" y="561240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02D76-4CEB-4244-BB54-6D72A6A0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042A-C752-4CAB-BFEF-F9AD4ADE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5853-8CFD-4B97-856F-ADFE3D94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29F8-8178-4F78-9F9A-1F0C0B50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3809520"/>
            <a:ext cx="64008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B680-BF53-4CB3-8ECA-28C5AC06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C09B-B015-470F-A653-CA47FF1A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560" y="561240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8BCE-C061-483E-B679-A638D1F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560" y="533376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5612400"/>
            <a:ext cx="65534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F677-831D-41A4-BC60-97F9C2B8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333360"/>
            <a:ext cx="8665920" cy="719280"/>
          </a:xfrm>
          <a:prstGeom prst="rect">
            <a:avLst/>
          </a:prstGeom>
          <a:gradFill rotWithShape="0">
            <a:gsLst>
              <a:gs pos="0">
                <a:srgbClr val="223461"/>
              </a:gs>
              <a:gs pos="100000">
                <a:srgbClr val="4a71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2" name="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50920" y="1052280"/>
              <a:ext cx="86425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47000" y="22320"/>
            <a:ext cx="950760" cy="10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b9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a71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3428640" y="6629400"/>
            <a:ext cx="213372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7C9A-ADF6-4C31-8F4E-A8C922D45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304560" y="6629040"/>
            <a:ext cx="2438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456840" y="659556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59772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583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138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A2A4-17A2-4B5F-898B-31672D582BD7}" type="slidenum">
              <a:rPr b="0" lang="en-US" sz="1400" spc="-1" strike="noStrike">
                <a:solidFill>
                  <a:srgbClr val="4138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044960"/>
            <a:ext cx="63057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dbff"/>
                </a:solidFill>
                <a:latin typeface="Arial"/>
              </a:rPr>
              <a:t>PowerPoint</a:t>
            </a: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aeaea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1722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4880" y="609480"/>
            <a:ext cx="43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疗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线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34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6475"/>
                </a:gs>
                <a:gs pos="50000">
                  <a:srgbClr val="75dbff"/>
                </a:gs>
                <a:gs pos="100000">
                  <a:srgbClr val="3564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6475"/>
                </a:gs>
                <a:gs pos="50000">
                  <a:srgbClr val="75dbff"/>
                </a:gs>
                <a:gs pos="100000">
                  <a:srgbClr val="3564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6475"/>
                </a:gs>
                <a:gs pos="50000">
                  <a:srgbClr val="75dbff"/>
                </a:gs>
                <a:gs pos="100000">
                  <a:srgbClr val="3564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461"/>
                </a:gs>
                <a:gs pos="50000">
                  <a:srgbClr val="4a71d4"/>
                </a:gs>
                <a:gs pos="100000">
                  <a:srgbClr val="2234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461"/>
                </a:gs>
                <a:gs pos="50000">
                  <a:srgbClr val="4a71d4"/>
                </a:gs>
                <a:gs pos="100000">
                  <a:srgbClr val="2234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461"/>
                </a:gs>
                <a:gs pos="50000">
                  <a:srgbClr val="4a71d4"/>
                </a:gs>
                <a:gs pos="100000">
                  <a:srgbClr val="2234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895480" y="2133720"/>
              <a:ext cx="3196800" cy="2890800"/>
              <a:chOff x="2895480" y="2133720"/>
              <a:chExt cx="3196800" cy="2890800"/>
            </a:xfrm>
          </p:grpSpPr>
          <p:sp>
            <p:nvSpPr>
              <p:cNvPr id="241" name=""/>
              <p:cNvSpPr/>
              <p:nvPr/>
            </p:nvSpPr>
            <p:spPr>
              <a:xfrm flipH="1" rot="16200000">
                <a:off x="2813400" y="32472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5400000">
                <a:off x="5683320" y="319284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eaeae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10800000">
                <a:off x="4250520" y="469764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5f5f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22360" y="213372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68880" y="227808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7b9e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40637e"/>
                  </a:gs>
                  <a:gs pos="50000">
                    <a:srgbClr val="77b9eb"/>
                  </a:gs>
                  <a:gs pos="100000">
                    <a:srgbClr val="40637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13480" y="3200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solidFill>
              <a:srgbClr val="75db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60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0280" y="1295280"/>
            <a:ext cx="5791320" cy="4496040"/>
          </a:xfrm>
          <a:prstGeom prst="rightArrow">
            <a:avLst>
              <a:gd name="adj1" fmla="val 79306"/>
              <a:gd name="adj2" fmla="val 31904"/>
            </a:avLst>
          </a:prstGeom>
          <a:solidFill>
            <a:srgbClr val="413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a71d4"/>
              </a:gs>
              <a:gs pos="100000">
                <a:srgbClr val="22346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7b9eb"/>
              </a:gs>
              <a:gs pos="100000">
                <a:srgbClr val="3655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5dbff"/>
              </a:gs>
              <a:gs pos="100000">
                <a:srgbClr val="3564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4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a7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7b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7b9e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7b9e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40637e"/>
                </a:gs>
                <a:gs pos="50000">
                  <a:srgbClr val="77b9eb"/>
                </a:gs>
                <a:gs pos="100000">
                  <a:srgbClr val="4063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7b9eb">
                    <a:alpha val="0"/>
                  </a:srgbClr>
                </a:gs>
                <a:gs pos="100000">
                  <a:srgbClr val="4b75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477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477e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e4080"/>
                </a:gs>
                <a:gs pos="50000">
                  <a:srgbClr val="7477ee"/>
                </a:gs>
                <a:gs pos="100000">
                  <a:srgbClr val="3e4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477ee">
                    <a:alpha val="0"/>
                  </a:srgbClr>
                </a:gs>
                <a:gs pos="100000">
                  <a:srgbClr val="494b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07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a71d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23461"/>
                </a:gs>
                <a:gs pos="100000">
                  <a:srgbClr val="4a71d4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73c72"/>
                </a:gs>
                <a:gs pos="50000">
                  <a:srgbClr val="4a71d4"/>
                </a:gs>
                <a:gs pos="100000">
                  <a:srgbClr val="273c7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0"/>
                  </a:srgbClr>
                </a:gs>
                <a:gs pos="100000">
                  <a:srgbClr val="2e47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17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2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38080" y="1530360"/>
            <a:ext cx="7391520" cy="4489560"/>
            <a:chOff x="838080" y="1530360"/>
            <a:chExt cx="7391520" cy="4489560"/>
          </a:xfrm>
        </p:grpSpPr>
        <p:sp>
          <p:nvSpPr>
            <p:cNvPr id="334" name="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5dbff"/>
                </a:gs>
                <a:gs pos="100000">
                  <a:srgbClr val="4a71d4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36576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917800" y="3740040"/>
              <a:ext cx="1704960" cy="2028960"/>
              <a:chOff x="2917800" y="3740040"/>
              <a:chExt cx="1704960" cy="2028960"/>
            </a:xfrm>
          </p:grpSpPr>
          <p:sp>
            <p:nvSpPr>
              <p:cNvPr id="337" name=""/>
              <p:cNvSpPr/>
              <p:nvPr/>
            </p:nvSpPr>
            <p:spPr>
              <a:xfrm rot="20876400">
                <a:off x="2986200" y="49593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17800" y="37400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38320" y="37494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55960" y="37656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8120" y="38098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35400" y="43671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066680" y="3359160"/>
              <a:ext cx="1371240" cy="1718640"/>
              <a:chOff x="1066680" y="3359160"/>
              <a:chExt cx="1371240" cy="1718640"/>
            </a:xfrm>
          </p:grpSpPr>
          <p:sp>
            <p:nvSpPr>
              <p:cNvPr id="344" name=""/>
              <p:cNvSpPr/>
              <p:nvPr/>
            </p:nvSpPr>
            <p:spPr>
              <a:xfrm rot="20826600">
                <a:off x="1143000" y="43495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97640" y="33807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169280" y="34174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47120" y="38653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1033200" y="1987560"/>
              <a:ext cx="1100160" cy="1139760"/>
              <a:chOff x="1033200" y="1987560"/>
              <a:chExt cx="1100160" cy="1139760"/>
            </a:xfrm>
          </p:grpSpPr>
          <p:sp>
            <p:nvSpPr>
              <p:cNvPr id="352" name=""/>
              <p:cNvSpPr/>
              <p:nvPr/>
            </p:nvSpPr>
            <p:spPr>
              <a:xfrm>
                <a:off x="1033200" y="25941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09520" y="19875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22120" y="199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33280" y="200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87280" y="20289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06440" y="23367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300040" y="1530360"/>
              <a:ext cx="804960" cy="762120"/>
              <a:chOff x="2300040" y="1530360"/>
              <a:chExt cx="804960" cy="762120"/>
            </a:xfrm>
          </p:grpSpPr>
          <p:sp>
            <p:nvSpPr>
              <p:cNvPr id="359" name=""/>
              <p:cNvSpPr/>
              <p:nvPr/>
            </p:nvSpPr>
            <p:spPr>
              <a:xfrm>
                <a:off x="2300040" y="20638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22440" y="15303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431800" y="15336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38280" y="15397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74640" y="15588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92640" y="17542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43560" y="1981080"/>
            <a:ext cx="7282440" cy="3770280"/>
            <a:chOff x="943560" y="1981080"/>
            <a:chExt cx="7282440" cy="3770280"/>
          </a:xfrm>
        </p:grpSpPr>
        <p:sp>
          <p:nvSpPr>
            <p:cNvPr id="367" name=""/>
            <p:cNvSpPr/>
            <p:nvPr/>
          </p:nvSpPr>
          <p:spPr>
            <a:xfrm rot="17973000">
              <a:off x="4752360" y="2686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465600">
              <a:off x="4802760" y="4796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4368800">
              <a:off x="3583800" y="27086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534800">
              <a:off x="3545640" y="47631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4880" y="3763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800000">
              <a:off x="2974680" y="37569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95680" y="20066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4704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5796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6144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47040" y="53337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4356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640" y="5271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52760" y="378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6716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7228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91200" y="53337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72280" y="5333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86680" y="3771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6b9e9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35720" y="3036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7b9e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40400" y="30351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7b9e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46600" y="31464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0637e"/>
                </a:gs>
                <a:gs pos="50000">
                  <a:srgbClr val="77b9eb"/>
                </a:gs>
                <a:gs pos="100000">
                  <a:srgbClr val="4063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3360" y="31496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7b9eb">
                    <a:alpha val="0"/>
                  </a:srgbClr>
                </a:gs>
                <a:gs pos="100000">
                  <a:srgbClr val="4b75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1120" y="32209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942000" y="3240000"/>
              <a:ext cx="1290600" cy="1278000"/>
              <a:chOff x="3942000" y="3240000"/>
              <a:chExt cx="1290600" cy="1278000"/>
            </a:xfrm>
          </p:grpSpPr>
          <p:sp>
            <p:nvSpPr>
              <p:cNvPr id="392" name=""/>
              <p:cNvSpPr/>
              <p:nvPr/>
            </p:nvSpPr>
            <p:spPr>
              <a:xfrm>
                <a:off x="3942000" y="32400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58560" y="32468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971880" y="32594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41720" y="32918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20516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092240" y="2039760"/>
            <a:ext cx="2163600" cy="3165480"/>
            <a:chOff x="1092240" y="2039760"/>
            <a:chExt cx="2163600" cy="3165480"/>
          </a:xfrm>
        </p:grpSpPr>
        <p:sp>
          <p:nvSpPr>
            <p:cNvPr id="399" name=""/>
            <p:cNvSpPr/>
            <p:nvPr/>
          </p:nvSpPr>
          <p:spPr>
            <a:xfrm>
              <a:off x="10922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257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430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836720" y="2039760"/>
              <a:ext cx="642960" cy="642960"/>
              <a:chOff x="1836720" y="2039760"/>
              <a:chExt cx="642960" cy="642960"/>
            </a:xfrm>
          </p:grpSpPr>
          <p:sp>
            <p:nvSpPr>
              <p:cNvPr id="404" name=""/>
              <p:cNvSpPr/>
              <p:nvPr/>
            </p:nvSpPr>
            <p:spPr>
              <a:xfrm>
                <a:off x="18367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432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511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576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914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9767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685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816520" y="2039760"/>
            <a:ext cx="2163600" cy="3165480"/>
            <a:chOff x="5816520" y="2039760"/>
            <a:chExt cx="2163600" cy="3165480"/>
          </a:xfrm>
        </p:grpSpPr>
        <p:sp>
          <p:nvSpPr>
            <p:cNvPr id="412" name=""/>
            <p:cNvSpPr/>
            <p:nvPr/>
          </p:nvSpPr>
          <p:spPr>
            <a:xfrm>
              <a:off x="5816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50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67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7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561000" y="2039760"/>
              <a:ext cx="642960" cy="642960"/>
              <a:chOff x="6561000" y="2039760"/>
              <a:chExt cx="642960" cy="642960"/>
            </a:xfrm>
          </p:grpSpPr>
          <p:sp>
            <p:nvSpPr>
              <p:cNvPr id="417" name=""/>
              <p:cNvSpPr/>
              <p:nvPr/>
            </p:nvSpPr>
            <p:spPr>
              <a:xfrm>
                <a:off x="656100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56748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7540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8188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1572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6701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92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454560" y="2039760"/>
            <a:ext cx="2163600" cy="3165480"/>
            <a:chOff x="3454560" y="2039760"/>
            <a:chExt cx="2163600" cy="3165480"/>
          </a:xfrm>
        </p:grpSpPr>
        <p:sp>
          <p:nvSpPr>
            <p:cNvPr id="425" name=""/>
            <p:cNvSpPr/>
            <p:nvPr/>
          </p:nvSpPr>
          <p:spPr>
            <a:xfrm>
              <a:off x="3454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88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05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05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99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552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1344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956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5484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9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30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0" y="1741320"/>
            <a:ext cx="9144000" cy="4366080"/>
            <a:chOff x="0" y="1741320"/>
            <a:chExt cx="9144000" cy="4366080"/>
          </a:xfrm>
        </p:grpSpPr>
        <p:sp>
          <p:nvSpPr>
            <p:cNvPr id="438" name="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96720" y="2433600"/>
              <a:ext cx="2183040" cy="3600720"/>
              <a:chOff x="396720" y="2433600"/>
              <a:chExt cx="2183040" cy="36007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873720" y="3352680"/>
                <a:ext cx="1706040" cy="2681640"/>
                <a:chOff x="873720" y="3352680"/>
                <a:chExt cx="1706040" cy="268164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3720" y="3531600"/>
                  <a:ext cx="1578600" cy="2502720"/>
                  <a:chOff x="873720" y="3531600"/>
                  <a:chExt cx="1578600" cy="25027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3876600">
                    <a:off x="41004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3876600">
                    <a:off x="191592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1368360" y="3352680"/>
                  <a:ext cx="1211400" cy="1920240"/>
                  <a:chOff x="1368360" y="3352680"/>
                  <a:chExt cx="1211400" cy="192024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101268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V="1" rot="3876600">
                    <a:off x="215064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8" name=""/>
              <p:cNvGrpSpPr/>
              <p:nvPr/>
            </p:nvGrpSpPr>
            <p:grpSpPr>
              <a:xfrm>
                <a:off x="396720" y="2433600"/>
                <a:ext cx="1441800" cy="1440720"/>
                <a:chOff x="396720" y="2433600"/>
                <a:chExt cx="1441800" cy="14407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2120" y="25272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92120" y="25304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54040" y="25909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571320" y="2608200"/>
                  <a:ext cx="1092240" cy="1092960"/>
                  <a:chOff x="571320" y="2608200"/>
                  <a:chExt cx="1092240" cy="10929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571320" y="26082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85360" y="26143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96520" y="26247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55920" y="26524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9" name=""/>
              <p:cNvSpPr/>
              <p:nvPr/>
            </p:nvSpPr>
            <p:spPr>
              <a:xfrm rot="3925800">
                <a:off x="89784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925800">
                <a:off x="14018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379600" y="2433600"/>
              <a:ext cx="2183040" cy="3600720"/>
              <a:chOff x="2379600" y="2433600"/>
              <a:chExt cx="2183040" cy="3600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2856600" y="3352680"/>
                <a:ext cx="1706040" cy="2681640"/>
                <a:chOff x="2856600" y="3352680"/>
                <a:chExt cx="1706040" cy="268164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2856600" y="3531600"/>
                  <a:ext cx="1578600" cy="2502720"/>
                  <a:chOff x="2856600" y="3531600"/>
                  <a:chExt cx="1578600" cy="25027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3876600">
                    <a:off x="239292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3876600">
                    <a:off x="389880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3351240" y="3352680"/>
                  <a:ext cx="1211400" cy="1920240"/>
                  <a:chOff x="3351240" y="3352680"/>
                  <a:chExt cx="1211400" cy="19202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299556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V="1" rot="3876600">
                    <a:off x="413352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"/>
              <p:cNvGrpSpPr/>
              <p:nvPr/>
            </p:nvGrpSpPr>
            <p:grpSpPr>
              <a:xfrm>
                <a:off x="2379600" y="2433600"/>
                <a:ext cx="1441800" cy="1440720"/>
                <a:chOff x="2379600" y="2433600"/>
                <a:chExt cx="1441800" cy="14407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75000" y="25272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75000" y="25304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536920" y="25909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2554200" y="2608200"/>
                  <a:ext cx="1092240" cy="1092960"/>
                  <a:chOff x="2554200" y="2608200"/>
                  <a:chExt cx="1092240" cy="10929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2554200" y="26082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568240" y="26143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579400" y="26247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638800" y="26524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"/>
              <p:cNvSpPr/>
              <p:nvPr/>
            </p:nvSpPr>
            <p:spPr>
              <a:xfrm rot="3925800">
                <a:off x="28749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3925800">
                <a:off x="33782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427640" y="2433600"/>
              <a:ext cx="2182680" cy="3600720"/>
              <a:chOff x="4427640" y="2433600"/>
              <a:chExt cx="2182680" cy="360072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4904280" y="3352680"/>
                <a:ext cx="1706040" cy="2681640"/>
                <a:chOff x="4904280" y="3352680"/>
                <a:chExt cx="1706040" cy="268164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4904280" y="3531600"/>
                  <a:ext cx="1578600" cy="2502720"/>
                  <a:chOff x="4904280" y="3531600"/>
                  <a:chExt cx="1578600" cy="25027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3876600">
                    <a:off x="444060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3876600">
                    <a:off x="594648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5398920" y="3352680"/>
                  <a:ext cx="1211400" cy="1920240"/>
                  <a:chOff x="5398920" y="3352680"/>
                  <a:chExt cx="1211400" cy="19202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V="1" rot="3876600">
                    <a:off x="504324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 rot="3876600">
                    <a:off x="618120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"/>
              <p:cNvGrpSpPr/>
              <p:nvPr/>
            </p:nvGrpSpPr>
            <p:grpSpPr>
              <a:xfrm>
                <a:off x="4427640" y="2433600"/>
                <a:ext cx="1441440" cy="1440720"/>
                <a:chOff x="4427640" y="2433600"/>
                <a:chExt cx="1441440" cy="1440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23040" y="25272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523040" y="25304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84960" y="25909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"/>
                <p:cNvGrpSpPr/>
                <p:nvPr/>
              </p:nvGrpSpPr>
              <p:grpSpPr>
                <a:xfrm>
                  <a:off x="4602240" y="2608200"/>
                  <a:ext cx="1091880" cy="1092960"/>
                  <a:chOff x="4602240" y="2608200"/>
                  <a:chExt cx="1091880" cy="1092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4602240" y="26082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4616280" y="26143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627440" y="26247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686840" y="26524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"/>
              <p:cNvSpPr/>
              <p:nvPr/>
            </p:nvSpPr>
            <p:spPr>
              <a:xfrm rot="3925800">
                <a:off x="493200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925800">
                <a:off x="54356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442200" y="2274840"/>
              <a:ext cx="2399760" cy="3832560"/>
              <a:chOff x="6442200" y="2274840"/>
              <a:chExt cx="2399760" cy="383256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7136280" y="3425760"/>
                <a:ext cx="1705680" cy="2681640"/>
                <a:chOff x="7136280" y="3425760"/>
                <a:chExt cx="1705680" cy="2681640"/>
              </a:xfrm>
            </p:grpSpPr>
            <p:grpSp>
              <p:nvGrpSpPr>
                <p:cNvPr id="505" name=""/>
                <p:cNvGrpSpPr/>
                <p:nvPr/>
              </p:nvGrpSpPr>
              <p:grpSpPr>
                <a:xfrm>
                  <a:off x="7136280" y="3604680"/>
                  <a:ext cx="1578600" cy="2502720"/>
                  <a:chOff x="7136280" y="3604680"/>
                  <a:chExt cx="1578600" cy="25027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3876600">
                    <a:off x="6672600" y="45766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3876600">
                    <a:off x="8178480" y="55454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630560" y="3425760"/>
                  <a:ext cx="1211400" cy="1920240"/>
                  <a:chOff x="7630560" y="3425760"/>
                  <a:chExt cx="1211400" cy="19202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V="1" rot="3876600">
                    <a:off x="7274880" y="41716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V="1" rot="3876600">
                    <a:off x="8412840" y="4923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6442200" y="22748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442200" y="22748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558120" y="23875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59560" y="23907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632640" y="24638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653160" y="2484360"/>
                <a:ext cx="1312920" cy="1310400"/>
                <a:chOff x="6653160" y="2484360"/>
                <a:chExt cx="1312920" cy="1310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653160" y="24843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669720" y="24915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683400" y="25041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54680" y="25376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 rot="3925800">
                <a:off x="7147080" y="45378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3925800">
                <a:off x="7649640" y="4246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7" name=""/>
            <p:cNvCxnSpPr>
              <a:stCxn id="523" idx="3"/>
              <a:endCxn id="524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stCxn id="524" idx="3"/>
              <a:endCxn id="525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5" idx="3"/>
              <a:endCxn id="526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77b9e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5db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a71d4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4a71d4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75db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77b9e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24280" y="1040760"/>
            <a:ext cx="6879600" cy="4804200"/>
            <a:chOff x="1124280" y="1040760"/>
            <a:chExt cx="6879600" cy="4804200"/>
          </a:xfrm>
        </p:grpSpPr>
        <p:sp>
          <p:nvSpPr>
            <p:cNvPr id="539" name=""/>
            <p:cNvSpPr/>
            <p:nvPr/>
          </p:nvSpPr>
          <p:spPr>
            <a:xfrm>
              <a:off x="2192040" y="4179960"/>
              <a:ext cx="5562360" cy="1325520"/>
            </a:xfrm>
            <a:prstGeom prst="ellipse">
              <a:avLst/>
            </a:prstGeom>
            <a:solidFill>
              <a:srgbClr val="0a2068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466640" y="2066760"/>
              <a:ext cx="576216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523520" y="1904760"/>
              <a:ext cx="556200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437840" y="1890360"/>
              <a:ext cx="570132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20602200">
              <a:off x="1415880" y="1921320"/>
              <a:ext cx="575136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447920" y="1901880"/>
              <a:ext cx="567828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rot="20602200">
              <a:off x="1430280" y="1909800"/>
              <a:ext cx="569916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2984400" y="2619360"/>
              <a:ext cx="269496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99680" y="2841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04800" y="1927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80960" y="238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06840" y="29178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539200">
              <a:off x="1442520" y="1920240"/>
              <a:ext cx="625680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06560" y="3399120"/>
              <a:ext cx="175860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80960" y="3375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8480" y="4137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23360" y="3984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3085920" y="2872080"/>
              <a:ext cx="2585520" cy="1090440"/>
            </a:xfrm>
            <a:prstGeom prst="ellipse">
              <a:avLst/>
            </a:prstGeom>
            <a:gradFill rotWithShape="0">
              <a:gsLst>
                <a:gs pos="0">
                  <a:srgbClr val="0e4d52"/>
                </a:gs>
                <a:gs pos="100000">
                  <a:srgbClr val="00042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82960" y="3794400"/>
              <a:ext cx="128232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33720" y="2100240"/>
            <a:ext cx="5410080" cy="665280"/>
            <a:chOff x="2133720" y="2100240"/>
            <a:chExt cx="5410080" cy="665280"/>
          </a:xfrm>
        </p:grpSpPr>
        <p:grpSp>
          <p:nvGrpSpPr>
            <p:cNvPr id="94" name="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95" name=""/>
              <p:cNvSpPr/>
              <p:nvPr/>
            </p:nvSpPr>
            <p:spPr>
              <a:xfrm>
                <a:off x="2139840" y="2111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78000" y="21394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77b9eb"/>
                  </a:gs>
                  <a:gs pos="100000">
                    <a:srgbClr val="36556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8560" y="21225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32440" y="219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3014640"/>
            <a:ext cx="5410080" cy="665280"/>
            <a:chOff x="2133720" y="3014640"/>
            <a:chExt cx="5410080" cy="665280"/>
          </a:xfrm>
        </p:grpSpPr>
        <p:grpSp>
          <p:nvGrpSpPr>
            <p:cNvPr id="102" name="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139840" y="3025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78000" y="30538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a71d4"/>
                  </a:gs>
                  <a:gs pos="100000">
                    <a:srgbClr val="22346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8560" y="3036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32440" y="311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3906720"/>
            <a:ext cx="5410080" cy="665280"/>
            <a:chOff x="2133720" y="3906720"/>
            <a:chExt cx="5410080" cy="665280"/>
          </a:xfrm>
        </p:grpSpPr>
        <p:grpSp>
          <p:nvGrpSpPr>
            <p:cNvPr id="110" name="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111" name=""/>
              <p:cNvSpPr/>
              <p:nvPr/>
            </p:nvSpPr>
            <p:spPr>
              <a:xfrm>
                <a:off x="2139840" y="3917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78000" y="3945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77b9eb"/>
                  </a:gs>
                  <a:gs pos="100000">
                    <a:srgbClr val="36556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743200" y="45162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8560" y="39290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32440" y="400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4821120"/>
            <a:ext cx="5410080" cy="665280"/>
            <a:chOff x="2133720" y="4821120"/>
            <a:chExt cx="5410080" cy="665280"/>
          </a:xfrm>
        </p:grpSpPr>
        <p:grpSp>
          <p:nvGrpSpPr>
            <p:cNvPr id="118" name=""/>
            <p:cNvGrpSpPr/>
            <p:nvPr/>
          </p:nvGrpSpPr>
          <p:grpSpPr>
            <a:xfrm>
              <a:off x="2133720" y="4821120"/>
              <a:ext cx="762120" cy="665280"/>
              <a:chOff x="2133720" y="4821120"/>
              <a:chExt cx="762120" cy="665280"/>
            </a:xfrm>
          </p:grpSpPr>
          <p:sp>
            <p:nvSpPr>
              <p:cNvPr id="119" name=""/>
              <p:cNvSpPr/>
              <p:nvPr/>
            </p:nvSpPr>
            <p:spPr>
              <a:xfrm>
                <a:off x="2139840" y="4832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3720" y="4821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78000" y="4860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a71d4"/>
                  </a:gs>
                  <a:gs pos="100000">
                    <a:srgbClr val="22346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743200" y="543060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8560" y="4843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3244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7b9e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EA4D-A010-4565-9618-41115FA81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371600" y="281952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13880"/>
                    </a:gs>
                    <a:gs pos="100000">
                      <a:srgbClr val="75db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13880"/>
                  </a:gs>
                  <a:gs pos="100000">
                    <a:srgbClr val="75dbf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09480" y="53337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b9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a71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75dbff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29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2e7f7"/>
              </a:gs>
              <a:gs pos="100000">
                <a:srgbClr val="77b9e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3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5971"/>
                    </a:gs>
                    <a:gs pos="100000">
                      <a:srgbClr val="77b9e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9eb"/>
                    </a:gs>
                    <a:gs pos="100000">
                      <a:srgbClr val="c1dff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a71d4"/>
                  </a:gs>
                  <a:gs pos="100000">
                    <a:srgbClr val="22346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fccef"/>
                  </a:gs>
                  <a:gs pos="100000">
                    <a:srgbClr val="4a71d4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a71d4">
                      <a:alpha val="48235"/>
                    </a:srgbClr>
                  </a:gs>
                  <a:gs pos="100000">
                    <a:srgbClr val="3a59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a71d4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43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10400" y="33526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4d1f0"/>
              </a:gs>
              <a:gs pos="100000">
                <a:srgbClr val="4a71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609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7b9eb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6840" y="1555920"/>
            <a:ext cx="8091000" cy="5225400"/>
            <a:chOff x="456840" y="1555920"/>
            <a:chExt cx="8091000" cy="5225400"/>
          </a:xfrm>
        </p:grpSpPr>
        <p:sp>
          <p:nvSpPr>
            <p:cNvPr id="149" name=""/>
            <p:cNvSpPr/>
            <p:nvPr/>
          </p:nvSpPr>
          <p:spPr>
            <a:xfrm rot="20241600">
              <a:off x="1077840" y="27666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cfcfc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4571640" y="26665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7467120" y="2895120"/>
              <a:ext cx="106704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2971440" y="58669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5714640" y="525744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133360" y="419040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19047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e5f1fa"/>
                </a:gs>
                <a:gs pos="100000">
                  <a:srgbClr val="77b9e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de4f6"/>
                </a:gs>
                <a:gs pos="100000">
                  <a:srgbClr val="4a71d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5f7fe"/>
                </a:gs>
                <a:gs pos="100000">
                  <a:srgbClr val="75db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cf4e3"/>
                </a:gs>
                <a:gs pos="100000">
                  <a:srgbClr val="f6c8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81680" y="21333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e5e5fa"/>
                </a:gs>
                <a:gs pos="100000">
                  <a:srgbClr val="7477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22520" y="38862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39640" y="2361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1388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73200" y="219204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 flipH="1">
              <a:off x="456840" y="219168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1" name="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41480" y="2094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2080" y="2318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92400" y="21067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77" name="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92400" y="352584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3" name="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92400" y="49863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1905120"/>
            <a:ext cx="7383960" cy="4420800"/>
            <a:chOff x="838080" y="1905120"/>
            <a:chExt cx="7383960" cy="4420800"/>
          </a:xfrm>
        </p:grpSpPr>
        <p:grpSp>
          <p:nvGrpSpPr>
            <p:cNvPr id="190" name=""/>
            <p:cNvGrpSpPr/>
            <p:nvPr/>
          </p:nvGrpSpPr>
          <p:grpSpPr>
            <a:xfrm>
              <a:off x="2361960" y="1905120"/>
              <a:ext cx="4419360" cy="4376160"/>
              <a:chOff x="2361960" y="1905120"/>
              <a:chExt cx="4419360" cy="4376160"/>
            </a:xfrm>
          </p:grpSpPr>
          <p:sp>
            <p:nvSpPr>
              <p:cNvPr id="191" name="Puzzle3"/>
              <p:cNvSpPr/>
              <p:nvPr/>
            </p:nvSpPr>
            <p:spPr>
              <a:xfrm>
                <a:off x="4513680" y="19051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2e4786"/>
                  </a:gs>
                  <a:gs pos="100000">
                    <a:srgbClr val="4a71d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Puzzle2"/>
              <p:cNvSpPr/>
              <p:nvPr/>
            </p:nvSpPr>
            <p:spPr>
              <a:xfrm>
                <a:off x="4008960" y="35992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bfedfe"/>
                  </a:gs>
                  <a:gs pos="100000">
                    <a:srgbClr val="75db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Puzzle4"/>
              <p:cNvSpPr/>
              <p:nvPr/>
            </p:nvSpPr>
            <p:spPr>
              <a:xfrm>
                <a:off x="2935800" y="35733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b8daf3"/>
                  </a:gs>
                  <a:gs pos="100000">
                    <a:srgbClr val="77b9eb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Puzzle1"/>
              <p:cNvSpPr/>
              <p:nvPr/>
            </p:nvSpPr>
            <p:spPr>
              <a:xfrm>
                <a:off x="2361960" y="26085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35366d"/>
                  </a:gs>
                  <a:gs pos="100000">
                    <a:srgbClr val="7477ee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477840" y="42811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3671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560" y="19810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59576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143000" y="1981080"/>
            <a:ext cx="7086600" cy="3833640"/>
            <a:chOff x="1143000" y="1981080"/>
            <a:chExt cx="7086600" cy="3833640"/>
          </a:xfrm>
        </p:grpSpPr>
        <p:sp>
          <p:nvSpPr>
            <p:cNvPr id="201" name=""/>
            <p:cNvSpPr/>
            <p:nvPr/>
          </p:nvSpPr>
          <p:spPr>
            <a:xfrm>
              <a:off x="1143000" y="19810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90a8e3">
                    <a:alpha val="12156"/>
                  </a:srgbClr>
                </a:gs>
                <a:gs pos="50000">
                  <a:srgbClr val="4a71d4"/>
                </a:gs>
                <a:gs pos="100000">
                  <a:srgbClr val="90a8e3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7920" y="22860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75dbff"/>
                </a:gs>
                <a:gs pos="100000">
                  <a:srgbClr val="b0e9f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52720" y="23112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5fb"/>
                </a:gs>
                <a:gs pos="100000">
                  <a:srgbClr val="4a71d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83200" y="29732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9fc"/>
                </a:gs>
                <a:gs pos="100000">
                  <a:srgbClr val="77b9e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49600" y="36338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5fb"/>
                </a:gs>
                <a:gs pos="100000">
                  <a:srgbClr val="4a71d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3200" y="42940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9fc"/>
                </a:gs>
                <a:gs pos="100000">
                  <a:srgbClr val="77b9e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52720" y="49561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f5fb"/>
                </a:gs>
                <a:gs pos="100000">
                  <a:srgbClr val="4a71d4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1388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720" y="3047760"/>
              <a:ext cx="1535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13880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13880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13880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7b9eb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4125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2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17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3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5Z</dcterms:modified>
  <cp:revision>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