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0F8-6C71-45B6-A60B-2B745044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C2B-D04B-4C45-9039-7DB77A0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C95-D198-4EA7-A21C-A4CCD6C7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36F-829D-4852-B70E-ABC9D51D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0C8-D079-49CF-82E6-360B15F4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500-06AE-42DC-A495-04A120C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8F27-4B4F-4F41-A1A2-30EB7B2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1FB4-CF46-42BF-9EA2-C61C9D4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F014-9C86-4780-884D-0D09EE07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B8E2-B564-4EE5-A3A5-446F628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8CC-063E-480E-B422-02FE42D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4B9-070B-43B8-941C-A8819F3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778-3FA6-4EE2-BBDD-7023C38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085-0ABC-4281-839E-C3F0AB7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742F-C3F7-4DD5-8B2B-FDA6F8B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58B2-4A4F-4FB4-A219-2015A217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A680-AF74-4919-A468-02CA8DC0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F66-F082-47A7-ADE2-44D414F0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F92-339D-4198-9991-AA2D96C8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A61-377A-4F03-815B-583F9E7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F41-3043-4E33-9764-2AE39A56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15E-5A32-4850-A3F3-38403C5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46-5E86-4F37-9F2C-D2793D8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B1F-2A6C-486F-A102-9E4C5C6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9CB-0354-4CA1-A5FB-E215DFBA68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696-E823-4FBF-A7D5-238F05A8E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357200"/>
            <a:ext cx="7286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7B3-8D22-45EA-9832-86400F6A9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模块1.png"/>
          <p:cNvPicPr/>
          <p:nvPr/>
        </p:nvPicPr>
        <p:blipFill>
          <a:blip r:embed="rId2"/>
          <a:srcRect l="16882" t="0" r="0" b="0"/>
          <a:stretch/>
        </p:blipFill>
        <p:spPr>
          <a:xfrm>
            <a:off x="0" y="1785960"/>
            <a:ext cx="9144000" cy="4422600"/>
          </a:xfrm>
          <a:prstGeom prst="rect">
            <a:avLst/>
          </a:prstGeom>
          <a:ln w="0">
            <a:noFill/>
          </a:ln>
        </p:spPr>
      </p:pic>
      <p:pic>
        <p:nvPicPr>
          <p:cNvPr id="89" name="矩形 3" descr=""/>
          <p:cNvPicPr/>
          <p:nvPr/>
        </p:nvPicPr>
        <p:blipFill>
          <a:blip r:embed="rId3"/>
          <a:stretch/>
        </p:blipFill>
        <p:spPr>
          <a:xfrm>
            <a:off x="2567160" y="2822400"/>
            <a:ext cx="4157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3:38:3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0:51Z</dcterms:modified>
  <cp:revision>90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