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1F8-D3A1-4C40-A117-400D8D90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CF1-94FD-40EE-8E12-E9F5226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486-018E-4014-A667-69C29442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2AD-5ABE-4780-B330-BD2D6391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23D-5012-4186-9560-566D0865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D5C-64D7-4D3C-99EB-4A715EBF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F95-5807-4132-B464-72886BD8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185-C282-46F3-BE2F-762C9682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6CC-F66F-42C9-AFF2-7742F957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A68-3335-4797-84A3-74FB184F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AB9-955C-4F9F-A14A-485EB85B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945-CE4B-491F-BA2D-519B1004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1932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1039680" cy="6845400"/>
          </a:xfrm>
          <a:prstGeom prst="rect">
            <a:avLst/>
          </a:prstGeom>
          <a:gradFill rotWithShape="0">
            <a:gsLst>
              <a:gs pos="0">
                <a:srgbClr val="009183"/>
              </a:gs>
              <a:gs pos="100000">
                <a:srgbClr val="00b7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160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cec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039680" cy="6845400"/>
          </a:xfrm>
          <a:prstGeom prst="rect">
            <a:avLst/>
          </a:prstGeom>
          <a:gradFill rotWithShape="0">
            <a:gsLst>
              <a:gs pos="0">
                <a:srgbClr val="009183"/>
              </a:gs>
              <a:gs pos="100000">
                <a:srgbClr val="00b7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C238-9658-4A9F-B28B-FAD10BE2B7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C40-3000-4540-8582-1B31024A9E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4880" y="123084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某求职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04240" y="3645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姓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04240" y="4149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专业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2480" y="404640"/>
            <a:ext cx="55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专业背景绿色简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41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