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65000" y="83304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内乘法（二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79280" y="2060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乘法口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免费下载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3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684360" y="94284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928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5"/>
          <p:cNvSpPr/>
          <p:nvPr/>
        </p:nvSpPr>
        <p:spPr>
          <a:xfrm>
            <a:off x="611280" y="1628640"/>
            <a:ext cx="79707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2013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月第一个星期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一是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号，第二个星期一是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    ）号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号是第（    ）个星期一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日是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3200400" indent="-3200400">
              <a:lnSpc>
                <a:spcPct val="12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星期（    ）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42920" y="3716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来读读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835280" y="54435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什么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835280" y="414828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1806480" y="4579920"/>
            <a:ext cx="70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想解决这些问题，你有什么想法，和同桌说一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808280" y="5011560"/>
            <a:ext cx="44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来说说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1014480" y="2149200"/>
            <a:ext cx="70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4387680" y="2134800"/>
            <a:ext cx="65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1692360" y="2638080"/>
            <a:ext cx="65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4286160" y="3165480"/>
            <a:ext cx="3000600" cy="85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5009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计算铺垫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998640" y="172656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看屏幕，口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63640" y="558972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们算得真快，说说怎么算得这么快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763640" y="60562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结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看来，乘法口诀可以使我们的口算又对又快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Rectangle 29"/>
          <p:cNvSpPr/>
          <p:nvPr/>
        </p:nvSpPr>
        <p:spPr>
          <a:xfrm>
            <a:off x="1803240" y="2384280"/>
            <a:ext cx="272736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6229440" y="3165480"/>
            <a:ext cx="136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36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6229440" y="3165480"/>
            <a:ext cx="75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6229440" y="3165480"/>
            <a:ext cx="143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Rectangle 25"/>
          <p:cNvSpPr/>
          <p:nvPr/>
        </p:nvSpPr>
        <p:spPr>
          <a:xfrm>
            <a:off x="6229440" y="316548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6229440" y="3165480"/>
            <a:ext cx="753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8" descr="72-1"/>
          <p:cNvPicPr/>
          <p:nvPr/>
        </p:nvPicPr>
        <p:blipFill>
          <a:blip r:embed="rId2"/>
          <a:stretch/>
        </p:blipFill>
        <p:spPr>
          <a:xfrm>
            <a:off x="1692360" y="3213000"/>
            <a:ext cx="5476680" cy="665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借助直观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557360" y="3933720"/>
            <a:ext cx="64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仔细观察，你知道了什么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49640" y="4257720"/>
            <a:ext cx="47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们怎么这么快就算出结果了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564360" y="3515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418752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479448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5409000" y="3512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1704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6627600" y="351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249640" y="4616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们都是用几的口诀算出结果的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2249640" y="4976640"/>
            <a:ext cx="42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. 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乘法口诀有几句，哪几句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249640" y="5308560"/>
            <a:ext cx="511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们能任选一句口诀，边指着主题图，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边说说口诀表示的意思吗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2249640" y="60213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谁能不看着主题图，选一句口诀说说它表示的意思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2249640" y="63435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说出每句口诀分别可以计算哪个算式吗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6" name="Picture 27" descr="未标题-8"/>
          <p:cNvPicPr/>
          <p:nvPr/>
        </p:nvPicPr>
        <p:blipFill>
          <a:blip r:embed="rId3"/>
          <a:stretch/>
        </p:blipFill>
        <p:spPr>
          <a:xfrm>
            <a:off x="1619280" y="2079720"/>
            <a:ext cx="63374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47"/>
          <p:cNvSpPr/>
          <p:nvPr/>
        </p:nvSpPr>
        <p:spPr>
          <a:xfrm>
            <a:off x="3203640" y="2295360"/>
            <a:ext cx="1911240" cy="2975040"/>
          </a:xfrm>
          <a:custGeom>
            <a:avLst/>
            <a:gdLst>
              <a:gd name="textAreaLeft" fmla="*/ 93240 w 1911240"/>
              <a:gd name="textAreaRight" fmla="*/ 1818000 w 1911240"/>
              <a:gd name="textAreaTop" fmla="*/ 93240 h 2975040"/>
              <a:gd name="textAreaBottom" fmla="*/ 2881800 h 2975040"/>
            </a:gdLst>
            <a:ahLst/>
            <a:rect l="textAreaLeft" t="textAreaTop" r="textAreaRight" b="textAreaBottom"/>
            <a:pathLst>
              <a:path w="21600" h="33620">
                <a:moveTo>
                  <a:pt x="3600" y="0"/>
                </a:moveTo>
                <a:arcTo wR="3600" hR="3600" stAng="16200000" swAng="-5400000"/>
                <a:lnTo>
                  <a:pt x="0" y="30020"/>
                </a:lnTo>
                <a:arcTo wR="3600" hR="3600" stAng="10800000" swAng="-5400000"/>
                <a:lnTo>
                  <a:pt x="18000" y="33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92040" y="161928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借助直观，自主探索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247840" y="55548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让我们来读读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3328920" y="2384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七得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5343480" y="238428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3328920" y="278136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七十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3328920" y="3176640"/>
            <a:ext cx="16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七二十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328920" y="3571920"/>
            <a:ext cx="16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四七二十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3328920" y="39686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五七三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3328920" y="436392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六七四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3328920" y="476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七七四十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5343480" y="278136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5343480" y="317664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Rectangle 36"/>
          <p:cNvSpPr/>
          <p:nvPr/>
        </p:nvSpPr>
        <p:spPr>
          <a:xfrm>
            <a:off x="5343480" y="357192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Rectangle 37"/>
          <p:cNvSpPr/>
          <p:nvPr/>
        </p:nvSpPr>
        <p:spPr>
          <a:xfrm>
            <a:off x="5343480" y="396864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Rectangle 38"/>
          <p:cNvSpPr/>
          <p:nvPr/>
        </p:nvSpPr>
        <p:spPr>
          <a:xfrm>
            <a:off x="5343480" y="4363920"/>
            <a:ext cx="16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Rectangle 40"/>
          <p:cNvSpPr/>
          <p:nvPr/>
        </p:nvSpPr>
        <p:spPr>
          <a:xfrm>
            <a:off x="1654200" y="238428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Rectangle 41"/>
          <p:cNvSpPr/>
          <p:nvPr/>
        </p:nvSpPr>
        <p:spPr>
          <a:xfrm>
            <a:off x="1654200" y="27813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42"/>
          <p:cNvSpPr/>
          <p:nvPr/>
        </p:nvSpPr>
        <p:spPr>
          <a:xfrm>
            <a:off x="1654200" y="31766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Rectangle 43"/>
          <p:cNvSpPr/>
          <p:nvPr/>
        </p:nvSpPr>
        <p:spPr>
          <a:xfrm>
            <a:off x="1654200" y="35719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Rectangle 44"/>
          <p:cNvSpPr/>
          <p:nvPr/>
        </p:nvSpPr>
        <p:spPr>
          <a:xfrm>
            <a:off x="1654200" y="39686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Rectangle 45"/>
          <p:cNvSpPr/>
          <p:nvPr/>
        </p:nvSpPr>
        <p:spPr>
          <a:xfrm>
            <a:off x="1654200" y="43639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Rectangle 46"/>
          <p:cNvSpPr/>
          <p:nvPr/>
        </p:nvSpPr>
        <p:spPr>
          <a:xfrm>
            <a:off x="1654200" y="476100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6"/>
          <p:cNvSpPr/>
          <p:nvPr/>
        </p:nvSpPr>
        <p:spPr>
          <a:xfrm>
            <a:off x="3059280" y="2417760"/>
            <a:ext cx="66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92040" y="159084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发现规律，记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220760" y="429264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不看着黑板背一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乘法口诀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685880" y="4724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哪句口诀难记？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682640" y="515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想出办法帮他记住这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8" name="Group 26"/>
          <p:cNvGrpSpPr/>
          <p:nvPr/>
        </p:nvGrpSpPr>
        <p:grpSpPr>
          <a:xfrm>
            <a:off x="1403280" y="2332080"/>
            <a:ext cx="3097080" cy="1655640"/>
            <a:chOff x="1403280" y="2332080"/>
            <a:chExt cx="3097080" cy="1655640"/>
          </a:xfrm>
        </p:grpSpPr>
        <p:sp>
          <p:nvSpPr>
            <p:cNvPr id="259" name="Rectangle 13"/>
            <p:cNvSpPr/>
            <p:nvPr/>
          </p:nvSpPr>
          <p:spPr>
            <a:xfrm>
              <a:off x="1403280" y="2332080"/>
              <a:ext cx="3097080" cy="1655640"/>
            </a:xfrm>
            <a:prstGeom prst="rect">
              <a:avLst/>
            </a:prstGeom>
            <a:solidFill>
              <a:srgbClr val="ff8181"/>
            </a:solidFill>
            <a:ln w="0">
              <a:noFill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0" name="Text Box 14"/>
            <p:cNvSpPr/>
            <p:nvPr/>
          </p:nvSpPr>
          <p:spPr>
            <a:xfrm>
              <a:off x="1939680" y="2637000"/>
              <a:ext cx="20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连加算式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Text Box 15"/>
            <p:cNvSpPr/>
            <p:nvPr/>
          </p:nvSpPr>
          <p:spPr>
            <a:xfrm>
              <a:off x="1890720" y="3267720"/>
              <a:ext cx="21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2" name="Group 27"/>
          <p:cNvGrpSpPr/>
          <p:nvPr/>
        </p:nvGrpSpPr>
        <p:grpSpPr>
          <a:xfrm>
            <a:off x="4788000" y="2330280"/>
            <a:ext cx="3311280" cy="1655640"/>
            <a:chOff x="4788000" y="2330280"/>
            <a:chExt cx="3311280" cy="1655640"/>
          </a:xfrm>
        </p:grpSpPr>
        <p:sp>
          <p:nvSpPr>
            <p:cNvPr id="263" name="Rectangle 18"/>
            <p:cNvSpPr/>
            <p:nvPr/>
          </p:nvSpPr>
          <p:spPr>
            <a:xfrm>
              <a:off x="4788000" y="2330280"/>
              <a:ext cx="3311280" cy="1655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4" name="Text Box 19"/>
            <p:cNvSpPr/>
            <p:nvPr/>
          </p:nvSpPr>
          <p:spPr>
            <a:xfrm>
              <a:off x="4919400" y="2359440"/>
              <a:ext cx="3030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多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少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加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5" name="Text Box 24"/>
          <p:cNvSpPr/>
          <p:nvPr/>
        </p:nvSpPr>
        <p:spPr>
          <a:xfrm>
            <a:off x="1219320" y="5587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同学们用了不同的方法记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句口诀，其他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口诀同学们也可以用这些方法来帮助记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417240"/>
            <a:ext cx="8506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692360" y="4437000"/>
            <a:ext cx="67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聪聪在学习口诀时遇到困难了，快听听他遇到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什么困难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11280" y="169020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说一说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463840" y="530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四七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463840" y="5732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2840040" y="3543120"/>
            <a:ext cx="19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</a:rPr>
              <a:t>二十八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2" name="Picture 13" descr="10"/>
          <p:cNvPicPr/>
          <p:nvPr/>
        </p:nvPicPr>
        <p:blipFill>
          <a:blip r:embed="rId2"/>
          <a:stretch/>
        </p:blipFill>
        <p:spPr>
          <a:xfrm>
            <a:off x="5003640" y="1844640"/>
            <a:ext cx="1492560" cy="194472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14"/>
          <p:cNvSpPr/>
          <p:nvPr/>
        </p:nvSpPr>
        <p:spPr>
          <a:xfrm>
            <a:off x="2195640" y="2565360"/>
            <a:ext cx="2376360" cy="496440"/>
          </a:xfrm>
          <a:prstGeom prst="wedgeRoundRectCallout">
            <a:avLst>
              <a:gd name="adj1" fmla="val 68023"/>
              <a:gd name="adj2" fmla="val 2854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四七等于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1692360" y="3546360"/>
            <a:ext cx="303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四七（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6656400" y="34434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聪聪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1547640" y="5192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你快速说出结果，并说说你用的是哪句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11280" y="1690200"/>
            <a:ext cx="39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算一算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1589040" y="2673360"/>
            <a:ext cx="6561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2657520" y="2681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47703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6908760" y="26812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2655720" y="347184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47689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6907320" y="34732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2655720" y="4254480"/>
            <a:ext cx="73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4768920" y="4254480"/>
            <a:ext cx="48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6907320" y="4254480"/>
            <a:ext cx="73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1"/>
          <p:cNvSpPr/>
          <p:nvPr/>
        </p:nvSpPr>
        <p:spPr>
          <a:xfrm>
            <a:off x="1187280" y="3573000"/>
            <a:ext cx="407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口诀是：（           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203480" y="451008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846520" y="3562200"/>
            <a:ext cx="199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五七三十五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611280" y="1690560"/>
            <a:ext cx="523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篮子里一共有多少颗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978200" y="5300640"/>
            <a:ext cx="713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想求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篮子里一共有多少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能列个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1978200" y="5732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什么用乘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243160" y="4869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一个星期是几天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9" name="Group 32"/>
          <p:cNvGrpSpPr/>
          <p:nvPr/>
        </p:nvGrpSpPr>
        <p:grpSpPr>
          <a:xfrm>
            <a:off x="1387440" y="2708280"/>
            <a:ext cx="3863880" cy="557280"/>
            <a:chOff x="1387440" y="2708280"/>
            <a:chExt cx="3863880" cy="557280"/>
          </a:xfrm>
        </p:grpSpPr>
        <p:grpSp>
          <p:nvGrpSpPr>
            <p:cNvPr id="300" name="Group 29"/>
            <p:cNvGrpSpPr/>
            <p:nvPr/>
          </p:nvGrpSpPr>
          <p:grpSpPr>
            <a:xfrm>
              <a:off x="1387440" y="2708280"/>
              <a:ext cx="2838600" cy="557280"/>
              <a:chOff x="1387440" y="2708280"/>
              <a:chExt cx="2838600" cy="557280"/>
            </a:xfrm>
          </p:grpSpPr>
          <p:sp>
            <p:nvSpPr>
              <p:cNvPr id="301" name="Oval 24"/>
              <p:cNvSpPr/>
              <p:nvPr/>
            </p:nvSpPr>
            <p:spPr>
              <a:xfrm>
                <a:off x="2025720" y="2725920"/>
                <a:ext cx="539640" cy="539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2" name="Rectangle 25"/>
              <p:cNvSpPr/>
              <p:nvPr/>
            </p:nvSpPr>
            <p:spPr>
              <a:xfrm>
                <a:off x="1387440" y="2725920"/>
                <a:ext cx="503280" cy="502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3" name="Rectangle 26"/>
              <p:cNvSpPr/>
              <p:nvPr/>
            </p:nvSpPr>
            <p:spPr>
              <a:xfrm>
                <a:off x="2711520" y="2725920"/>
                <a:ext cx="503280" cy="502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4" name="Rectangle 27"/>
              <p:cNvSpPr/>
              <p:nvPr/>
            </p:nvSpPr>
            <p:spPr>
              <a:xfrm>
                <a:off x="3722760" y="2725920"/>
                <a:ext cx="503280" cy="502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5" name="Text Box 28"/>
              <p:cNvSpPr/>
              <p:nvPr/>
            </p:nvSpPr>
            <p:spPr>
              <a:xfrm>
                <a:off x="3277440" y="2708280"/>
                <a:ext cx="378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6" name="Text Box 12"/>
            <p:cNvSpPr/>
            <p:nvPr/>
          </p:nvSpPr>
          <p:spPr>
            <a:xfrm>
              <a:off x="4129200" y="2720520"/>
              <a:ext cx="112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（颗）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7" name="Group 30"/>
          <p:cNvGrpSpPr/>
          <p:nvPr/>
        </p:nvGrpSpPr>
        <p:grpSpPr>
          <a:xfrm>
            <a:off x="1378080" y="2715840"/>
            <a:ext cx="3004560" cy="513720"/>
            <a:chOff x="1378080" y="2715840"/>
            <a:chExt cx="3004560" cy="513720"/>
          </a:xfrm>
        </p:grpSpPr>
        <p:sp>
          <p:nvSpPr>
            <p:cNvPr id="308" name="Text Box 17"/>
            <p:cNvSpPr/>
            <p:nvPr/>
          </p:nvSpPr>
          <p:spPr>
            <a:xfrm>
              <a:off x="2741400" y="2715840"/>
              <a:ext cx="471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9" name="Text Box 18"/>
            <p:cNvSpPr/>
            <p:nvPr/>
          </p:nvSpPr>
          <p:spPr>
            <a:xfrm>
              <a:off x="1378080" y="2733480"/>
              <a:ext cx="533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0" name="Text Box 19"/>
            <p:cNvSpPr/>
            <p:nvPr/>
          </p:nvSpPr>
          <p:spPr>
            <a:xfrm>
              <a:off x="3582720" y="2715840"/>
              <a:ext cx="799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1" name="Text Box 20"/>
            <p:cNvSpPr/>
            <p:nvPr/>
          </p:nvSpPr>
          <p:spPr>
            <a:xfrm>
              <a:off x="2039760" y="2739600"/>
              <a:ext cx="518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×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2" name="Group 23"/>
          <p:cNvGrpSpPr/>
          <p:nvPr/>
        </p:nvGrpSpPr>
        <p:grpSpPr>
          <a:xfrm>
            <a:off x="5240160" y="1773360"/>
            <a:ext cx="3292560" cy="2836800"/>
            <a:chOff x="5240160" y="1773360"/>
            <a:chExt cx="3292560" cy="2836800"/>
          </a:xfrm>
        </p:grpSpPr>
        <p:pic>
          <p:nvPicPr>
            <p:cNvPr id="313" name="Object 8" descr=""/>
            <p:cNvPicPr/>
            <p:nvPr/>
          </p:nvPicPr>
          <p:blipFill>
            <a:blip r:embed="rId2"/>
            <a:stretch/>
          </p:blipFill>
          <p:spPr>
            <a:xfrm>
              <a:off x="7210080" y="3284640"/>
              <a:ext cx="132264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AutoShape 21"/>
            <p:cNvSpPr/>
            <p:nvPr/>
          </p:nvSpPr>
          <p:spPr>
            <a:xfrm>
              <a:off x="5240160" y="1773360"/>
              <a:ext cx="2644920" cy="1286280"/>
            </a:xfrm>
            <a:prstGeom prst="wedgeRoundRectCallout">
              <a:avLst>
                <a:gd name="adj1" fmla="val 30236"/>
                <a:gd name="adj2" fmla="val 65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每天吃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颗松果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篮子里的松果够我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吃一个星期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15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>幻灯片之家 http:/www.eeppt.com</cp:keywords>
  <dc:language>en-US</dc:language>
  <cp:lastModifiedBy/>
  <dcterms:modified xsi:type="dcterms:W3CDTF">2015-07-20T07:34:35Z</dcterms:modified>
  <cp:revision>4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