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13.wmf" ContentType="image/x-wmf"/>
  <Override PartName="/ppt/media/image11.png" ContentType="image/png"/>
  <Override PartName="/ppt/media/camera.wav" ContentType="audio/x-wav"/>
  <Override PartName="/ppt/media/chimes.wav" ContentType="audio/x-wav"/>
  <Override PartName="/ppt/media/image6.jpeg" ContentType="image/jpeg"/>
  <Override PartName="/ppt/media/image7.wmf" ContentType="image/x-wmf"/>
  <Override PartName="/ppt/media/image3.gif" ContentType="image/gif"/>
  <Override PartName="/ppt/media/image1.gif" ContentType="image/gif"/>
  <Override PartName="/ppt/media/image4.png" ContentType="image/png"/>
  <Override PartName="/ppt/media/image5.gif" ContentType="image/gif"/>
  <Override PartName="/ppt/media/image9.png" ContentType="image/png"/>
  <Override PartName="/ppt/media/image12.jpeg" ContentType="image/jpeg"/>
  <Override PartName="/ppt/media/cashreg.wav" ContentType="audio/x-wav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B08-0002-4E12-8CE0-FCE0FA7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8BF-3B83-47C9-9F09-016C3E49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F54-8F7B-4A14-85AF-98F4262F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956-0BFF-4D21-A9D3-02CC3D35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B7C-7638-4CAC-819D-9227D225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FDF-4921-4BD6-A134-075FCD39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5DB-D751-4749-8E87-597CF3CB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420-4EA2-4AC6-9E26-E9ED0FCB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0EA-0108-4F9E-8578-EB6001B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B6D-A0F0-4196-8E8C-1BE66AB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24F-0838-4256-B4CE-3766DB4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D5C-835F-4DDD-8C22-5D52B64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3A7-E5D6-4176-ACDF-71CFD17C5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wmf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162920" y="91440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3333cc"/>
                </a:solidFill>
                <a:latin typeface="Times New Roman"/>
              </a:rPr>
              <a:t>%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" descr="006"/>
          <p:cNvPicPr/>
          <p:nvPr/>
        </p:nvPicPr>
        <p:blipFill>
          <a:blip r:embed="rId1"/>
          <a:stretch/>
        </p:blipFill>
        <p:spPr>
          <a:xfrm>
            <a:off x="5867280" y="620640"/>
            <a:ext cx="1455840" cy="1944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395280" y="476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九年义务教育人教版   数学第十一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06760" y="278136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百分数的应用题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贺词框2"/>
          <p:cNvPicPr/>
          <p:nvPr/>
        </p:nvPicPr>
        <p:blipFill>
          <a:blip r:embed="rId1"/>
          <a:stretch/>
        </p:blipFill>
        <p:spPr>
          <a:xfrm>
            <a:off x="3419640" y="476280"/>
            <a:ext cx="5181480" cy="4857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14800" y="68544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你知道吗？农村现在实行科学种田了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003"/>
          <p:cNvPicPr/>
          <p:nvPr/>
        </p:nvPicPr>
        <p:blipFill>
          <a:blip r:embed="rId2"/>
          <a:stretch/>
        </p:blipFill>
        <p:spPr>
          <a:xfrm>
            <a:off x="324000" y="3716280"/>
            <a:ext cx="3528720" cy="2789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9640" y="184428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某县种子推广站，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粒玉米种子作发芽试验，结果有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8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粒种子发芽。求发芽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PE01561_"/>
          <p:cNvPicPr/>
          <p:nvPr/>
        </p:nvPicPr>
        <p:blipFill>
          <a:blip r:embed="rId2"/>
          <a:stretch/>
        </p:blipFill>
        <p:spPr>
          <a:xfrm>
            <a:off x="6732720" y="4724280"/>
            <a:ext cx="2138400" cy="141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w027"/>
          <p:cNvPicPr/>
          <p:nvPr/>
        </p:nvPicPr>
        <p:blipFill>
          <a:blip r:embed="rId3"/>
          <a:stretch/>
        </p:blipFill>
        <p:spPr>
          <a:xfrm>
            <a:off x="5651640" y="400536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w027"/>
          <p:cNvPicPr/>
          <p:nvPr/>
        </p:nvPicPr>
        <p:blipFill>
          <a:blip r:embed="rId4"/>
          <a:stretch/>
        </p:blipFill>
        <p:spPr>
          <a:xfrm>
            <a:off x="7524720" y="2924280"/>
            <a:ext cx="129528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w027"/>
          <p:cNvPicPr/>
          <p:nvPr/>
        </p:nvPicPr>
        <p:blipFill>
          <a:blip r:embed="rId5"/>
          <a:stretch/>
        </p:blipFill>
        <p:spPr>
          <a:xfrm>
            <a:off x="6588000" y="364500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w027"/>
          <p:cNvPicPr/>
          <p:nvPr/>
        </p:nvPicPr>
        <p:blipFill>
          <a:blip r:embed="rId6"/>
          <a:stretch/>
        </p:blipFill>
        <p:spPr>
          <a:xfrm>
            <a:off x="7696080" y="23623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976680" y="3645000"/>
            <a:ext cx="13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发芽率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116520" y="35002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芽种子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验种子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2627280" y="40053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164920" y="364500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116000" y="4724280"/>
            <a:ext cx="86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8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111600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1908000" y="5084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419640" y="50846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96 ×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796000" y="508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8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0" y="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例题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麦的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出粉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708360" y="1052640"/>
            <a:ext cx="24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面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重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麦的重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780000" y="1700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329160" y="1341360"/>
            <a:ext cx="15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890640" y="2924280"/>
            <a:ext cx="21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产品的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合格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114080" y="2637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合格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产品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产品的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3708360" y="32846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473520" y="2924280"/>
            <a:ext cx="15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692360" y="450864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出勤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185720" y="41497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实际出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应出勤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564000" y="47973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89520" y="4508640"/>
            <a:ext cx="15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公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7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克花生仁榨出花生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克，写出求花生仁出油率的公式，并计算出花生仁的出油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762120" y="533520"/>
            <a:ext cx="2361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做一做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97680" y="4508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花生仁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出油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69800" y="4869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556000" y="44370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花生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重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2771640" y="51577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3106080" y="5300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花生仁的重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5896800" y="47973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469-7446-4E4A-98AC-A2F28C5268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科技小组进行种子发芽试验，每次试验的结果如下表。算出发芽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4400" y="1752480"/>
          <a:ext cx="7772400" cy="4919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试验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试验种子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粒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芽种子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粒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芽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55"/>
          <p:cNvSpPr/>
          <p:nvPr/>
        </p:nvSpPr>
        <p:spPr>
          <a:xfrm>
            <a:off x="7316640" y="2666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7310160" y="37893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7316640" y="46483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7316640" y="5638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0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1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华文彩云"/>
              </a:rPr>
              <a:t>实践活动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75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统计一下自己家中上个月的开支情况，算一算各项开支各占总支出的百分之几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BS00823_"/>
          <p:cNvPicPr/>
          <p:nvPr/>
        </p:nvPicPr>
        <p:blipFill>
          <a:blip r:embed="rId2"/>
          <a:stretch/>
        </p:blipFill>
        <p:spPr>
          <a:xfrm>
            <a:off x="6040440" y="4214880"/>
            <a:ext cx="310356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0" y="0"/>
            <a:ext cx="132228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实践活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7"/>
          <p:cNvSpPr/>
          <p:nvPr/>
        </p:nvSpPr>
        <p:spPr>
          <a:xfrm rot="5382600">
            <a:off x="1331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9"/>
          <p:cNvSpPr/>
          <p:nvPr/>
        </p:nvSpPr>
        <p:spPr>
          <a:xfrm>
            <a:off x="281160" y="2811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17560" y="9698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分数与小数互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69960" y="209700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578960" y="35910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63840" y="51148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437080" y="21319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442840" y="3591000"/>
            <a:ext cx="12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442840" y="5114880"/>
            <a:ext cx="11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72480" y="2117880"/>
            <a:ext cx="13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673720" y="3611520"/>
            <a:ext cx="16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.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446560" y="5135400"/>
            <a:ext cx="15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300360" y="2112840"/>
            <a:ext cx="12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604200" y="360216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1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6580800" y="51148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17560" y="934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分数与分数互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807920" y="1890720"/>
            <a:ext cx="10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829160" y="3403440"/>
            <a:ext cx="8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828080" y="4927680"/>
            <a:ext cx="13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5429520" y="3220920"/>
            <a:ext cx="589320" cy="1070280"/>
            <a:chOff x="5429520" y="3220920"/>
            <a:chExt cx="589320" cy="1070280"/>
          </a:xfrm>
        </p:grpSpPr>
        <p:sp>
          <p:nvSpPr>
            <p:cNvPr id="70" name="Text Box 9"/>
            <p:cNvSpPr/>
            <p:nvPr/>
          </p:nvSpPr>
          <p:spPr>
            <a:xfrm>
              <a:off x="5525640" y="322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5429520" y="37098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5464080" y="3735360"/>
              <a:ext cx="5126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5486400" y="1751040"/>
            <a:ext cx="533520" cy="1070280"/>
            <a:chOff x="5486400" y="1751040"/>
            <a:chExt cx="533520" cy="1070280"/>
          </a:xfrm>
        </p:grpSpPr>
        <p:sp>
          <p:nvSpPr>
            <p:cNvPr id="74" name="Text Box 13"/>
            <p:cNvSpPr/>
            <p:nvPr/>
          </p:nvSpPr>
          <p:spPr>
            <a:xfrm>
              <a:off x="5547960" y="1751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4"/>
            <p:cNvSpPr/>
            <p:nvPr/>
          </p:nvSpPr>
          <p:spPr>
            <a:xfrm>
              <a:off x="5563800" y="2239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5"/>
            <p:cNvSpPr/>
            <p:nvPr/>
          </p:nvSpPr>
          <p:spPr>
            <a:xfrm>
              <a:off x="5486400" y="226548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16"/>
          <p:cNvGrpSpPr/>
          <p:nvPr/>
        </p:nvGrpSpPr>
        <p:grpSpPr>
          <a:xfrm>
            <a:off x="5486400" y="4743360"/>
            <a:ext cx="533520" cy="1049760"/>
            <a:chOff x="5486400" y="4743360"/>
            <a:chExt cx="533520" cy="1049760"/>
          </a:xfrm>
        </p:grpSpPr>
        <p:sp>
          <p:nvSpPr>
            <p:cNvPr id="78" name="Text Box 17"/>
            <p:cNvSpPr/>
            <p:nvPr/>
          </p:nvSpPr>
          <p:spPr>
            <a:xfrm>
              <a:off x="5547960" y="474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8"/>
            <p:cNvSpPr/>
            <p:nvPr/>
          </p:nvSpPr>
          <p:spPr>
            <a:xfrm>
              <a:off x="5542920" y="521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9"/>
            <p:cNvSpPr/>
            <p:nvPr/>
          </p:nvSpPr>
          <p:spPr>
            <a:xfrm>
              <a:off x="5486400" y="5257800"/>
              <a:ext cx="53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20"/>
          <p:cNvGrpSpPr/>
          <p:nvPr/>
        </p:nvGrpSpPr>
        <p:grpSpPr>
          <a:xfrm>
            <a:off x="2791080" y="1676520"/>
            <a:ext cx="1018800" cy="1029240"/>
            <a:chOff x="2791080" y="1676520"/>
            <a:chExt cx="1018800" cy="1029240"/>
          </a:xfrm>
        </p:grpSpPr>
        <p:sp>
          <p:nvSpPr>
            <p:cNvPr id="82" name="Text Box 21"/>
            <p:cNvSpPr/>
            <p:nvPr/>
          </p:nvSpPr>
          <p:spPr>
            <a:xfrm>
              <a:off x="2791080" y="18702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22"/>
            <p:cNvGrpSpPr/>
            <p:nvPr/>
          </p:nvGrpSpPr>
          <p:grpSpPr>
            <a:xfrm>
              <a:off x="3276720" y="1676520"/>
              <a:ext cx="533160" cy="1029240"/>
              <a:chOff x="3276720" y="1676520"/>
              <a:chExt cx="533160" cy="1029240"/>
            </a:xfrm>
          </p:grpSpPr>
          <p:sp>
            <p:nvSpPr>
              <p:cNvPr id="84" name="Text Box 23"/>
              <p:cNvSpPr/>
              <p:nvPr/>
            </p:nvSpPr>
            <p:spPr>
              <a:xfrm>
                <a:off x="3337920" y="16765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24"/>
              <p:cNvSpPr/>
              <p:nvPr/>
            </p:nvSpPr>
            <p:spPr>
              <a:xfrm>
                <a:off x="3332880" y="21243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5"/>
              <p:cNvSpPr/>
              <p:nvPr/>
            </p:nvSpPr>
            <p:spPr>
              <a:xfrm>
                <a:off x="3276720" y="2190960"/>
                <a:ext cx="53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Group 26"/>
          <p:cNvGrpSpPr/>
          <p:nvPr/>
        </p:nvGrpSpPr>
        <p:grpSpPr>
          <a:xfrm>
            <a:off x="2536920" y="3165480"/>
            <a:ext cx="1167840" cy="1029240"/>
            <a:chOff x="2536920" y="3165480"/>
            <a:chExt cx="1167840" cy="1029240"/>
          </a:xfrm>
        </p:grpSpPr>
        <p:sp>
          <p:nvSpPr>
            <p:cNvPr id="88" name="Text Box 27"/>
            <p:cNvSpPr/>
            <p:nvPr/>
          </p:nvSpPr>
          <p:spPr>
            <a:xfrm>
              <a:off x="2536920" y="33591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28"/>
            <p:cNvSpPr/>
            <p:nvPr/>
          </p:nvSpPr>
          <p:spPr>
            <a:xfrm>
              <a:off x="3104640" y="3165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29"/>
            <p:cNvSpPr/>
            <p:nvPr/>
          </p:nvSpPr>
          <p:spPr>
            <a:xfrm>
              <a:off x="2911320" y="36133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>
              <a:off x="3022560" y="367992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31"/>
          <p:cNvGrpSpPr/>
          <p:nvPr/>
        </p:nvGrpSpPr>
        <p:grpSpPr>
          <a:xfrm>
            <a:off x="3096000" y="4708440"/>
            <a:ext cx="1018800" cy="1029240"/>
            <a:chOff x="3096000" y="4708440"/>
            <a:chExt cx="1018800" cy="1029240"/>
          </a:xfrm>
        </p:grpSpPr>
        <p:sp>
          <p:nvSpPr>
            <p:cNvPr id="93" name="Text Box 32"/>
            <p:cNvSpPr/>
            <p:nvPr/>
          </p:nvSpPr>
          <p:spPr>
            <a:xfrm>
              <a:off x="3096000" y="4902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33"/>
            <p:cNvGrpSpPr/>
            <p:nvPr/>
          </p:nvGrpSpPr>
          <p:grpSpPr>
            <a:xfrm>
              <a:off x="3581640" y="4708440"/>
              <a:ext cx="533160" cy="1029240"/>
              <a:chOff x="3581640" y="4708440"/>
              <a:chExt cx="533160" cy="1029240"/>
            </a:xfrm>
          </p:grpSpPr>
          <p:sp>
            <p:nvSpPr>
              <p:cNvPr id="95" name="Text Box 34"/>
              <p:cNvSpPr/>
              <p:nvPr/>
            </p:nvSpPr>
            <p:spPr>
              <a:xfrm>
                <a:off x="3642840" y="47084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35"/>
              <p:cNvSpPr/>
              <p:nvPr/>
            </p:nvSpPr>
            <p:spPr>
              <a:xfrm>
                <a:off x="3637800" y="5156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6"/>
              <p:cNvSpPr/>
              <p:nvPr/>
            </p:nvSpPr>
            <p:spPr>
              <a:xfrm>
                <a:off x="3581640" y="5222880"/>
                <a:ext cx="533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Text Box 37"/>
          <p:cNvSpPr/>
          <p:nvPr/>
        </p:nvSpPr>
        <p:spPr>
          <a:xfrm>
            <a:off x="6130080" y="2001960"/>
            <a:ext cx="12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6162480" y="34797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6100200" y="4983120"/>
            <a:ext cx="12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628640"/>
            <a:ext cx="8424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五年级有学生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人，已达到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国家体育锻炼标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儿童组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7442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</a:rPr>
              <a:t>占五年级学生人数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759280" y="3573360"/>
            <a:ext cx="33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几 分之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准备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五年级体育达标统计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6481800" cy="3425760"/>
        </p:xfrm>
        <a:graphic>
          <a:graphicData uri="http://schemas.openxmlformats.org/drawingml/2006/table">
            <a:tbl>
              <a:tblPr/>
              <a:tblGrid>
                <a:gridCol w="2184480"/>
                <a:gridCol w="2279520"/>
                <a:gridCol w="201780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总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达标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达标人数占几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Picture 26" descr="007"/>
          <p:cNvPicPr/>
          <p:nvPr/>
        </p:nvPicPr>
        <p:blipFill>
          <a:blip r:embed="rId1"/>
          <a:stretch/>
        </p:blipFill>
        <p:spPr>
          <a:xfrm>
            <a:off x="0" y="5229360"/>
            <a:ext cx="3419640" cy="1628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7"/>
          <p:cNvSpPr/>
          <p:nvPr/>
        </p:nvSpPr>
        <p:spPr>
          <a:xfrm>
            <a:off x="3708360" y="530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怎么求一个数是另一个数的几分之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0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五年级有学生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，已达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国家体育锻炼标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儿童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，占五年级学生人数的几分之几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71640" y="242100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0÷1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01440" y="32130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77440" y="2924280"/>
            <a:ext cx="94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3348000" y="35733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700360" y="4292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493800" y="40053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3419640" y="4653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510000" y="5516640"/>
            <a:ext cx="13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答：占五年级人数的    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6086160" y="5229360"/>
            <a:ext cx="4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6012000" y="5877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准备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5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五年级体育达标统计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76360" y="1557360"/>
          <a:ext cx="6095880" cy="3421080"/>
        </p:xfrm>
        <a:graphic>
          <a:graphicData uri="http://schemas.openxmlformats.org/drawingml/2006/table">
            <a:tbl>
              <a:tblPr/>
              <a:tblGrid>
                <a:gridCol w="2031840"/>
                <a:gridCol w="2311560"/>
                <a:gridCol w="1752480"/>
              </a:tblGrid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总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达标人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达标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20" descr="008"/>
          <p:cNvPicPr/>
          <p:nvPr/>
        </p:nvPicPr>
        <p:blipFill>
          <a:blip r:embed="rId1"/>
          <a:stretch/>
        </p:blipFill>
        <p:spPr>
          <a:xfrm>
            <a:off x="0" y="5300640"/>
            <a:ext cx="320364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1"/>
          <p:cNvSpPr/>
          <p:nvPr/>
        </p:nvSpPr>
        <p:spPr>
          <a:xfrm>
            <a:off x="3419640" y="537372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求达标率就是求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达标人数占总人数的百分之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0" y="1440"/>
            <a:ext cx="125892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变换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/>
          <p:cNvSpPr/>
          <p:nvPr/>
        </p:nvSpPr>
        <p:spPr>
          <a:xfrm rot="5382600">
            <a:off x="125856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五年级有学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，已达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国家体育锻炼标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儿童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3200" y="1915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占五年级人数的百分之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47840" y="3048120"/>
            <a:ext cx="44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0÷160=0.75=7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081160" y="5029200"/>
            <a:ext cx="53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答：占五年级的学生人数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5%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例题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000000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3"/>
          <p:cNvSpPr/>
          <p:nvPr/>
        </p:nvSpPr>
        <p:spPr>
          <a:xfrm rot="5382600">
            <a:off x="1125360" y="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326680" y="2276640"/>
            <a:ext cx="434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相同点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数量关系和解题方法完全相同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1400" y="731880"/>
            <a:ext cx="870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分数应用题与分数应用题有什么相同点？有什么不同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26920" y="371628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同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百分数应用题的数量关系用百分数表示，分数应用题的数量关系用分数表示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2:53:26Z</dcterms:created>
  <dc:creator/>
  <dc:description/>
  <cp:keywords>幻灯片之家 http:/www.eeppt.com</cp:keywords>
  <dc:language>en-US</dc:language>
  <cp:lastModifiedBy/>
  <dcterms:modified xsi:type="dcterms:W3CDTF">2015-07-18T13:47:21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