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3F8-6104-4191-8A8D-FD95C37F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107-A5D6-4F5C-9ADB-4B23D511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95C-3BA5-4EA7-869E-8B00F4F2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C1C-9CF4-4E94-BB1C-0632BE32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62D-937D-4933-ADA3-3145D52A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5C2-128D-4E69-A28F-8707FAD2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9C1-7F05-467D-9353-7AB8E72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0DB-1ADF-42B6-9F50-6A2786AE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ADC-7C71-4867-B6C0-4B7538B2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6AC-1F44-462F-9998-E4093130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7A6-390A-4958-A915-FB35B78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DB2-933F-4F75-95A6-40D94F6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CB3E-C91F-4F9A-A4DC-D5C44CEC537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98CD-2BD9-47C5-9573-80083F74B3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9"/>
          <p:cNvGrpSpPr/>
          <p:nvPr/>
        </p:nvGrpSpPr>
        <p:grpSpPr>
          <a:xfrm>
            <a:off x="682560" y="2060640"/>
            <a:ext cx="3778200" cy="3178080"/>
            <a:chOff x="682560" y="2060640"/>
            <a:chExt cx="3778200" cy="3178080"/>
          </a:xfrm>
        </p:grpSpPr>
        <p:sp>
          <p:nvSpPr>
            <p:cNvPr id="43" name="饼形 20"/>
            <p:cNvSpPr/>
            <p:nvPr/>
          </p:nvSpPr>
          <p:spPr>
            <a:xfrm>
              <a:off x="682560" y="228420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饼形 21"/>
            <p:cNvSpPr/>
            <p:nvPr/>
          </p:nvSpPr>
          <p:spPr>
            <a:xfrm>
              <a:off x="1402200" y="206064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饼形 22"/>
            <p:cNvSpPr/>
            <p:nvPr/>
          </p:nvSpPr>
          <p:spPr>
            <a:xfrm>
              <a:off x="1505880" y="209052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饼形 23"/>
            <p:cNvSpPr/>
            <p:nvPr/>
          </p:nvSpPr>
          <p:spPr>
            <a:xfrm>
              <a:off x="1505880" y="216432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24"/>
          <p:cNvGrpSpPr/>
          <p:nvPr/>
        </p:nvGrpSpPr>
        <p:grpSpPr>
          <a:xfrm>
            <a:off x="4861080" y="1987560"/>
            <a:ext cx="3816360" cy="3457440"/>
            <a:chOff x="4861080" y="1987560"/>
            <a:chExt cx="3816360" cy="3457440"/>
          </a:xfrm>
        </p:grpSpPr>
        <p:sp>
          <p:nvSpPr>
            <p:cNvPr id="48" name="饼形 25"/>
            <p:cNvSpPr/>
            <p:nvPr/>
          </p:nvSpPr>
          <p:spPr>
            <a:xfrm>
              <a:off x="4861080" y="249120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饼形 26"/>
            <p:cNvSpPr/>
            <p:nvPr/>
          </p:nvSpPr>
          <p:spPr>
            <a:xfrm>
              <a:off x="4933080" y="220320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饼形 27"/>
            <p:cNvSpPr/>
            <p:nvPr/>
          </p:nvSpPr>
          <p:spPr>
            <a:xfrm>
              <a:off x="5722920" y="198756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28"/>
            <p:cNvSpPr/>
            <p:nvPr/>
          </p:nvSpPr>
          <p:spPr>
            <a:xfrm>
              <a:off x="5149080" y="249120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5240" y="11736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半圆饼图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55" name="饼形 21"/>
          <p:cNvSpPr/>
          <p:nvPr/>
        </p:nvSpPr>
        <p:spPr>
          <a:xfrm>
            <a:off x="5411880" y="1413000"/>
            <a:ext cx="2976480" cy="297648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饼形 22"/>
          <p:cNvSpPr/>
          <p:nvPr/>
        </p:nvSpPr>
        <p:spPr>
          <a:xfrm>
            <a:off x="5772240" y="3213000"/>
            <a:ext cx="2976480" cy="297684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UI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饼形 23"/>
          <p:cNvSpPr/>
          <p:nvPr/>
        </p:nvSpPr>
        <p:spPr>
          <a:xfrm>
            <a:off x="5337000" y="3284640"/>
            <a:ext cx="2976840" cy="29764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24"/>
          <p:cNvSpPr/>
          <p:nvPr/>
        </p:nvSpPr>
        <p:spPr>
          <a:xfrm>
            <a:off x="1211400" y="1457280"/>
            <a:ext cx="2976480" cy="29764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饼形 25"/>
          <p:cNvSpPr/>
          <p:nvPr/>
        </p:nvSpPr>
        <p:spPr>
          <a:xfrm>
            <a:off x="1666800" y="2612880"/>
            <a:ext cx="2978280" cy="29782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UI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饼形 26"/>
          <p:cNvSpPr/>
          <p:nvPr/>
        </p:nvSpPr>
        <p:spPr>
          <a:xfrm>
            <a:off x="-60480" y="2038320"/>
            <a:ext cx="2976840" cy="29764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a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27"/>
          <p:cNvSpPr/>
          <p:nvPr/>
        </p:nvSpPr>
        <p:spPr>
          <a:xfrm>
            <a:off x="4111560" y="1989000"/>
            <a:ext cx="2978280" cy="2976840"/>
          </a:xfrm>
          <a:prstGeom prst="pi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8a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饼形 28"/>
          <p:cNvSpPr/>
          <p:nvPr/>
        </p:nvSpPr>
        <p:spPr>
          <a:xfrm>
            <a:off x="1235160" y="2973240"/>
            <a:ext cx="2976480" cy="2976840"/>
          </a:xfrm>
          <a:prstGeom prst="pi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58C-0206-47A1-8E8A-6C10DCDC4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C4D-1C7A-4A3D-B61B-268109536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2Z</dcterms:modified>
  <cp:revision>15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