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F8F-B452-41D4-BF06-EFAAD624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8223-6CFD-4873-81FA-9B111B9A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58B4-01B2-4E0B-81A0-3A3EB928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994-3BF0-4AEA-B8E6-14D19E56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D841-E326-43F9-BE30-232BF33A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2C95-E92C-49A4-B801-5FB5CB70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2397-C554-40B9-8B0A-4EFDF326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0B38-DFEB-4CC3-BD22-42B93DB4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47A2-0585-4D14-8026-6654B9C3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2CA6-46AC-4FCA-A138-EBA0C516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CFEF-5DB4-4430-923F-BF243FE6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8692-B681-4755-ADB8-CEAA0186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69A5-DDD3-434E-B754-9E03D99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7955-4C3F-4712-9A57-2DA353F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A2C0-6D6A-42BB-8B2E-FD5171798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BF82-BCE5-4C2F-99AC-11163E78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8681-DC1E-4916-88C1-B029BE31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BD6-F1C8-4156-B75A-2ACE3071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E2B-E117-4C5C-ABAE-E1F7908E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170-AEB9-4A27-B7BD-99A6971F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05F-9B22-45F5-8CB5-51ED80F2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F21-45D3-4385-BDCD-69347B99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ABCA-B510-4730-A5FE-7B3E9CC0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CF1-9B50-4B52-AC6D-5FEE12A3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37960"/>
            <a:ext cx="86868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a36d5c"/>
                </a:solidFill>
                <a:latin typeface="Bernard MT Condensed"/>
              </a:rPr>
              <a:t>Click to edit the title text format</a:t>
            </a:r>
            <a:endParaRPr b="0" lang="en-US" sz="4400" spc="-1" strike="noStrike">
              <a:solidFill>
                <a:srgbClr val="a36d5c"/>
              </a:solidFill>
              <a:latin typeface="Bernard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268280"/>
            <a:ext cx="8686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73c35"/>
              </a:buClr>
              <a:buSzPct val="25000"/>
              <a:buFont typeface="Bernard MT Condensed"/>
              <a:buChar char="•"/>
            </a:pPr>
            <a:r>
              <a:rPr b="0" lang="en-US" sz="2400" spc="-1" strike="noStrike">
                <a:solidFill>
                  <a:srgbClr val="473c35"/>
                </a:solidFill>
                <a:latin typeface="Bernard MT Condensed"/>
              </a:rPr>
              <a:t>Click to edit the outline text format</a:t>
            </a:r>
            <a:endParaRPr b="0" lang="en-US" sz="2400" spc="-1" strike="noStrike">
              <a:solidFill>
                <a:srgbClr val="473c35"/>
              </a:solidFill>
              <a:latin typeface="Bernard MT Condensed"/>
            </a:endParaRPr>
          </a:p>
          <a:p>
            <a:pPr lvl="1" marL="743040" indent="-285840">
              <a:spcBef>
                <a:spcPts val="601"/>
              </a:spcBef>
              <a:buClr>
                <a:srgbClr val="473c35"/>
              </a:buClr>
              <a:buSzPct val="25000"/>
              <a:buFont typeface="Bernard MT Condensed"/>
              <a:buChar char="–"/>
            </a:pPr>
            <a:r>
              <a:rPr b="0" lang="en-US" sz="2400" spc="-1" strike="noStrike">
                <a:solidFill>
                  <a:srgbClr val="473c35"/>
                </a:solidFill>
                <a:latin typeface="Bernard MT Condensed"/>
              </a:rPr>
              <a:t>Second Outline Level</a:t>
            </a:r>
            <a:endParaRPr b="0" lang="en-US" sz="2400" spc="-1" strike="noStrike">
              <a:solidFill>
                <a:srgbClr val="473c35"/>
              </a:solidFill>
              <a:latin typeface="Bernard MT Condensed"/>
            </a:endParaRPr>
          </a:p>
          <a:p>
            <a:pPr lvl="2" marL="1143000" indent="-228600">
              <a:spcBef>
                <a:spcPts val="601"/>
              </a:spcBef>
              <a:buClr>
                <a:srgbClr val="473c35"/>
              </a:buClr>
              <a:buSzPct val="25000"/>
              <a:buFont typeface="Bernard MT Condensed"/>
              <a:buChar char="•"/>
            </a:pPr>
            <a:r>
              <a:rPr b="0" lang="en-US" sz="2400" spc="-1" strike="noStrike">
                <a:solidFill>
                  <a:srgbClr val="473c35"/>
                </a:solidFill>
                <a:latin typeface="Bernard MT Condensed"/>
              </a:rPr>
              <a:t>Third Outline Level</a:t>
            </a:r>
            <a:endParaRPr b="0" lang="en-US" sz="2400" spc="-1" strike="noStrike">
              <a:solidFill>
                <a:srgbClr val="473c35"/>
              </a:solidFill>
              <a:latin typeface="Bernard MT Condensed"/>
            </a:endParaRPr>
          </a:p>
          <a:p>
            <a:pPr lvl="3" marL="1600200" indent="-228600">
              <a:spcBef>
                <a:spcPts val="601"/>
              </a:spcBef>
              <a:buClr>
                <a:srgbClr val="473c35"/>
              </a:buClr>
              <a:buSzPct val="25000"/>
              <a:buFont typeface="Bernard MT Condensed"/>
              <a:buChar char="–"/>
            </a:pPr>
            <a:r>
              <a:rPr b="0" lang="en-US" sz="2400" spc="-1" strike="noStrike">
                <a:solidFill>
                  <a:srgbClr val="473c35"/>
                </a:solidFill>
                <a:latin typeface="Bernard MT Condensed"/>
              </a:rPr>
              <a:t>Fourth Outline Level</a:t>
            </a:r>
            <a:endParaRPr b="0" lang="en-US" sz="2400" spc="-1" strike="noStrike">
              <a:solidFill>
                <a:srgbClr val="473c35"/>
              </a:solidFill>
              <a:latin typeface="Bernard MT Condensed"/>
            </a:endParaRPr>
          </a:p>
          <a:p>
            <a:pPr lvl="4" marL="2057400" indent="-228600">
              <a:spcBef>
                <a:spcPts val="601"/>
              </a:spcBef>
              <a:buClr>
                <a:srgbClr val="473c35"/>
              </a:buClr>
              <a:buSzPct val="25000"/>
              <a:buFont typeface="Bernard MT Condensed"/>
              <a:buChar char="»"/>
            </a:pPr>
            <a:r>
              <a:rPr b="0" lang="en-US" sz="2400" spc="-1" strike="noStrike">
                <a:solidFill>
                  <a:srgbClr val="473c35"/>
                </a:solidFill>
                <a:latin typeface="Bernard MT Condensed"/>
              </a:rPr>
              <a:t>Fifth Outline Level</a:t>
            </a:r>
            <a:endParaRPr b="0" lang="en-US" sz="2400" spc="-1" strike="noStrike">
              <a:solidFill>
                <a:srgbClr val="473c35"/>
              </a:solidFill>
              <a:latin typeface="Bernard MT Condensed"/>
            </a:endParaRPr>
          </a:p>
          <a:p>
            <a:pPr lvl="5" marL="2057400" indent="-228600">
              <a:spcBef>
                <a:spcPts val="601"/>
              </a:spcBef>
              <a:buClr>
                <a:srgbClr val="473c35"/>
              </a:buClr>
              <a:buSzPct val="25000"/>
              <a:buFont typeface="Bernard MT Condensed"/>
              <a:buChar char="»"/>
            </a:pPr>
            <a:r>
              <a:rPr b="0" lang="en-US" sz="2400" spc="-1" strike="noStrike">
                <a:solidFill>
                  <a:srgbClr val="473c35"/>
                </a:solidFill>
                <a:latin typeface="Bernard MT Condensed"/>
              </a:rPr>
              <a:t>Sixth Outline Level</a:t>
            </a:r>
            <a:endParaRPr b="0" lang="en-US" sz="2400" spc="-1" strike="noStrike">
              <a:solidFill>
                <a:srgbClr val="473c35"/>
              </a:solidFill>
              <a:latin typeface="Bernard MT Condensed"/>
            </a:endParaRPr>
          </a:p>
          <a:p>
            <a:pPr lvl="6" marL="2057400" indent="-228600">
              <a:spcBef>
                <a:spcPts val="601"/>
              </a:spcBef>
              <a:buClr>
                <a:srgbClr val="473c35"/>
              </a:buClr>
              <a:buSzPct val="25000"/>
              <a:buFont typeface="Bernard MT Condensed"/>
              <a:buChar char="»"/>
            </a:pPr>
            <a:r>
              <a:rPr b="0" lang="en-US" sz="2400" spc="-1" strike="noStrike">
                <a:solidFill>
                  <a:srgbClr val="473c35"/>
                </a:solidFill>
                <a:latin typeface="Bernard MT Condensed"/>
              </a:rPr>
              <a:t>Seventh Outline Level</a:t>
            </a:r>
            <a:endParaRPr b="0" lang="en-US" sz="2400" spc="-1" strike="noStrike">
              <a:solidFill>
                <a:srgbClr val="473c35"/>
              </a:solidFill>
              <a:latin typeface="Bernard MT Condense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2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c968b"/>
                </a:solidFill>
                <a:latin typeface="Bernard MT Condensed"/>
                <a:ea typeface="Arial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BE18-9D10-4D6A-A5A4-C55F871AC387}" type="datetime">
              <a:rPr b="0" lang="en-US" sz="1400" spc="-1" strike="noStrike">
                <a:solidFill>
                  <a:srgbClr val="9c968b"/>
                </a:solidFill>
                <a:latin typeface="Bernard MT Condensed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3c3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c968b"/>
                </a:solidFill>
                <a:latin typeface="Bernard MT Condensed"/>
                <a:ea typeface="Arial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2A53-8810-468E-A158-CB843656F53F}" type="slidenum">
              <a:rPr b="0" lang="en-US" sz="1400" spc="-1" strike="noStrike">
                <a:solidFill>
                  <a:srgbClr val="9c968b"/>
                </a:solidFill>
                <a:latin typeface="Bernard MT Condense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3c35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B971-EB10-49BB-9972-498B4745CBD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字方塊 1"/>
          <p:cNvSpPr/>
          <p:nvPr/>
        </p:nvSpPr>
        <p:spPr>
          <a:xfrm>
            <a:off x="12600" y="12600"/>
            <a:ext cx="12960" cy="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73c35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341360"/>
            <a:ext cx="5424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600" spc="-1" strike="noStrike">
                <a:solidFill>
                  <a:srgbClr val="a36d5c"/>
                </a:solidFill>
                <a:latin typeface="Bernard MT Condensed"/>
                <a:ea typeface="宋体"/>
              </a:rPr>
              <a:t> </a:t>
            </a:r>
            <a:endParaRPr b="0" lang="en-US" sz="3600" spc="-1" strike="noStrike">
              <a:solidFill>
                <a:srgbClr val="a36d5c"/>
              </a:solidFill>
              <a:latin typeface="Bernard MT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6920" y="2811240"/>
            <a:ext cx="54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473c35"/>
                </a:solidFill>
                <a:latin typeface="Bernard MT Condensed"/>
                <a:ea typeface="宋体"/>
              </a:rPr>
              <a:t> </a:t>
            </a:r>
            <a:endParaRPr b="0" lang="en-US" sz="2400" spc="-1" strike="noStrike">
              <a:solidFill>
                <a:srgbClr val="473c35"/>
              </a:solidFill>
              <a:latin typeface="Bernard MT Condensed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81800" y="63972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c35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473c35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" y="6478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73c35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73c35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73c35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19480" y="1123920"/>
            <a:ext cx="65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73c35"/>
                </a:solidFill>
                <a:latin typeface="楷体"/>
                <a:ea typeface="楷体"/>
              </a:rPr>
              <a:t>毕业论文的</a:t>
            </a:r>
            <a:r>
              <a:rPr b="0" lang="en-US" sz="4000" spc="-1" strike="noStrike">
                <a:solidFill>
                  <a:srgbClr val="473c35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473c35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473c35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73c35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73c3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096D-36F2-4CDA-A744-B82CA134E1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3T23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57:2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