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F622B-EDBE-4630-8A63-2F7215F45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48FD4-D94C-401D-A107-CA5463639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7A14C-1F12-41D2-B07D-3312C6903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B835F-1905-41B9-A8D0-738FFB432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829FB-474B-4514-9CD6-6FB2ADC36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71BBB-30DB-4094-8505-3E4E24601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8DEDB-8CBA-4A83-939C-CE26EF64A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29EFE-0854-40C8-81CB-DA3249AC3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FE008-D389-4FEA-9C3D-E93FAF560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7C647-F455-4237-9CF8-ECEA4ABB7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1C848-A671-48B7-9FE3-4CABDC952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2916C-4B56-4981-8E38-D010E707B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A677E-413E-4306-90B3-EF9E47A0E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5E706-B5FC-401A-8951-99646D739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4F475-061A-4835-B638-C736635D6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1905F-97F2-46B8-8BA4-86DA473AC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472DD-7BBC-4030-A2F1-3AEF8E8B9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7E310-DBBD-4113-AA40-861AD6B6B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71653-AAE3-4E59-BE80-8644F96B2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244AE-7842-45CC-877D-17E4AAD33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408A1-6B0E-4D14-8865-3F92F42F7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6E51F-FA52-4BB0-9CCC-1D4515B08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78E11-D3F3-46A7-B6B2-38E83DB39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A91E0-23BC-4768-8FFB-09A5691DB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C4661-DC51-4F10-9B48-027EE9C1424A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39AA1-F213-4804-845F-4183A90F20B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00BA1-C12F-4903-8AF3-BD177E708BF0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C91BD-3FC7-466C-B795-9015910966E2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36360" y="25560"/>
            <a:ext cx="9083880" cy="681192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60280" y="624996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99960" y="1779480"/>
            <a:ext cx="3756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毕业</a:t>
            </a:r>
            <a:r>
              <a:rPr b="0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图片素材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BD52B-1FBA-43AF-B796-8F68CB8D218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13:57:22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