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DFD-9D8D-4918-B4B9-709BBDD4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4D7-21C2-497F-BFB9-D162775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A62-FB71-4F58-850C-DA757B58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C09-5C33-46B2-88CA-BB105A3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7BE-AF25-43ED-A62E-053F3C7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CD0-BE61-4F25-9149-3D05CCC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1E6-1A68-4151-855D-99C5044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B88-4E25-47D4-A051-3038964E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C53-8207-4081-BE67-E89750C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8C4-6A77-486D-85C6-D19F768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31C-C65F-4419-B728-2372B8F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8B9-05A6-47F8-B23B-D0303C6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BA7-F00C-4573-997A-99B7ADF483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70" descr=""/>
          <p:cNvPicPr/>
          <p:nvPr/>
        </p:nvPicPr>
        <p:blipFill>
          <a:blip r:embed="rId1"/>
          <a:stretch/>
        </p:blipFill>
        <p:spPr>
          <a:xfrm>
            <a:off x="173160" y="109440"/>
            <a:ext cx="8829720" cy="6626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904760" y="3809520"/>
            <a:ext cx="7086600" cy="16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Line 1071"/>
          <p:cNvSpPr/>
          <p:nvPr/>
        </p:nvSpPr>
        <p:spPr>
          <a:xfrm>
            <a:off x="3162240" y="5740560"/>
            <a:ext cx="5346720" cy="0"/>
          </a:xfrm>
          <a:prstGeom prst="line">
            <a:avLst/>
          </a:prstGeom>
          <a:ln cap="sq" w="6480">
            <a:solidFill>
              <a:srgbClr val="a83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200" y="48960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表彰大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520" y="6353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9E4-2791-496B-8A91-7F690A904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7:06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_TemplateID">
    <vt:lpwstr>TC060890161033</vt:lpwstr>
  </property>
</Properties>
</file>