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48B-5E6C-4056-96F5-29F930BE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D88-4FA1-40FC-BBC3-F34A4F2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74D-0A9B-4586-96B7-F2D123DF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46A-C813-497D-8804-3668B916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183-E9FB-4BDD-9A5A-372E8FDF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9DD8-3032-492B-AA1C-F6263BF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CDD-A9FB-46AC-9299-EFCF2B0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D04-4104-454A-9235-FE655B60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2BE-5A3F-4921-B59A-2ED3ADC7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5C87-282F-495D-96DF-AA532F95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1AD-4C4C-4C11-AE52-273E643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842-C6E3-413E-9F20-F43BFD3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9E5-6036-4C09-AE6C-CEE777399B4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草虫的村落背景"/>
          <p:cNvPicPr/>
          <p:nvPr/>
        </p:nvPicPr>
        <p:blipFill>
          <a:blip r:embed="rId2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演奏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劳动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分工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回应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拓展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升华　　　　　　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32000" y="13222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华文琥珀"/>
                <a:ea typeface="华文琥珀"/>
              </a:rPr>
              <a:t>虫草的村落</a:t>
            </a:r>
            <a:r>
              <a:rPr b="0" lang="zh-CN" sz="4000" spc="-1" strike="noStrike">
                <a:solidFill>
                  <a:srgbClr val="006600"/>
                </a:solidFill>
                <a:latin typeface="华文琥珀"/>
                <a:ea typeface="华文琥珀"/>
              </a:rPr>
              <a:t>PPT</a:t>
            </a:r>
            <a:r>
              <a:rPr b="0" lang="zh-CN" sz="4000" spc="-1" strike="noStrike">
                <a:solidFill>
                  <a:srgbClr val="006600"/>
                </a:solidFill>
                <a:latin typeface="华文琥珀"/>
                <a:ea typeface="华文琥珀"/>
              </a:rPr>
              <a:t>课件在线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5877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99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3399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 拷贝"/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914400" y="14479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它们友好地交流着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好像攀谈得很投机似的。看啊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蜥蜴好像忘记了旅途的劳倦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它背着几个小黑甲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到处参观远房亲戚的住宅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7E0-C1D9-4A90-A4C9-6BFBD2B1AC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 拷贝"/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838080" y="22543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6453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"/>
          <p:cNvPicPr/>
          <p:nvPr/>
        </p:nvPicPr>
        <p:blipFill>
          <a:blip r:embed="rId2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755640" y="1268280"/>
            <a:ext cx="76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看见测气候者忙于观察气象，工程师忙于建筑设计</a:t>
            </a:r>
            <a:r>
              <a:rPr b="1" lang="en-US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各种不同的工作，都有专门的虫子担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1447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50920" y="42670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60520" y="771480"/>
            <a:ext cx="637920" cy="642600"/>
          </a:xfrm>
          <a:prstGeom prst="rect">
            <a:avLst/>
          </a:prstGeom>
          <a:solidFill>
            <a:srgbClr val="dc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90bdf"/>
                </a:solidFill>
                <a:latin typeface="Arial"/>
                <a:ea typeface="华文新魏"/>
              </a:rPr>
              <a:t>一次奇异游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990720" y="1417680"/>
            <a:ext cx="196560" cy="792000"/>
          </a:xfrm>
          <a:prstGeom prst="downArrow">
            <a:avLst>
              <a:gd name="adj1" fmla="val 50000"/>
              <a:gd name="adj2" fmla="val 10073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90680" y="2209680"/>
            <a:ext cx="12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草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014560" y="2209680"/>
            <a:ext cx="12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森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395520" y="2209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小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 flipV="1" rot="10857600">
            <a:off x="5161680" y="220896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村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7077240" y="220968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大街小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1566720" y="243360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1566720" y="362268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6326280" y="2467080"/>
            <a:ext cx="750960" cy="236520"/>
          </a:xfrm>
          <a:prstGeom prst="rightArrow">
            <a:avLst>
              <a:gd name="adj1" fmla="val 50000"/>
              <a:gd name="adj2" fmla="val 7937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4462560" y="2433600"/>
            <a:ext cx="637920" cy="236520"/>
          </a:xfrm>
          <a:prstGeom prst="rightArrow">
            <a:avLst>
              <a:gd name="adj1" fmla="val 50000"/>
              <a:gd name="adj2" fmla="val 6742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014640" y="2433600"/>
            <a:ext cx="447840" cy="236520"/>
          </a:xfrm>
          <a:prstGeom prst="rightArrow">
            <a:avLst>
              <a:gd name="adj1" fmla="val 50000"/>
              <a:gd name="adj2" fmla="val 47336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99072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66640" y="3398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小虫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014560" y="3398760"/>
            <a:ext cx="13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游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3395520" y="339876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迎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724280" y="3398760"/>
            <a:ext cx="197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演奏交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19"/>
          <p:cNvSpPr/>
          <p:nvPr/>
        </p:nvSpPr>
        <p:spPr>
          <a:xfrm>
            <a:off x="7077240" y="3398760"/>
            <a:ext cx="206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分工劳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6540480" y="3656160"/>
            <a:ext cx="536760" cy="236520"/>
          </a:xfrm>
          <a:prstGeom prst="rightArrow">
            <a:avLst>
              <a:gd name="adj1" fmla="val 50000"/>
              <a:gd name="adj2" fmla="val 5673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4395960" y="3656160"/>
            <a:ext cx="447480" cy="236520"/>
          </a:xfrm>
          <a:prstGeom prst="rightArrow">
            <a:avLst>
              <a:gd name="adj1" fmla="val 50000"/>
              <a:gd name="adj2" fmla="val 4729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948040" y="3622680"/>
            <a:ext cx="447480" cy="236520"/>
          </a:xfrm>
          <a:prstGeom prst="rightArrow">
            <a:avLst>
              <a:gd name="adj1" fmla="val 50000"/>
              <a:gd name="adj2" fmla="val 47298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3809880" y="278928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556272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AutoShape 25"/>
          <p:cNvSpPr/>
          <p:nvPr/>
        </p:nvSpPr>
        <p:spPr>
          <a:xfrm>
            <a:off x="754380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AutoShape 26"/>
          <p:cNvSpPr/>
          <p:nvPr/>
        </p:nvSpPr>
        <p:spPr>
          <a:xfrm>
            <a:off x="2452680" y="278928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5473800" y="716040"/>
            <a:ext cx="1704600" cy="703440"/>
          </a:xfrm>
          <a:prstGeom prst="rect">
            <a:avLst/>
          </a:prstGeom>
          <a:solidFill>
            <a:srgbClr val="2d4d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d600"/>
                </a:solidFill>
                <a:latin typeface="Arial"/>
                <a:ea typeface="华文新魏"/>
              </a:rPr>
              <a:t>草虫的村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395520" y="987480"/>
            <a:ext cx="1525680" cy="288720"/>
          </a:xfrm>
          <a:prstGeom prst="leftArrow">
            <a:avLst>
              <a:gd name="adj1" fmla="val 50000"/>
              <a:gd name="adj2" fmla="val 13210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1436760" y="142092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追随、想、看见、吸引、探索、迷惑、漫游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3809880" y="419724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d600"/>
                </a:solidFill>
                <a:latin typeface="Arial"/>
                <a:ea typeface="华文新魏"/>
              </a:rPr>
              <a:t>平 等</a:t>
            </a:r>
            <a:r>
              <a:rPr b="1" lang="zh-CN" sz="4800" spc="-1" strike="noStrike">
                <a:solidFill>
                  <a:srgbClr val="001e00"/>
                </a:solidFill>
                <a:latin typeface="Arial"/>
                <a:ea typeface="华文新魏"/>
              </a:rPr>
              <a:t>　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3838680" y="5197320"/>
            <a:ext cx="27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d600"/>
                </a:solidFill>
                <a:latin typeface="Arial"/>
                <a:ea typeface="华文新魏"/>
              </a:rPr>
              <a:t>和 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928800" y="472428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Arial"/>
                <a:ea typeface="楷体_GB2312"/>
              </a:rPr>
              <a:t>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与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自然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AutoShape 33"/>
          <p:cNvSpPr/>
          <p:nvPr/>
        </p:nvSpPr>
        <p:spPr>
          <a:xfrm>
            <a:off x="3736800" y="4610160"/>
            <a:ext cx="659160" cy="1174680"/>
          </a:xfrm>
          <a:custGeom>
            <a:avLst/>
            <a:gdLst>
              <a:gd name="textAreaLeft" fmla="*/ 421200 w 659160"/>
              <a:gd name="textAreaRight" fmla="*/ 659520 w 659160"/>
              <a:gd name="textAreaTop" fmla="*/ 30600 h 1174680"/>
              <a:gd name="textAreaBottom" fmla="*/ 1144080 h 117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7924680" y="774720"/>
            <a:ext cx="838440" cy="501480"/>
          </a:xfrm>
          <a:custGeom>
            <a:avLst/>
            <a:gdLst>
              <a:gd name="textAreaLeft" fmla="*/ 31320 w 838440"/>
              <a:gd name="textAreaRight" fmla="*/ 807120 w 838440"/>
              <a:gd name="textAreaTop" fmla="*/ 31320 h 501480"/>
              <a:gd name="textAreaBottom" fmla="*/ 470160 h 501480"/>
            </a:gdLst>
            <a:ahLst/>
            <a:rect l="textAreaLeft" t="textAreaTop" r="textAreaRight" b="textAreaBottom"/>
            <a:pathLst>
              <a:path w="36103" h="21600">
                <a:moveTo>
                  <a:pt x="0" y="0"/>
                </a:moveTo>
                <a:lnTo>
                  <a:pt x="36103" y="0"/>
                </a:lnTo>
                <a:lnTo>
                  <a:pt x="36103" y="21600"/>
                </a:lnTo>
                <a:lnTo>
                  <a:pt x="0" y="21600"/>
                </a:lnTo>
                <a:close/>
              </a:path>
              <a:path fill="lightenLess" w="36103" h="21600">
                <a:moveTo>
                  <a:pt x="0" y="0"/>
                </a:moveTo>
                <a:lnTo>
                  <a:pt x="36103" y="0"/>
                </a:lnTo>
                <a:lnTo>
                  <a:pt x="34753" y="1350"/>
                </a:lnTo>
                <a:lnTo>
                  <a:pt x="1350" y="1350"/>
                </a:lnTo>
                <a:close/>
              </a:path>
              <a:path fill="darken" w="36103" h="21600">
                <a:moveTo>
                  <a:pt x="36103" y="0"/>
                </a:moveTo>
                <a:lnTo>
                  <a:pt x="36103" y="21600"/>
                </a:lnTo>
                <a:lnTo>
                  <a:pt x="34753" y="20250"/>
                </a:lnTo>
                <a:lnTo>
                  <a:pt x="34753" y="1350"/>
                </a:lnTo>
                <a:close/>
              </a:path>
              <a:path fill="darkenLess" w="36103" h="21600">
                <a:moveTo>
                  <a:pt x="3610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753" y="20250"/>
                </a:lnTo>
                <a:close/>
              </a:path>
              <a:path fill="lighten" w="3610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103" h="21600">
                <a:moveTo>
                  <a:pt x="21569" y="10800"/>
                </a:moveTo>
                <a:lnTo>
                  <a:pt x="11008" y="17844"/>
                </a:lnTo>
                <a:lnTo>
                  <a:pt x="11008" y="3756"/>
                </a:lnTo>
                <a:close/>
              </a:path>
              <a:path fill="darken" w="36103" h="21600">
                <a:moveTo>
                  <a:pt x="23424" y="3756"/>
                </a:moveTo>
                <a:lnTo>
                  <a:pt x="23424" y="17844"/>
                </a:lnTo>
                <a:lnTo>
                  <a:pt x="25095" y="17844"/>
                </a:lnTo>
                <a:lnTo>
                  <a:pt x="25095" y="375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草虫的村落背景"/>
          <p:cNvPicPr/>
          <p:nvPr/>
        </p:nvPicPr>
        <p:blipFill>
          <a:blip r:embed="rId2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685800" y="121932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原来，在小虫子的世界中，蕴藏着多少</a:t>
            </a: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啊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2971800"/>
            <a:ext cx="84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我眼中，草虫的村落就是 </a:t>
            </a:r>
            <a:r>
              <a:rPr b="1" lang="en-US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en-US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835280" y="630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www.1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1680" y="2286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课文作者想象丰富，感受独特，向我们展示了一个丰富多彩、富有情趣的虫子们的世界。你有没有类似的经历，讲出来和大家共同分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116720" y="784800"/>
            <a:ext cx="3835080" cy="741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e6f529"/>
                </a:solidFill>
                <a:latin typeface="Arial"/>
                <a:ea typeface="楷体_GB2312"/>
              </a:rPr>
              <a:t>拓展训练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168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观察一处景物或一只小动物，学习课文运用想象和联想的写法，描写你的所见所想，注意将想象与个人的感受结合起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73000" y="784800"/>
            <a:ext cx="2690280" cy="741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6f529"/>
                </a:solidFill>
                <a:latin typeface="华文行楷"/>
                <a:ea typeface="华文行楷"/>
              </a:rPr>
              <a:t> </a:t>
            </a:r>
            <a:r>
              <a:rPr b="1" lang="zh-CN" sz="5400" spc="-1" strike="noStrike">
                <a:solidFill>
                  <a:srgbClr val="e6f529"/>
                </a:solidFill>
                <a:latin typeface="华文行楷"/>
                <a:ea typeface="华文行楷"/>
              </a:rPr>
              <a:t>练一练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14400" y="1600200"/>
            <a:ext cx="63244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静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谧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   追随   小巷   俏丽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烘烤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   音韵   演奏   探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勤勉    漫游   亲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左冲右撞    意味深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庞然大物    行色匆匆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3049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</a:t>
            </a:r>
            <a:r>
              <a:rPr b="1" lang="zh-CN" sz="4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正确读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下列词语吗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0" lang="en-US" sz="4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2280" y="1447920"/>
            <a:ext cx="243864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静   谧 ：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熙熙攘攘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：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驻足痴望：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悠悠忽忽：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行色匆匆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3049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说出下列词语的意思吗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438280" y="1447920"/>
            <a:ext cx="64008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安宁而平静。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形容人来人往，非常热闹。文中指的是黑甲虫来来往往的情景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指停下脚步痴痴地看着。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本文有形容神志恍惚的意思。</a:t>
            </a: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匆忙赶路的神态。色：这里指神态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楷体_GB2312"/>
              </a:rPr>
              <a:t>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0" y="0"/>
            <a:ext cx="6629400" cy="1295280"/>
          </a:xfrm>
          <a:prstGeom prst="cloudCallout">
            <a:avLst>
              <a:gd name="adj1" fmla="val 28351"/>
              <a:gd name="adj2" fmla="val 4902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朗读课文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177336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你在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草虫的村落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看到了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5280" y="27813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虫的村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给你留下的最深印象是什么？</a:t>
            </a: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5280" y="4149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70773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70773"/>
                </a:solidFill>
                <a:latin typeface="楷体_GB2312"/>
                <a:ea typeface="楷体_GB2312"/>
              </a:rPr>
              <a:t>你是从那些描写中体会到作者的丰富想象和独特感受的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8305920" y="2209680"/>
            <a:ext cx="609480" cy="38124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69" y="1350"/>
                </a:lnTo>
                <a:lnTo>
                  <a:pt x="1350" y="135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69" y="20250"/>
                </a:lnTo>
                <a:lnTo>
                  <a:pt x="33169" y="135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69" y="2025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19" h="21600">
                <a:moveTo>
                  <a:pt x="13742" y="10800"/>
                </a:moveTo>
                <a:lnTo>
                  <a:pt x="24303" y="3756"/>
                </a:lnTo>
                <a:lnTo>
                  <a:pt x="24303" y="17844"/>
                </a:lnTo>
                <a:close/>
              </a:path>
              <a:path fill="darken" w="34519" h="21600">
                <a:moveTo>
                  <a:pt x="10216" y="3756"/>
                </a:moveTo>
                <a:lnTo>
                  <a:pt x="11887" y="3756"/>
                </a:lnTo>
                <a:lnTo>
                  <a:pt x="11887" y="17844"/>
                </a:lnTo>
                <a:lnTo>
                  <a:pt x="10216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2590920" y="373392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3758" y="10800"/>
                </a:moveTo>
                <a:lnTo>
                  <a:pt x="24320" y="3756"/>
                </a:lnTo>
                <a:lnTo>
                  <a:pt x="24320" y="17844"/>
                </a:lnTo>
                <a:close/>
              </a:path>
              <a:path fill="darken" w="34552" h="21600">
                <a:moveTo>
                  <a:pt x="10232" y="3756"/>
                </a:moveTo>
                <a:lnTo>
                  <a:pt x="11903" y="3756"/>
                </a:lnTo>
                <a:lnTo>
                  <a:pt x="11903" y="17844"/>
                </a:lnTo>
                <a:lnTo>
                  <a:pt x="10232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562720" y="4952880"/>
            <a:ext cx="609480" cy="38124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69" y="1350"/>
                </a:lnTo>
                <a:lnTo>
                  <a:pt x="1350" y="135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69" y="20250"/>
                </a:lnTo>
                <a:lnTo>
                  <a:pt x="33169" y="135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169" y="2025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19" h="21600">
                <a:moveTo>
                  <a:pt x="13742" y="10800"/>
                </a:moveTo>
                <a:lnTo>
                  <a:pt x="24303" y="3756"/>
                </a:lnTo>
                <a:lnTo>
                  <a:pt x="24303" y="17844"/>
                </a:lnTo>
                <a:close/>
              </a:path>
              <a:path fill="darken" w="34519" h="21600">
                <a:moveTo>
                  <a:pt x="10216" y="3756"/>
                </a:moveTo>
                <a:lnTo>
                  <a:pt x="11887" y="3756"/>
                </a:lnTo>
                <a:lnTo>
                  <a:pt x="11887" y="17844"/>
                </a:lnTo>
                <a:lnTo>
                  <a:pt x="10216" y="1784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草虫的村落背景"/>
          <p:cNvPicPr/>
          <p:nvPr/>
        </p:nvPicPr>
        <p:blipFill>
          <a:blip r:embed="rId2"/>
          <a:srcRect l="4069" t="36415" r="4019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508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12193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今天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躺在田野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无限的静谧中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忘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了世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也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忘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了自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56536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）结合课文内容谈谈对这句话的认识和自己的体会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78936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你认为课文中还有哪些句子写得好，好在哪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0" y="0"/>
            <a:ext cx="6934320" cy="990720"/>
          </a:xfrm>
          <a:prstGeom prst="cloudCallout">
            <a:avLst>
              <a:gd name="adj1" fmla="val 30129"/>
              <a:gd name="adj2" fmla="val 17629"/>
            </a:avLst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品佳句谈见解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 拷贝"/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971640" y="144792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那只英勇的黑甲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走进了村子。我看见在许多同类虫子中间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一只娇小的从洞里跑出来迎接远归者。它们意味深长地对视良久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645336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"/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914400" y="1295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甲虫音乐家们全神贯注地振着翅膀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838080" y="30481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e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只有虫子们才能演 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11280" y="1676520"/>
            <a:ext cx="79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此时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能演奏出来的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3" name="Picture 3" descr="0 拷贝"/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"/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116000" y="13352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大街小巷里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花色斑斓的小圆虫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披着俏丽的彩衣。在这些粗壮的黑甲虫中间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它们好像南国的少女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逗得多少虫子驻足痴望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01:52:43Z</dcterms:created>
  <dc:creator/>
  <dc:description/>
  <cp:keywords>幻灯片之家 http:/www.eeppt.com</cp:keywords>
  <dc:language>en-US</dc:language>
  <cp:lastModifiedBy/>
  <dcterms:modified xsi:type="dcterms:W3CDTF">2015-07-20T07:29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