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A106C-538F-457F-BD20-8018A851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152280" y="762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6D8B2-74BC-48E2-8B00-EF42A8270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D4A54-AA3B-45D2-9AAC-68412B7E9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5228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9696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84164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5228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9696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84164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DF6E2-82B2-4967-BBC2-77C5A1374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0A99A-7BD2-4D6A-8649-E59C6453D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152280" y="762120"/>
            <a:ext cx="6934320" cy="5410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C844F-4F98-4AB4-8418-F263F9E65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152280" y="762120"/>
            <a:ext cx="69343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D5E65-D959-498B-A5EA-3EFA7DE6E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A8E16-250E-4168-ADA2-FF5D2A43E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43F39-CD77-4E55-8109-D93919975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75960"/>
            <a:ext cx="6934320" cy="28998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D3548-E523-4DC1-9308-B8500BAFA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1DFFA-1445-4751-B41C-2727999C2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152280" y="762120"/>
            <a:ext cx="6934320" cy="5410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C5625-0167-454E-B05F-8D9B4974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0A686-80CF-4DF0-A9BD-0A40852AE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4A9A2-73EC-4B80-A62A-D08565362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152280" y="762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ADE7B-D2BA-41AC-B928-C47B112F30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79027-4A63-458C-AF65-792CD3FFE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5228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249696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84164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5228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249696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484164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14C91-8C76-4A82-91D7-964B375653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CC2430-9695-4A1A-9BB4-1C3C2584F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52280" y="762120"/>
            <a:ext cx="6934320" cy="5410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360308-2BBA-40B5-8CF6-421F807682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52280" y="762120"/>
            <a:ext cx="69343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4AF57-B3E0-45DF-980B-BE7831890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BDF4C-8E25-43FA-B2DB-60D64B992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2E42D8-EC41-4A55-BB74-2BD40035A3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152280" y="762120"/>
            <a:ext cx="693432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71E3D-9899-4B70-8605-F0603E854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75960"/>
            <a:ext cx="6934320" cy="28998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DA9734-38BC-4ACB-AEB2-9CD7E78F3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48D7FC-6C7B-482F-A09F-2314C93E4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8EA4B-5747-4DC5-B00D-D67C8BBD4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0F6A7-CB2B-4ECF-A8F5-73A3AC4502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52280" y="762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2AA8B-173E-4A7F-A3F6-443E0673C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9A6200-B8B4-4340-B870-C370819CB5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5228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249696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841640" y="762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15228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249696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4841640" y="3588120"/>
            <a:ext cx="2232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32622D-0D63-4D58-A28C-687AB00ECC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5A35C-A656-4EE8-A432-9DD8CFCB4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2D76-C7DB-4782-B73A-1356AA34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75960"/>
            <a:ext cx="6934320" cy="289980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D075A-EA78-461A-9BEC-A6727FA55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7054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522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6795E-7984-4C28-B5EE-BFD7993A2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152280" y="762120"/>
            <a:ext cx="33836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705480" y="3588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1392-7C9D-4F51-A99E-8CAF7DC8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67320"/>
            <a:ext cx="69343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1522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705480" y="762120"/>
            <a:ext cx="33836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52280" y="3588120"/>
            <a:ext cx="69343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C965-F0BE-4405-BF8D-B3B910B68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152280" y="762120"/>
            <a:ext cx="69343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4CDD2-1582-42E3-A849-810328B4989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8780-D678-455A-8AE7-DDB1DBEF69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152280" y="762120"/>
            <a:ext cx="69343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79D7-C712-48CC-B1DD-27BF64976E3E}" type="datetime">
              <a:rPr b="0" lang="en-US" sz="1200" spc="-1" strike="noStrike">
                <a:solidFill>
                  <a:srgbClr val="898989"/>
                </a:solidFill>
                <a:latin typeface="Arial"/>
                <a:ea typeface="宋体"/>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8C32-524D-4416-AC7D-B7E3F274CAD1}" type="slidenum">
              <a:rPr b="0" lang="en-US"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777C-8827-496D-B106-73600BFE8E7A}"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955E9-A51E-4F5E-B502-8F4D238C808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4097"/>
          <p:cNvSpPr/>
          <p:nvPr/>
        </p:nvSpPr>
        <p:spPr>
          <a:xfrm>
            <a:off x="76320" y="640080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24" name="文本框 4098"/>
          <p:cNvSpPr/>
          <p:nvPr/>
        </p:nvSpPr>
        <p:spPr>
          <a:xfrm>
            <a:off x="2037960" y="228600"/>
            <a:ext cx="4458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车祸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打包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762120"/>
            <a:ext cx="6934320" cy="541008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Your Text her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6" name="PlaceHolder 1"/>
          <p:cNvSpPr>
            <a:spLocks noGrp="1"/>
          </p:cNvSpPr>
          <p:nvPr>
            <p:ph type="title"/>
          </p:nvPr>
        </p:nvSpPr>
        <p:spPr>
          <a:xfrm>
            <a:off x="152280" y="75960"/>
            <a:ext cx="6934320" cy="62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lide Master</a:t>
            </a:r>
            <a:endParaRPr b="1" lang="en-US" sz="3200" spc="-1" strike="noStrike">
              <a:solidFill>
                <a:srgbClr val="000000"/>
              </a:solidFill>
              <a:latin typeface="Arial"/>
            </a:endParaRPr>
          </a:p>
        </p:txBody>
      </p:sp>
      <p:sp>
        <p:nvSpPr>
          <p:cNvPr id="127" name="文本框 5123"/>
          <p:cNvSpPr/>
          <p:nvPr/>
        </p:nvSpPr>
        <p:spPr>
          <a:xfrm>
            <a:off x="762120" y="6095880"/>
            <a:ext cx="504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fa6d0"/>
                </a:solidFill>
                <a:uFillTx/>
                <a:latin typeface="Calibri"/>
                <a:ea typeface="Calibri"/>
                <a:hlinkClick r:id="rId1"/>
              </a:rPr>
              <a:t>ppt</a:t>
            </a:r>
            <a:r>
              <a:rPr b="0" lang="zh-CN" sz="1600" spc="-1" strike="noStrike" u="sng">
                <a:solidFill>
                  <a:srgbClr val="8fa6d0"/>
                </a:solidFill>
                <a:uFillTx/>
                <a:latin typeface="Calibri"/>
                <a:ea typeface="Calibri"/>
                <a:hlinkClick r:id="rId2"/>
              </a:rPr>
              <a:t>模板网站</a:t>
            </a:r>
            <a:r>
              <a:rPr b="0" lang="en-US" sz="1600" spc="-1" strike="noStrike">
                <a:solidFill>
                  <a:srgbClr val="000000"/>
                </a:solidFill>
                <a:latin typeface="Calibri"/>
                <a:ea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13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5B68-ACE5-4A68-945E-C42DC426795F}"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09680" y="304560"/>
            <a:ext cx="6477120" cy="62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t Master</a:t>
            </a:r>
            <a:endParaRPr b="1" lang="en-US" sz="3200" spc="-1" strike="noStrike">
              <a:solidFill>
                <a:srgbClr val="000000"/>
              </a:solidFill>
              <a:latin typeface="Arial"/>
            </a:endParaRPr>
          </a:p>
        </p:txBody>
      </p:sp>
      <p:sp>
        <p:nvSpPr>
          <p:cNvPr id="133" name=""/>
          <p:cNvSpPr txBox="1"/>
          <p:nvPr/>
        </p:nvSpPr>
        <p:spPr>
          <a:xfrm>
            <a:off x="2209680" y="1066320"/>
            <a:ext cx="647712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r Text her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6:51:56Z</dcterms:created>
  <dc:creator>幻灯片之家：www.eeppt.com</dc:creator>
  <dc:description>幻灯片之家：www.eeppt.com</dc:description>
  <cp:keywords>幻灯片之家：www.eeppt.com</cp:keywords>
  <dc:language>en-US</dc:language>
  <cp:lastModifiedBy>pc</cp:lastModifiedBy>
  <dcterms:modified xsi:type="dcterms:W3CDTF">2015-11-13T04:38:49Z</dcterms:modified>
  <cp:revision>1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