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092-8C67-4F64-A0E6-2BFFD4AF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1A6-B905-49B3-B19F-2C9B84B1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881-C8DD-4ADF-835E-AE929291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F53-28EA-4B4A-BFFB-A1B93D0C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850-564F-4F14-B51F-ADDD87DB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8F8-1150-4558-AD1A-97BD4ACA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7C8-C939-4C22-92B0-9DA6F66C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B7A-EB6F-4F53-828B-E4762814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E88-9041-4D09-911B-503D862D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29C-DECB-420A-9BE8-98C6D9F9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3C2-D3AD-4857-AF28-B950059A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133-35AF-4CA3-AF04-0BF1F663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D5B6-A92B-4C33-AC68-0BFFA0B54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方正粗倩简体"/>
                <a:ea typeface="方正粗倩简体"/>
              </a:rPr>
              <a:t>锄禾语文课件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7"/>
          <p:cNvSpPr/>
          <p:nvPr/>
        </p:nvSpPr>
        <p:spPr>
          <a:xfrm>
            <a:off x="3200400" y="26668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锄禾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99072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āngw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锄禾日</a:t>
            </a: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当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汗滴禾下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huí zh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谁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盘中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ì     lì           xīn   k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粒粒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皆</a:t>
            </a: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辛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GIF-430"/>
          <p:cNvPicPr/>
          <p:nvPr/>
        </p:nvPicPr>
        <p:blipFill>
          <a:blip r:embed="rId2"/>
          <a:stretch/>
        </p:blipFill>
        <p:spPr>
          <a:xfrm>
            <a:off x="228600" y="4648320"/>
            <a:ext cx="1590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008-EDDE-48C2-BFD6-50A48719BB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980720" y="10666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同桌两位小朋友再一遍，然后两个人说说你知道了什么，还有那些字词你不懂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9528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带着你不懂的字词，四人小组再一起读两次课文，把你不懂的问题说给小组的同学听，如果小组的同学知道的，就告诉他，大家一起解决难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看那个小朋友最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首古诗写了什么呀？谁在什么时候做了什么事情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3048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句的古诗又是讲什么的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2514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你看到老爷爷这么辛苦，你们想说什么、做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00800" y="2590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热爱劳动，珍惜粮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珍惜自己和别人的劳动成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听故事，你知道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úhé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锄禾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除掉禾苗旁边的杂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13"/>
          <p:cNvPicPr/>
          <p:nvPr/>
        </p:nvPicPr>
        <p:blipFill>
          <a:blip r:embed="rId2"/>
          <a:srcRect l="0" t="0" r="46224" b="21486"/>
          <a:stretch/>
        </p:blipFill>
        <p:spPr>
          <a:xfrm>
            <a:off x="6316560" y="0"/>
            <a:ext cx="2827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锄禾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锄禾日当午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　　汗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禾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下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谁知盘中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　　粒粒皆辛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-304920" y="32004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（２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-838080" y="1447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（１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再和同桌读一次课文，会读的小朋友教教不会读的小朋友读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71600" y="14479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们平时都用那些方法来认字的？谁来说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赶快用你喜欢的方式学习生字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完生字后，再和同桌读一次课文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当  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滴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谁  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中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餐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粒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辛 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238880" y="289548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xīn k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5715000" y="2895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lì  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581280" y="2895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ǔ c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838080" y="2971800"/>
            <a:ext cx="251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án zh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715000" y="1798560"/>
            <a:ext cx="2666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huí zhī d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914400" y="179856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ì dāngw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3657600" y="179856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àn d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09:01:55Z</dcterms:created>
  <dc:creator/>
  <dc:description/>
  <cp:keywords>幻灯片之家 http:/www.eeppt.com</cp:keywords>
  <dc:language>en-US</dc:language>
  <cp:lastModifiedBy/>
  <dcterms:modified xsi:type="dcterms:W3CDTF">2015-07-20T03:06:14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