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3AB-DD05-41C4-B18B-6F6E746A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CDC7-91A9-411D-8FFE-601484A1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D1B-33B1-4F73-8A38-C8E68291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BE0-7AD5-49F5-99B0-B1B95183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9E876-4001-406E-974A-A69D079B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A7CE-DF3B-4D2C-81ED-082D6787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7723-58D6-4E51-96BC-11209E32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DD64-6D17-49C5-8AF7-C8A7BB0F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FF51-0104-4D15-9A4A-8B65ECEF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4D76-6F90-4450-8B52-6B429D49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98F3-3B53-4795-B367-C6652F4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239E-BEEB-4A36-8F84-BCF9C70A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D125-C44E-4B8A-AB3A-38B4798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B216-3EDE-4E7D-9EFD-8AA1FA39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691-8231-49A7-9177-136F6A99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9ADF3-E52D-475A-9B01-0A7BA311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FA21-9DDF-4990-9647-8CB9B5F2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6E0B-9625-401C-9CA1-B833BED3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D73D-C41E-4DCA-BACC-D2D3E4DEB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93F8-47BE-4283-9786-351199B7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57B89-4F91-4E9E-82C6-680F06B1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225D2-BBEF-4D0E-A636-3E37DD23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B5A-84F3-4E9F-A575-4E1A519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C71F3-FC74-4A99-A3BB-D6D36E08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E794A-B502-4B07-8816-B2D2AA8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85BF2-94D6-432F-99C1-CAE73DA2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6534A-97DF-4ACA-BC38-84569C8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4A501-0EA0-44EE-A80D-51393AF14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EB363-EF28-4669-9145-95772EDF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9716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41840" y="129492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75248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9716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41840" y="3818160"/>
            <a:ext cx="22327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AEA4-1147-4307-89D2-27BBFB93D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3B81-D7AC-457D-96DC-A7670062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0EB-16C0-4645-BBA3-CEC36E84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28240"/>
            <a:ext cx="69343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AC2A-5FD1-42BB-B24C-07E36FE9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061-1AD8-4C01-B977-6234974B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81816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F92-22E7-45E3-9570-87D40BC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294920"/>
            <a:ext cx="338364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818160"/>
            <a:ext cx="693432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6A4-41B5-4C78-9086-D3A06FE9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D1FA-B15A-4CAE-9C46-9ECA1C1C512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73AA-3844-40D7-A1B5-CA81121D7BF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045-7C74-4337-AFCF-AA5BC47FA4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539-3A59-4CCC-9FF2-9124FD0E36D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彩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工作报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ff99"/>
              </a:solidFill>
              <a:latin typeface="Arial"/>
              <a:ea typeface="宋体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52480" y="1294920"/>
            <a:ext cx="69343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6147"/>
          <p:cNvSpPr/>
          <p:nvPr/>
        </p:nvSpPr>
        <p:spPr>
          <a:xfrm>
            <a:off x="685800" y="328608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EED2-0CBC-4405-932C-1A90F7ED783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01:46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5:12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