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188-D449-42B1-A252-47B37E2A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7AD-03F5-46A6-AAA0-6C5A3B66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204-D2CE-49E0-99FB-F0093E5EB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4B7B-3C41-40DB-93E0-B620FDCE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4BB-3085-4266-844C-33C53710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264-ABE7-41DB-B939-6CE87CF3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74C-E7B8-4F74-926C-4FE2573D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E7A-7B57-4A06-815F-18C61A4E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965-FFD6-45D6-B543-C6A9A52C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8E8-C065-4D4A-B240-C928D34B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034-1C36-4AB1-9EF8-5B82FC5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7C9B-78CD-420F-9518-28594424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F71C-B4A9-4D53-B81C-328C131A79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5" descr="2004916143226761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3" name="浏阳河.mp3" descr=""/>
          <p:cNvPicPr/>
          <p:nvPr/>
        </p:nvPicPr>
        <p:blipFill>
          <a:blip r:embed="rId3"/>
          <a:stretch/>
        </p:blipFill>
        <p:spPr>
          <a:xfrm>
            <a:off x="845820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28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《吃水不忘挖井人》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课件模板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233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F2003120513332100000"/>
          <p:cNvPicPr/>
          <p:nvPr/>
        </p:nvPicPr>
        <p:blipFill>
          <a:blip r:embed="rId2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715000" y="1947960"/>
            <a:ext cx="33526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  <a:ea typeface="楷体_GB2312"/>
              </a:rPr>
              <a:t>在江西领导革命时的毛泽东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F2003112009454500000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57200" y="167652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47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，毛泽东在延安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200552492550734"/>
          <p:cNvPicPr/>
          <p:nvPr/>
        </p:nvPicPr>
        <p:blipFill>
          <a:blip r:embed="rId2"/>
          <a:stretch/>
        </p:blipFill>
        <p:spPr>
          <a:xfrm>
            <a:off x="3962520" y="3276720"/>
            <a:ext cx="4647960" cy="3090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l5"/>
          <p:cNvPicPr/>
          <p:nvPr/>
        </p:nvPicPr>
        <p:blipFill>
          <a:blip r:embed="rId3"/>
          <a:stretch/>
        </p:blipFill>
        <p:spPr>
          <a:xfrm>
            <a:off x="304920" y="380880"/>
            <a:ext cx="4800600" cy="3124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867280" y="115740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  <a:ea typeface="楷体_GB2312"/>
              </a:rPr>
              <a:t>瑞金城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838080" y="443376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  <a:ea typeface="楷体_GB2312"/>
              </a:rPr>
              <a:t>沙洲坝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ahom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595-E031-4953-B2A8-4FAADD222DD5}" type="slidenum">
              <a:t>5</a:t>
            </a:fld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069-3"/>
          <p:cNvPicPr/>
          <p:nvPr/>
        </p:nvPicPr>
        <p:blipFill>
          <a:blip r:embed="rId2"/>
          <a:stretch/>
        </p:blipFill>
        <p:spPr>
          <a:xfrm>
            <a:off x="-152280" y="-152280"/>
            <a:ext cx="9601200" cy="7162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eeppt.com/moban/kejian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69-3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800600" y="22845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  <a:ea typeface="楷体_GB2312"/>
              </a:rPr>
              <a:t>吃水不忘挖井人，时刻想念毛主席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val 7"/>
          <p:cNvSpPr/>
          <p:nvPr/>
        </p:nvSpPr>
        <p:spPr>
          <a:xfrm>
            <a:off x="807732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5438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Oval 9"/>
          <p:cNvSpPr/>
          <p:nvPr/>
        </p:nvSpPr>
        <p:spPr>
          <a:xfrm>
            <a:off x="693432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6324480" y="37339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12"/>
          <p:cNvSpPr/>
          <p:nvPr/>
        </p:nvSpPr>
        <p:spPr>
          <a:xfrm>
            <a:off x="6324480" y="3048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13"/>
          <p:cNvSpPr/>
          <p:nvPr/>
        </p:nvSpPr>
        <p:spPr>
          <a:xfrm>
            <a:off x="6934320" y="30481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1106640" y="6423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1T06:39:04Z</dcterms:created>
  <dc:creator/>
  <dc:description/>
  <cp:keywords>幻灯片之家 http:/www.eeppt.com</cp:keywords>
  <dc:language>en-US</dc:language>
  <cp:lastModifiedBy/>
  <dcterms:modified xsi:type="dcterms:W3CDTF">2015-07-17T15:06:50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