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68120-6EB7-4B18-8C0C-A9E72700B6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82160" y="304920"/>
            <a:ext cx="79707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1280" y="1294920"/>
            <a:ext cx="80769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1280" y="3842280"/>
            <a:ext cx="80769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85DD6-97D0-4522-94B7-BAB88C4E26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82160" y="304920"/>
            <a:ext cx="79707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1280" y="1294920"/>
            <a:ext cx="3941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9840" y="1294920"/>
            <a:ext cx="3941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1280" y="3842280"/>
            <a:ext cx="3941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9840" y="3842280"/>
            <a:ext cx="3941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70BD6-A47F-4047-9272-C5547C5285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82160" y="304920"/>
            <a:ext cx="79707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1280" y="129492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42240" y="129492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73560" y="129492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1280" y="384228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42240" y="384228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73560" y="384228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3EA33-DF16-4DDF-AEE4-F10BC5E044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C3F1FE-E5A2-4493-93F8-D95049120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82160" y="304920"/>
            <a:ext cx="79707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11280" y="1294920"/>
            <a:ext cx="807696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A5A29C-2AEA-418E-AC32-A559B3873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82160" y="304920"/>
            <a:ext cx="79707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11280" y="1294920"/>
            <a:ext cx="80769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7FB9E6-B742-4EF5-BDF8-492D39F69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82160" y="304920"/>
            <a:ext cx="79707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11280" y="1294920"/>
            <a:ext cx="3941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49840" y="1294920"/>
            <a:ext cx="3941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6B60D5-BB0E-4228-8C30-3D04AA9D5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2160" y="304920"/>
            <a:ext cx="79707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DE0F3B-F898-4283-932F-095DC60DB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82160" y="304920"/>
            <a:ext cx="7970760" cy="32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23B8C9-74E7-473E-8AD1-8193279A6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82160" y="304920"/>
            <a:ext cx="79707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11280" y="1294920"/>
            <a:ext cx="3941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49840" y="1294920"/>
            <a:ext cx="3941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11280" y="3842280"/>
            <a:ext cx="3941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FC9EE6-D05B-4400-8330-DCA04DC6F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160" y="304920"/>
            <a:ext cx="79707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1280" y="1294920"/>
            <a:ext cx="807696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02E32-C0E7-4D87-89DE-A0C8D11947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82160" y="304920"/>
            <a:ext cx="79707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1280" y="1294920"/>
            <a:ext cx="3941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49840" y="1294920"/>
            <a:ext cx="3941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49840" y="3842280"/>
            <a:ext cx="3941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4881D4-9F5D-4A15-98FD-7D1B831E7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82160" y="304920"/>
            <a:ext cx="79707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1280" y="1294920"/>
            <a:ext cx="3941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49840" y="1294920"/>
            <a:ext cx="3941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11280" y="3842280"/>
            <a:ext cx="80769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032903-E122-4D6E-A59D-12F80F6A3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82160" y="304920"/>
            <a:ext cx="79707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1280" y="1294920"/>
            <a:ext cx="80769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11280" y="3842280"/>
            <a:ext cx="80769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FFD77D-1426-4D0A-9434-6DE456FB3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82160" y="304920"/>
            <a:ext cx="79707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11280" y="1294920"/>
            <a:ext cx="3941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9840" y="1294920"/>
            <a:ext cx="3941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1280" y="3842280"/>
            <a:ext cx="3941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49840" y="3842280"/>
            <a:ext cx="3941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0E7D9E-512E-4002-9526-926A21E84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82160" y="304920"/>
            <a:ext cx="79707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11280" y="129492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42240" y="129492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73560" y="129492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11280" y="384228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42240" y="384228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73560" y="384228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E5C3F3-1BC1-4F6D-AD56-CDB027956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8A258E-5D6A-4312-9C7F-1AC60043B04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82160" y="304920"/>
            <a:ext cx="79707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611280" y="1294920"/>
            <a:ext cx="807696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CF1B21-23B0-43BD-99CC-D241A79E16E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82160" y="304920"/>
            <a:ext cx="79707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11280" y="1294920"/>
            <a:ext cx="80769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AF29B2-1DD4-4DE4-B37A-F1C50BF3560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82160" y="304920"/>
            <a:ext cx="79707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1280" y="1294920"/>
            <a:ext cx="3941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49840" y="1294920"/>
            <a:ext cx="3941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959108-C77D-4346-843C-FA1149D1D38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82160" y="304920"/>
            <a:ext cx="79707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5B1D7D-FE60-442C-ABDF-749A72E9A27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160" y="304920"/>
            <a:ext cx="79707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1280" y="1294920"/>
            <a:ext cx="80769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C37B5-3B96-4721-9FC4-DD6788982C7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182160" y="304920"/>
            <a:ext cx="7970760" cy="32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77E942-749D-489A-9638-02848B75565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82160" y="304920"/>
            <a:ext cx="79707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1280" y="1294920"/>
            <a:ext cx="3941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49840" y="1294920"/>
            <a:ext cx="3941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11280" y="3842280"/>
            <a:ext cx="3941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BEB8CF-E0AC-45B8-9654-5A0B4E0D033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82160" y="304920"/>
            <a:ext cx="79707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11280" y="1294920"/>
            <a:ext cx="3941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49840" y="1294920"/>
            <a:ext cx="3941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749840" y="3842280"/>
            <a:ext cx="3941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D59E70-0847-48B6-847B-E1A4B4824F2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2160" y="304920"/>
            <a:ext cx="79707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11280" y="1294920"/>
            <a:ext cx="3941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49840" y="1294920"/>
            <a:ext cx="3941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11280" y="3842280"/>
            <a:ext cx="80769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C4BE4C-ED88-486C-BF5F-AC9E8519CE3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82160" y="304920"/>
            <a:ext cx="79707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294920"/>
            <a:ext cx="80769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611280" y="3842280"/>
            <a:ext cx="80769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6C2922-30D7-4C25-B22E-2B97169EDC5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82160" y="304920"/>
            <a:ext cx="79707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11280" y="1294920"/>
            <a:ext cx="3941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49840" y="1294920"/>
            <a:ext cx="3941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11280" y="3842280"/>
            <a:ext cx="3941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749840" y="3842280"/>
            <a:ext cx="3941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BA9C6A-9B47-45BE-84CB-67823F6D464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82160" y="304920"/>
            <a:ext cx="79707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11280" y="129492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342240" y="129492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73560" y="129492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611280" y="384228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342240" y="384228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73560" y="384228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C7A0DF-818A-4725-8B8C-12F05FEABD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82160" y="304920"/>
            <a:ext cx="79707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1280" y="1294920"/>
            <a:ext cx="3941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9840" y="1294920"/>
            <a:ext cx="3941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ED21B-0175-48A2-A7D3-D136DD834C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160" y="304920"/>
            <a:ext cx="79707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DF98C-A6D3-4BB1-80DD-95AC8BB470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82160" y="304920"/>
            <a:ext cx="7970760" cy="32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F2892-E4CA-4273-8731-9FA57D3061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82160" y="304920"/>
            <a:ext cx="79707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1280" y="1294920"/>
            <a:ext cx="3941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9840" y="1294920"/>
            <a:ext cx="3941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1280" y="3842280"/>
            <a:ext cx="3941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6682E-E7A1-4287-A8F0-3D5D0A47D8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82160" y="304920"/>
            <a:ext cx="79707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1280" y="1294920"/>
            <a:ext cx="3941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9840" y="1294920"/>
            <a:ext cx="3941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9840" y="3842280"/>
            <a:ext cx="3941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405EE-8883-4C04-8C6F-E05F563B5E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82160" y="304920"/>
            <a:ext cx="79707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1280" y="1294920"/>
            <a:ext cx="3941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9840" y="1294920"/>
            <a:ext cx="3941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1280" y="3842280"/>
            <a:ext cx="80769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24024-B1D2-46FF-889E-9B51BCD4C5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1025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82160" y="304920"/>
            <a:ext cx="79707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11280" y="1294920"/>
            <a:ext cx="80769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lvl="3" marL="156204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lvl="4" marL="19810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lvl="5" marL="19810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lvl="6" marL="19810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302320" y="6424560"/>
            <a:ext cx="76500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1400" spc="-1" strike="noStrike">
                <a:solidFill>
                  <a:srgbClr val="6600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5FD32-E15A-4D47-AC97-8E6CFD58C0CA}" type="slidenum">
              <a:rPr b="1" lang="ko-KR" sz="1400" spc="-1" strike="noStrike">
                <a:solidFill>
                  <a:srgbClr val="6600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矩形 1029"/>
          <p:cNvSpPr/>
          <p:nvPr/>
        </p:nvSpPr>
        <p:spPr>
          <a:xfrm>
            <a:off x="0" y="914400"/>
            <a:ext cx="9144000" cy="763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矩形 1030"/>
          <p:cNvSpPr/>
          <p:nvPr/>
        </p:nvSpPr>
        <p:spPr>
          <a:xfrm>
            <a:off x="7086600" y="609480"/>
            <a:ext cx="2057400" cy="3049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矩形 1031"/>
          <p:cNvSpPr/>
          <p:nvPr/>
        </p:nvSpPr>
        <p:spPr>
          <a:xfrm>
            <a:off x="7162920" y="627120"/>
            <a:ext cx="19047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42400-A177-4F27-9B39-6F5D91A1E801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7E97B-5CD1-48D4-9993-31AEA0EB3D8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矩形 2049"/>
          <p:cNvSpPr/>
          <p:nvPr/>
        </p:nvSpPr>
        <p:spPr>
          <a:xfrm>
            <a:off x="0" y="3352680"/>
            <a:ext cx="9144000" cy="35053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椭圆 2053"/>
          <p:cNvSpPr/>
          <p:nvPr/>
        </p:nvSpPr>
        <p:spPr>
          <a:xfrm>
            <a:off x="7848720" y="838080"/>
            <a:ext cx="833400" cy="833400"/>
          </a:xfrm>
          <a:prstGeom prst="ellipse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椭圆 2054"/>
          <p:cNvSpPr/>
          <p:nvPr/>
        </p:nvSpPr>
        <p:spPr>
          <a:xfrm>
            <a:off x="5715000" y="2057400"/>
            <a:ext cx="496800" cy="496800"/>
          </a:xfrm>
          <a:prstGeom prst="ellipse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椭圆 2055"/>
          <p:cNvSpPr/>
          <p:nvPr/>
        </p:nvSpPr>
        <p:spPr>
          <a:xfrm>
            <a:off x="6858000" y="1143000"/>
            <a:ext cx="676440" cy="676440"/>
          </a:xfrm>
          <a:prstGeom prst="ellipse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椭圆 2056"/>
          <p:cNvSpPr/>
          <p:nvPr/>
        </p:nvSpPr>
        <p:spPr>
          <a:xfrm>
            <a:off x="7543800" y="1752480"/>
            <a:ext cx="349200" cy="349200"/>
          </a:xfrm>
          <a:prstGeom prst="ellipse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椭圆 2057"/>
          <p:cNvSpPr/>
          <p:nvPr/>
        </p:nvSpPr>
        <p:spPr>
          <a:xfrm>
            <a:off x="7620120" y="2209680"/>
            <a:ext cx="433440" cy="433440"/>
          </a:xfrm>
          <a:prstGeom prst="ellipse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矩形 2058"/>
          <p:cNvSpPr/>
          <p:nvPr/>
        </p:nvSpPr>
        <p:spPr>
          <a:xfrm>
            <a:off x="0" y="3352680"/>
            <a:ext cx="9144000" cy="1526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82160" y="304920"/>
            <a:ext cx="79707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1280" y="1294920"/>
            <a:ext cx="80769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lvl="3" marL="156204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lvl="4" marL="19810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lvl="5" marL="19810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lvl="6" marL="19810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Num" idx="5"/>
          </p:nvPr>
        </p:nvSpPr>
        <p:spPr>
          <a:xfrm>
            <a:off x="8485200" y="6552720"/>
            <a:ext cx="6588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5724E-BD94-4D81-B22A-8D8BECA6F34A}" type="slidenum">
              <a:rPr b="1" lang="ko-KR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2819520"/>
            <a:ext cx="91440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33"/>
                </a:solidFill>
                <a:latin typeface="Verdana"/>
                <a:ea typeface="굴림"/>
              </a:rPr>
              <a:t>橙色</a:t>
            </a:r>
            <a:r>
              <a:rPr b="1" lang="zh-CN" sz="4000" spc="-1" strike="noStrike">
                <a:solidFill>
                  <a:srgbClr val="660033"/>
                </a:solidFill>
                <a:latin typeface="Verdana"/>
                <a:ea typeface="宋体"/>
              </a:rPr>
              <a:t>青春</a:t>
            </a:r>
            <a:r>
              <a:rPr b="1" lang="zh-CN" sz="4000" spc="-1" strike="noStrike">
                <a:solidFill>
                  <a:srgbClr val="660033"/>
                </a:solidFill>
                <a:latin typeface="Verdana"/>
                <a:ea typeface="굴림"/>
              </a:rPr>
              <a:t>活力企业</a:t>
            </a:r>
            <a:r>
              <a:rPr b="1" lang="zh-CN" sz="4000" spc="-1" strike="noStrike">
                <a:solidFill>
                  <a:srgbClr val="660033"/>
                </a:solidFill>
                <a:latin typeface="Verdana"/>
                <a:ea typeface="宋体"/>
              </a:rPr>
              <a:t>PPT</a:t>
            </a:r>
            <a:r>
              <a:rPr b="1" lang="zh-CN" sz="4000" spc="-1" strike="noStrike">
                <a:solidFill>
                  <a:srgbClr val="660033"/>
                </a:solidFill>
                <a:latin typeface="Verdana"/>
                <a:ea typeface="宋体"/>
              </a:rPr>
              <a:t>模板下载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228600" y="6248160"/>
            <a:ext cx="8686800" cy="4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  <a:ea typeface="굴림"/>
              </a:rPr>
              <a:t>COMPANY LOGO</a:t>
            </a:r>
            <a:endParaRPr b="0" lang="en-US" sz="1600" spc="-1" strike="noStrike">
              <a:solidFill>
                <a:srgbClr val="660033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32" name="文本框 4099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矩形 5121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82520" y="221760"/>
            <a:ext cx="88092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5640" y="1371600"/>
            <a:ext cx="6095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99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le 1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99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le 2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99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le 3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99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le 4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99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le 5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99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le 6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99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le 7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99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le 8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99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le 9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82160" y="304920"/>
            <a:ext cx="79707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lated Documen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11280" y="1294920"/>
            <a:ext cx="80769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Competitors 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may want to allocate on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lide per compet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Strengths 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 strengths relative to competi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Weaknesses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 weaknesses relative to compet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2160" y="304920"/>
            <a:ext cx="79707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hart Documents 1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图表占位符 7170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383600" cy="4459320"/>
          </a:xfrm>
          <a:prstGeom prst="rect">
            <a:avLst/>
          </a:prstGeom>
          <a:ln w="0">
            <a:noFill/>
          </a:ln>
        </p:spPr>
      </p:pic>
      <p:sp>
        <p:nvSpPr>
          <p:cNvPr id="140" name="文本框 7171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cc99"/>
                </a:solidFill>
                <a:uFillTx/>
                <a:latin typeface="굴림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cc99"/>
                </a:solidFill>
                <a:uFillTx/>
                <a:latin typeface="굴림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82160" y="304920"/>
            <a:ext cx="79707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hart Documents 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图表占位符 8194" descr=""/>
          <p:cNvPicPr/>
          <p:nvPr/>
        </p:nvPicPr>
        <p:blipFill>
          <a:blip r:embed="rId1"/>
          <a:stretch/>
        </p:blipFill>
        <p:spPr>
          <a:xfrm>
            <a:off x="609480" y="1447920"/>
            <a:ext cx="80154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82160" y="304920"/>
            <a:ext cx="79707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 1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五边形 9218"/>
          <p:cNvSpPr/>
          <p:nvPr/>
        </p:nvSpPr>
        <p:spPr>
          <a:xfrm>
            <a:off x="533520" y="1676520"/>
            <a:ext cx="1752480" cy="457200"/>
          </a:xfrm>
          <a:custGeom>
            <a:avLst/>
            <a:gdLst>
              <a:gd name="textAreaLeft" fmla="*/ 0 w 1752480"/>
              <a:gd name="textAreaRight" fmla="*/ 1752840 w 17524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1" y="0"/>
                </a:lnTo>
                <a:lnTo>
                  <a:pt x="21600" y="10800"/>
                </a:lnTo>
                <a:lnTo>
                  <a:pt x="16201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100000">
                <a:srgbClr val="ff9933"/>
              </a:gs>
            </a:gsLst>
            <a:lin ang="0"/>
          </a:gradFill>
          <a:ln w="3168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Verdana"/>
                <a:ea typeface="바탕"/>
              </a:rPr>
              <a:t>TITLE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燕尾形 9219"/>
          <p:cNvSpPr/>
          <p:nvPr/>
        </p:nvSpPr>
        <p:spPr>
          <a:xfrm>
            <a:off x="1905120" y="1676520"/>
            <a:ext cx="2514600" cy="457200"/>
          </a:xfrm>
          <a:custGeom>
            <a:avLst/>
            <a:gdLst>
              <a:gd name="textAreaLeft" fmla="*/ 0 w 2514600"/>
              <a:gd name="textAreaRight" fmla="*/ 2514960 w 25146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51" y="0"/>
                </a:lnTo>
                <a:lnTo>
                  <a:pt x="21600" y="10800"/>
                </a:lnTo>
                <a:lnTo>
                  <a:pt x="17851" y="21600"/>
                </a:lnTo>
                <a:lnTo>
                  <a:pt x="0" y="21600"/>
                </a:lnTo>
                <a:lnTo>
                  <a:pt x="3749" y="10800"/>
                </a:ln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100000">
                <a:srgbClr val="ff9933"/>
              </a:gs>
            </a:gsLst>
            <a:lin ang="0"/>
          </a:gradFill>
          <a:ln w="3168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Verdana"/>
                <a:ea typeface="바탕"/>
              </a:rPr>
              <a:t>TITLE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燕尾形 9220"/>
          <p:cNvSpPr/>
          <p:nvPr/>
        </p:nvSpPr>
        <p:spPr>
          <a:xfrm>
            <a:off x="4038480" y="1676520"/>
            <a:ext cx="2514600" cy="457200"/>
          </a:xfrm>
          <a:custGeom>
            <a:avLst/>
            <a:gdLst>
              <a:gd name="textAreaLeft" fmla="*/ 0 w 2514600"/>
              <a:gd name="textAreaRight" fmla="*/ 2514960 w 25146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51" y="0"/>
                </a:lnTo>
                <a:lnTo>
                  <a:pt x="21600" y="10800"/>
                </a:lnTo>
                <a:lnTo>
                  <a:pt x="17851" y="21600"/>
                </a:lnTo>
                <a:lnTo>
                  <a:pt x="0" y="21600"/>
                </a:lnTo>
                <a:lnTo>
                  <a:pt x="3749" y="10800"/>
                </a:ln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100000">
                <a:srgbClr val="ff9933"/>
              </a:gs>
            </a:gsLst>
            <a:lin ang="0"/>
          </a:gradFill>
          <a:ln w="3168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Verdana"/>
                <a:ea typeface="바탕"/>
              </a:rPr>
              <a:t>TITLE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燕尾形 9221"/>
          <p:cNvSpPr/>
          <p:nvPr/>
        </p:nvSpPr>
        <p:spPr>
          <a:xfrm>
            <a:off x="6172200" y="1676520"/>
            <a:ext cx="2514600" cy="457200"/>
          </a:xfrm>
          <a:custGeom>
            <a:avLst/>
            <a:gdLst>
              <a:gd name="textAreaLeft" fmla="*/ 0 w 2514600"/>
              <a:gd name="textAreaRight" fmla="*/ 2514960 w 25146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51" y="0"/>
                </a:lnTo>
                <a:lnTo>
                  <a:pt x="21600" y="10800"/>
                </a:lnTo>
                <a:lnTo>
                  <a:pt x="17851" y="21600"/>
                </a:lnTo>
                <a:lnTo>
                  <a:pt x="0" y="21600"/>
                </a:lnTo>
                <a:lnTo>
                  <a:pt x="3749" y="10800"/>
                </a:ln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100000">
                <a:srgbClr val="ff9933"/>
              </a:gs>
            </a:gsLst>
            <a:lin ang="0"/>
          </a:gradFill>
          <a:ln w="3168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Verdana"/>
                <a:ea typeface="바탕"/>
              </a:rPr>
              <a:t>TITLE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533520" y="2209680"/>
            <a:ext cx="360" cy="3276720"/>
            <a:chOff x="533520" y="2209680"/>
            <a:chExt cx="360" cy="3276720"/>
          </a:xfrm>
        </p:grpSpPr>
        <p:sp>
          <p:nvSpPr>
            <p:cNvPr id="149" name="直接连接符 9222"/>
            <p:cNvSpPr/>
            <p:nvPr/>
          </p:nvSpPr>
          <p:spPr>
            <a:xfrm>
              <a:off x="533520" y="2209680"/>
              <a:ext cx="0" cy="3276720"/>
            </a:xfrm>
            <a:prstGeom prst="line">
              <a:avLst/>
            </a:prstGeom>
            <a:ln w="38160">
              <a:solidFill>
                <a:srgbClr val="ff9933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"/>
            <p:cNvSpPr txBox="1"/>
            <p:nvPr/>
          </p:nvSpPr>
          <p:spPr>
            <a:xfrm>
              <a:off x="533520" y="2209680"/>
              <a:ext cx="360" cy="327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1981080" y="2209680"/>
            <a:ext cx="360" cy="3276720"/>
            <a:chOff x="1981080" y="2209680"/>
            <a:chExt cx="360" cy="3276720"/>
          </a:xfrm>
        </p:grpSpPr>
        <p:sp>
          <p:nvSpPr>
            <p:cNvPr id="152" name="直接连接符 9223"/>
            <p:cNvSpPr/>
            <p:nvPr/>
          </p:nvSpPr>
          <p:spPr>
            <a:xfrm>
              <a:off x="1981080" y="2209680"/>
              <a:ext cx="0" cy="3276720"/>
            </a:xfrm>
            <a:prstGeom prst="line">
              <a:avLst/>
            </a:prstGeom>
            <a:ln w="38160">
              <a:solidFill>
                <a:srgbClr val="ff9933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"/>
            <p:cNvSpPr txBox="1"/>
            <p:nvPr/>
          </p:nvSpPr>
          <p:spPr>
            <a:xfrm>
              <a:off x="1981080" y="2209680"/>
              <a:ext cx="360" cy="327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4038480" y="2209680"/>
            <a:ext cx="360" cy="3276720"/>
            <a:chOff x="4038480" y="2209680"/>
            <a:chExt cx="360" cy="3276720"/>
          </a:xfrm>
        </p:grpSpPr>
        <p:sp>
          <p:nvSpPr>
            <p:cNvPr id="155" name="直接连接符 9224"/>
            <p:cNvSpPr/>
            <p:nvPr/>
          </p:nvSpPr>
          <p:spPr>
            <a:xfrm>
              <a:off x="4038480" y="2209680"/>
              <a:ext cx="0" cy="3276720"/>
            </a:xfrm>
            <a:prstGeom prst="line">
              <a:avLst/>
            </a:prstGeom>
            <a:ln w="38160">
              <a:solidFill>
                <a:srgbClr val="ff9933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"/>
            <p:cNvSpPr txBox="1"/>
            <p:nvPr/>
          </p:nvSpPr>
          <p:spPr>
            <a:xfrm>
              <a:off x="4038480" y="2209680"/>
              <a:ext cx="360" cy="327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6172200" y="2209680"/>
            <a:ext cx="360" cy="3276720"/>
            <a:chOff x="6172200" y="2209680"/>
            <a:chExt cx="360" cy="3276720"/>
          </a:xfrm>
        </p:grpSpPr>
        <p:sp>
          <p:nvSpPr>
            <p:cNvPr id="158" name="直接连接符 9225"/>
            <p:cNvSpPr/>
            <p:nvPr/>
          </p:nvSpPr>
          <p:spPr>
            <a:xfrm>
              <a:off x="6172200" y="2209680"/>
              <a:ext cx="0" cy="3276720"/>
            </a:xfrm>
            <a:prstGeom prst="line">
              <a:avLst/>
            </a:prstGeom>
            <a:ln w="38160">
              <a:solidFill>
                <a:srgbClr val="ff9933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6172200" y="2209680"/>
              <a:ext cx="360" cy="327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686800" y="1981080"/>
            <a:ext cx="360" cy="3505320"/>
            <a:chOff x="8686800" y="1981080"/>
            <a:chExt cx="360" cy="3505320"/>
          </a:xfrm>
        </p:grpSpPr>
        <p:sp>
          <p:nvSpPr>
            <p:cNvPr id="161" name="直接连接符 9226"/>
            <p:cNvSpPr/>
            <p:nvPr/>
          </p:nvSpPr>
          <p:spPr>
            <a:xfrm>
              <a:off x="8686800" y="1981080"/>
              <a:ext cx="0" cy="3505320"/>
            </a:xfrm>
            <a:prstGeom prst="line">
              <a:avLst/>
            </a:prstGeom>
            <a:ln w="38160">
              <a:solidFill>
                <a:srgbClr val="ff9933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"/>
            <p:cNvSpPr txBox="1"/>
            <p:nvPr/>
          </p:nvSpPr>
          <p:spPr>
            <a:xfrm>
              <a:off x="8686800" y="1981080"/>
              <a:ext cx="360" cy="3505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63" name="文本框 9227"/>
          <p:cNvSpPr/>
          <p:nvPr/>
        </p:nvSpPr>
        <p:spPr>
          <a:xfrm>
            <a:off x="762120" y="2362320"/>
            <a:ext cx="1066680" cy="24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Text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Text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Text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Text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Text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Text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文本框 9228"/>
          <p:cNvSpPr/>
          <p:nvPr/>
        </p:nvSpPr>
        <p:spPr>
          <a:xfrm>
            <a:off x="2209680" y="2362320"/>
            <a:ext cx="1067040" cy="24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Text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Text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Text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Text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Text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Text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文本框 9229"/>
          <p:cNvSpPr/>
          <p:nvPr/>
        </p:nvSpPr>
        <p:spPr>
          <a:xfrm>
            <a:off x="4267080" y="2362320"/>
            <a:ext cx="1067040" cy="24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Text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Text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Text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Text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Text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Text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文本框 9230"/>
          <p:cNvSpPr/>
          <p:nvPr/>
        </p:nvSpPr>
        <p:spPr>
          <a:xfrm>
            <a:off x="6386400" y="2362320"/>
            <a:ext cx="1067040" cy="24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Text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Text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Text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Text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Text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Text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533520" y="5562720"/>
            <a:ext cx="8153280" cy="360"/>
            <a:chOff x="533520" y="5562720"/>
            <a:chExt cx="8153280" cy="360"/>
          </a:xfrm>
        </p:grpSpPr>
        <p:sp>
          <p:nvSpPr>
            <p:cNvPr id="168" name="直接连接符 9231"/>
            <p:cNvSpPr/>
            <p:nvPr/>
          </p:nvSpPr>
          <p:spPr>
            <a:xfrm>
              <a:off x="533520" y="5562720"/>
              <a:ext cx="8153280" cy="0"/>
            </a:xfrm>
            <a:prstGeom prst="line">
              <a:avLst/>
            </a:prstGeom>
            <a:ln w="25560">
              <a:solidFill>
                <a:srgbClr val="ff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"/>
            <p:cNvSpPr txBox="1"/>
            <p:nvPr/>
          </p:nvSpPr>
          <p:spPr>
            <a:xfrm>
              <a:off x="533520" y="5562720"/>
              <a:ext cx="8153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82160" y="304920"/>
            <a:ext cx="79707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 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椭圆 10242"/>
          <p:cNvSpPr/>
          <p:nvPr/>
        </p:nvSpPr>
        <p:spPr>
          <a:xfrm>
            <a:off x="3200400" y="2666880"/>
            <a:ext cx="2362320" cy="2362320"/>
          </a:xfrm>
          <a:prstGeom prst="ellipse">
            <a:avLst/>
          </a:prstGeom>
          <a:noFill/>
          <a:ln w="63360">
            <a:solidFill>
              <a:srgbClr val="ff9933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椭圆 10243"/>
          <p:cNvSpPr/>
          <p:nvPr/>
        </p:nvSpPr>
        <p:spPr>
          <a:xfrm>
            <a:off x="3657600" y="1905120"/>
            <a:ext cx="1447920" cy="1447560"/>
          </a:xfrm>
          <a:prstGeom prst="ellipse">
            <a:avLst/>
          </a:prstGeom>
          <a:solidFill>
            <a:srgbClr val="660033"/>
          </a:solidFill>
          <a:ln w="50760">
            <a:solidFill>
              <a:srgbClr val="ff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椭圆 10244"/>
          <p:cNvSpPr/>
          <p:nvPr/>
        </p:nvSpPr>
        <p:spPr>
          <a:xfrm>
            <a:off x="2514600" y="3809880"/>
            <a:ext cx="1447920" cy="1447920"/>
          </a:xfrm>
          <a:prstGeom prst="ellipse">
            <a:avLst/>
          </a:prstGeom>
          <a:solidFill>
            <a:srgbClr val="660033"/>
          </a:solidFill>
          <a:ln w="50760">
            <a:solidFill>
              <a:srgbClr val="ff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椭圆 10245"/>
          <p:cNvSpPr/>
          <p:nvPr/>
        </p:nvSpPr>
        <p:spPr>
          <a:xfrm>
            <a:off x="4952880" y="3809880"/>
            <a:ext cx="1447920" cy="1447920"/>
          </a:xfrm>
          <a:prstGeom prst="ellipse">
            <a:avLst/>
          </a:prstGeom>
          <a:solidFill>
            <a:srgbClr val="660033"/>
          </a:solidFill>
          <a:ln w="50760">
            <a:solidFill>
              <a:srgbClr val="ff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文本框 10246"/>
          <p:cNvSpPr/>
          <p:nvPr/>
        </p:nvSpPr>
        <p:spPr>
          <a:xfrm>
            <a:off x="3804480" y="2376360"/>
            <a:ext cx="116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文本框 10247"/>
          <p:cNvSpPr/>
          <p:nvPr/>
        </p:nvSpPr>
        <p:spPr>
          <a:xfrm>
            <a:off x="2661480" y="4273560"/>
            <a:ext cx="116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文本框 10248"/>
          <p:cNvSpPr/>
          <p:nvPr/>
        </p:nvSpPr>
        <p:spPr>
          <a:xfrm>
            <a:off x="5112720" y="4273560"/>
            <a:ext cx="116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文本框 10249"/>
          <p:cNvSpPr/>
          <p:nvPr/>
        </p:nvSpPr>
        <p:spPr>
          <a:xfrm>
            <a:off x="5257800" y="2057400"/>
            <a:ext cx="28954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iagram 1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sub text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文本框 10250"/>
          <p:cNvSpPr/>
          <p:nvPr/>
        </p:nvSpPr>
        <p:spPr>
          <a:xfrm>
            <a:off x="228600" y="4861080"/>
            <a:ext cx="2286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iagram 2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sub text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文本框 10251"/>
          <p:cNvSpPr/>
          <p:nvPr/>
        </p:nvSpPr>
        <p:spPr>
          <a:xfrm>
            <a:off x="6400800" y="4861080"/>
            <a:ext cx="2286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iagram 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sub text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文本框 10252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cc99"/>
                </a:solidFill>
                <a:uFillTx/>
                <a:latin typeface="굴림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cc99"/>
                </a:solidFill>
                <a:uFillTx/>
                <a:latin typeface="굴림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04F90-6DB1-4893-8DC0-53FB9A1D5F2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33"/>
            </a:gs>
            <a:gs pos="50000">
              <a:srgbClr val="ff9933"/>
            </a:gs>
            <a:gs pos="100000">
              <a:srgbClr val="6600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文本框 11265"/>
          <p:cNvSpPr/>
          <p:nvPr/>
        </p:nvSpPr>
        <p:spPr>
          <a:xfrm>
            <a:off x="2286000" y="3657600"/>
            <a:ext cx="4897440" cy="7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33"/>
                </a:solidFill>
                <a:latin typeface="Verdana"/>
              </a:rPr>
              <a:t>E-mail : 00@00.00.0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33"/>
                </a:solidFill>
                <a:latin typeface="Verdana"/>
              </a:rPr>
              <a:t>Office : 00- 0000-000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文本框 11266"/>
          <p:cNvSpPr/>
          <p:nvPr/>
        </p:nvSpPr>
        <p:spPr>
          <a:xfrm>
            <a:off x="2957400" y="2590920"/>
            <a:ext cx="3525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Thank you 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75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8T04:36:55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6:07Z</dcterms:modified>
  <cp:revision>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