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F43E-7E59-44A8-A96C-EC29BB7E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915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2915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D87C-B2EC-4F7D-818E-03782A54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920" y="83628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920" y="388260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9FD9-5BD8-4E8E-875E-D2D38005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266976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0880" y="836280"/>
            <a:ext cx="266976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4560" y="836280"/>
            <a:ext cx="266976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6976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0880" y="3882600"/>
            <a:ext cx="266976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4560" y="3882600"/>
            <a:ext cx="266976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6715-AF70-459F-B926-03849C93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22C1-3E1B-4FD0-9C37-EA67520C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836280"/>
            <a:ext cx="829152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4B50-F8FF-4DD4-B393-D4EE2F7E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91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9A19-E554-4CA8-AB28-93AFF53C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460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5920" y="836280"/>
            <a:ext cx="40460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1124-17F7-4C09-BF71-98654F15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52C2-6AF7-4ECA-84D8-36448CAB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626920" y="117000"/>
            <a:ext cx="5770440" cy="26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61C0-ED31-4DAD-913F-F1BE38B1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5920" y="836280"/>
            <a:ext cx="40460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7461-CEDA-4C7E-B8A6-7D505A5B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836280"/>
            <a:ext cx="829152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3FF9-778E-40C9-B620-A16875DC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460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83628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5920" y="388260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9AC7-C41A-41E5-AEB7-4BC186CA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83628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2915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3174-F476-46B0-BFF0-59EF33EC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915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2915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CADB-87D5-4185-BFFF-0045D3F9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5920" y="83628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5920" y="388260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A266-891E-4706-A8E8-1C1568EF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266976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60880" y="836280"/>
            <a:ext cx="266976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64560" y="836280"/>
            <a:ext cx="266976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6976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60880" y="3882600"/>
            <a:ext cx="266976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64560" y="3882600"/>
            <a:ext cx="266976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0DE8-D326-4415-84B3-583B51D8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91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36F3-1F98-4796-9C8C-40469DEE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460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920" y="836280"/>
            <a:ext cx="40460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0E95-4087-4076-B310-4FAF1320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86AF-E400-4A95-99B1-87515958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626920" y="117000"/>
            <a:ext cx="5770440" cy="26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EE73-BD47-41F7-AE65-85BAF076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920" y="836280"/>
            <a:ext cx="40460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9041-0482-4C96-80C4-D75FC6C6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460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83628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920" y="388260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4FAF-E384-4C6E-9A89-E39D2CF7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83628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2915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3906-2F78-4006-96AA-46108E6D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4732"/>
                </a:solidFill>
                <a:latin typeface="Adobe Caslon Pro Bold"/>
              </a:rPr>
              <a:t>Click to edit the title text format</a:t>
            </a: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91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34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34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34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34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34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2E19-D7AC-4B84-9CE3-6DADC003A14F}" type="datetime">
              <a:rPr b="0" lang="en-US" sz="1200" spc="-1" strike="noStrike">
                <a:solidFill>
                  <a:srgbClr val="8b8b8b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CE28-EC16-4B98-9CE5-2BE4745B6EE4}" type="slidenum">
              <a:rPr b="0" lang="zh-CN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2"/>
          <a:srcRect l="0" t="25780" r="21366" b="0"/>
          <a:stretch/>
        </p:blipFill>
        <p:spPr>
          <a:xfrm>
            <a:off x="7812000" y="0"/>
            <a:ext cx="1332000" cy="907920"/>
          </a:xfrm>
          <a:prstGeom prst="rect">
            <a:avLst/>
          </a:prstGeom>
          <a:ln w="0">
            <a:noFill/>
          </a:ln>
        </p:spPr>
      </p:pic>
      <p:pic>
        <p:nvPicPr>
          <p:cNvPr id="6" name="图片 9" descr=""/>
          <p:cNvPicPr/>
          <p:nvPr/>
        </p:nvPicPr>
        <p:blipFill>
          <a:blip r:embed="rId3"/>
          <a:stretch/>
        </p:blipFill>
        <p:spPr>
          <a:xfrm>
            <a:off x="0" y="0"/>
            <a:ext cx="10969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03DE-0237-4F32-81C6-EE5160CFCCF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936F-4823-4549-8220-A61A5F4B7A8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7" descr=""/>
          <p:cNvPicPr/>
          <p:nvPr/>
        </p:nvPicPr>
        <p:blipFill>
          <a:blip r:embed="rId1"/>
          <a:stretch/>
        </p:blipFill>
        <p:spPr>
          <a:xfrm>
            <a:off x="7067520" y="0"/>
            <a:ext cx="20779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0969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403280" y="3644640"/>
            <a:ext cx="61214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0" y="651204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262626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矩形 1"/>
          <p:cNvSpPr/>
          <p:nvPr/>
        </p:nvSpPr>
        <p:spPr>
          <a:xfrm>
            <a:off x="2571480" y="254808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Arial"/>
              </a:rPr>
              <a:t>抽象花瓣主题</a:t>
            </a:r>
            <a:r>
              <a:rPr b="0" lang="zh-CN" sz="4000" spc="-1" strike="noStrike">
                <a:solidFill>
                  <a:srgbClr val="262626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262626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2E13-BA90-43D4-A11A-069B906EDF86}" type="slidenum">
              <a:rPr b="0" lang="zh-CN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8000" y="117000"/>
            <a:ext cx="577080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e4732"/>
                </a:solidFill>
                <a:latin typeface="Adobe Caslon Pro Bold"/>
              </a:rPr>
              <a:t>单击此处添加标题</a:t>
            </a: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836280"/>
            <a:ext cx="8291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直接连接符 7"/>
          <p:cNvSpPr/>
          <p:nvPr/>
        </p:nvSpPr>
        <p:spPr>
          <a:xfrm>
            <a:off x="2195640" y="3429000"/>
            <a:ext cx="4752720" cy="0"/>
          </a:xfrm>
          <a:prstGeom prst="line">
            <a:avLst/>
          </a:prstGeom>
          <a:ln w="76320">
            <a:solidFill>
              <a:srgbClr val="8e47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96" name="图片 8" descr=""/>
          <p:cNvPicPr/>
          <p:nvPr/>
        </p:nvPicPr>
        <p:blipFill>
          <a:blip r:embed="rId1"/>
          <a:srcRect l="-3006" t="0" r="0" b="-4560"/>
          <a:stretch/>
        </p:blipFill>
        <p:spPr>
          <a:xfrm>
            <a:off x="1892160" y="2227320"/>
            <a:ext cx="1743120" cy="12380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92360" y="2773080"/>
            <a:ext cx="439128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e4732"/>
                </a:solidFill>
                <a:latin typeface="Adobe Caslon Pro Bold"/>
              </a:rPr>
              <a:t>您的章节标题</a:t>
            </a:r>
            <a:endParaRPr b="0" lang="en-US" sz="36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11280" y="3499920"/>
            <a:ext cx="532944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e4732"/>
                </a:solidFill>
                <a:latin typeface="Adobe Caslon Pro"/>
              </a:rPr>
              <a:t>章节副标题章节副标题章节副标题章节副标题</a:t>
            </a: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371600" y="632448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1:42:13Z</dcterms:modified>
  <cp:revision>0</cp:revision>
  <dc:subject/>
  <dc:title/>
</cp:coreProperties>
</file>