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9EF-C82A-47C0-B9C8-7EAF04CA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C79-40C6-47E0-94B6-F70F8829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AFF-D8F3-4095-8E0C-C1BC6F5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7A6-FAFE-49F4-806A-29DDEF67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C8E5-1415-4EB7-940E-209B910B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2FB5-B873-4037-A4ED-DBC1B320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7EBD-8A4B-4C82-8DC1-F741DF00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72CE-AB85-47E1-986E-CAE09CA0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B8E1-8117-4F90-A334-FC2EB97E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8E1-88A9-4993-8C1B-46C93569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FD72-544B-4E82-A9E4-13FF575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B3F-A4D6-4CFE-AD76-605131F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B05-0ACE-4165-8861-DDD61D01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8F8C-FA0E-4CEE-8CD7-A680FDB2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E770-F647-48E3-88CF-DEBE917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5BFD-8264-4B0C-B7E4-10A146C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828-ADBF-4788-B893-229F1E66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ECBF-6ADE-41C1-ADD0-E73A3A2E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3D3F-24F7-479C-B2F0-E8808B88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984C-3D08-49E7-8E19-69B14DA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33E1-4183-4797-9CDF-77EA63A4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3C2D-E13D-4F77-94F6-66B1E2CF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AD4-C9B3-42C6-867E-677C062F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57AF-27A5-4351-960D-8C711FAB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7040B-2DEE-4088-A201-CB24366B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BE7C8-82C2-4D83-AA60-C064D2F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EBE1-0ECC-4622-9CFF-766DC2F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2751-DA3F-439F-A55E-C91C7C6B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0F7A-C0B4-4250-B154-1560DEA8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BADE4-BEDC-4A1B-A165-7C43513D6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CE7-818B-4CC5-A401-857E9A9B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FBC-B085-4721-A2F0-81CEE181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8D6-E19A-4585-8C8B-F8F3CBB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207-8CDD-4C27-8131-70E8849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9DE-6205-4561-8018-3D6333B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CE6-0483-4B25-B422-FFFCC4D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480" y="6372360"/>
              <a:ext cx="1908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920"/>
              <a:ext cx="9360" cy="284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48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24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000" y="5869080"/>
              <a:ext cx="43668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400" y="5888160"/>
              <a:ext cx="33840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360" y="6248520"/>
              <a:ext cx="26532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2080"/>
              <a:ext cx="263520" cy="47592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520"/>
              <a:ext cx="376200" cy="44748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840"/>
              <a:ext cx="311040" cy="37116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360"/>
              <a:ext cx="14112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E4DF-8C76-44DC-AF37-90AD612B37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AA5D-434E-4D45-B496-6531B11136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08AD-1B86-4261-8B40-FF340C7F5A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hyperlink" Target="274,1,&#24187;&#28783;&#29255; 1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274,1,&#24187;&#28783;&#29255; 1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55700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长相思幻灯片在线下载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026" descr="2755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6" descr="sTgZ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26" descr="xin_35060121084576513988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ec85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ec85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3093-FF6F-4F6A-85E2-B4FAA33FE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Img223052030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24000" y="5516640"/>
            <a:ext cx="3614760" cy="916920"/>
          </a:xfrm>
          <a:prstGeom prst="rect">
            <a:avLst/>
          </a:prstGeom>
          <a:solidFill>
            <a:srgbClr val="5e8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夜深千帐灯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3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"/>
              </a:rPr>
              <a:t>五、预习指导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作者在词中描绘了什么样的景物，你能确定是哪里的景物吗？</a:t>
            </a:r>
            <a:br>
              <a:rPr sz="3200"/>
            </a:b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体会出这词中蕴含的思想感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835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六、感知理解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纳兰性德推崇南唐李煜，词风清丽自然， 缠绵悱恻， 反映到这首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《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长相思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》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上，虽然 写旅途思乡，也写得悠长动情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   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 词的上片从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山一程，水一程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的叠用，来说明身离故乡之远。下片以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风一更，雪一更</a:t>
            </a:r>
            <a:r>
              <a:rPr b="0" lang="zh-CN" sz="28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eaeaea"/>
                </a:solidFill>
                <a:latin typeface="Verdana"/>
              </a:rPr>
              <a:t>气候上的转变来渲染作者此时孤寂情怀。风雪打断了他思乡之梦，懊丧之余，他更加怀念故园的宁静详和，作者于清丽哀婉之中又不乏边寨之雄奇风情的描述，这两者结合到一起，就升华了羁旅怀乡的主题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七、赏析加点字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上下片的前两句均用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，不但对仗工整，使文字呈连续不绝之势，词风更加缠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字赏析：点明身处之地及方向，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身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与心相对，身向榆关，而心却在关内，表明作者心系故园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八、知识归纳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长相思，词牌名。内容多写男女或朋友久别思念之情，故名。双调三十六字，平韵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九、拓展练习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</a:t>
            </a: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李白</a:t>
            </a:r>
            <a:br>
              <a:rPr sz="2000"/>
            </a:b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　　</a:t>
            </a: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，在长安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络纬秋啼金井阑， 微霜凄凄簟色寒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孤灯不明思欲绝， 卷帷望月空长叹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美人如花隔云端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上有青冥之高天， 下有渌水之波澜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天长路远魂飞苦， 梦魂不到关山难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长相思，摧心肝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隶书"/>
              </a:rPr>
              <a:t>李白此诗表达了怎样的思想感情？感情基调与纳兰词有何不同？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"/>
          <p:cNvSpPr/>
          <p:nvPr/>
        </p:nvSpPr>
        <p:spPr>
          <a:xfrm>
            <a:off x="1908000" y="765000"/>
            <a:ext cx="590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一、教 学 目 标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1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了解作者的身世经历及生活时代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2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掌握词的内容，体会词的意境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Verdana"/>
              </a:rPr>
              <a:t>3.</a:t>
            </a:r>
            <a:r>
              <a:rPr b="0" i="1" lang="zh-CN" sz="2800" spc="-1" strike="noStrike">
                <a:solidFill>
                  <a:srgbClr val="ffff00"/>
                </a:solidFill>
                <a:latin typeface="Verdana"/>
              </a:rPr>
              <a:t>领会词中作者流露的思想感情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eaeaea"/>
                </a:solidFill>
                <a:latin typeface="Arial"/>
              </a:rPr>
              <a:t>二、导 入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王国维曰：明月照积雪、大江流日夜、澄江静如练、山气日夕佳、落日大旗中、中天悬明月、大漠孤烟直、长河落日圆，此等境界可谓千古奇观。求之于词，则纳兰容若塞上之作，如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《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长相思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》“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夜深千帐灯”</a:t>
            </a: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……</a:t>
            </a:r>
            <a:r>
              <a:rPr b="0" i="1" lang="zh-CN" sz="3200" spc="-1" strike="noStrike">
                <a:solidFill>
                  <a:srgbClr val="ff0000"/>
                </a:solidFill>
                <a:latin typeface="Verdana"/>
              </a:rPr>
              <a:t>差近之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9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1026" descr="118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27" descr="sz607-a"/>
          <p:cNvPicPr/>
          <p:nvPr/>
        </p:nvPicPr>
        <p:blipFill>
          <a:blip r:embed="rId3"/>
          <a:stretch/>
        </p:blipFill>
        <p:spPr>
          <a:xfrm>
            <a:off x="228600" y="1600200"/>
            <a:ext cx="3352680" cy="4800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28"/>
          <p:cNvSpPr/>
          <p:nvPr/>
        </p:nvSpPr>
        <p:spPr>
          <a:xfrm>
            <a:off x="1523880" y="304920"/>
            <a:ext cx="5791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e855b"/>
                </a:solidFill>
                <a:latin typeface="Times New Roman"/>
                <a:ea typeface="华文行楷"/>
              </a:rPr>
              <a:t>作者介绍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Text Box 1029"/>
          <p:cNvSpPr/>
          <p:nvPr/>
        </p:nvSpPr>
        <p:spPr>
          <a:xfrm>
            <a:off x="3733920" y="1676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纳兰性德：本名成德，避太子讳改性德。字容若，满洲正黄旗人。</a:t>
            </a:r>
            <a:r>
              <a:rPr b="0" lang="en-US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岁中进士，官至一等侍卫。生平避谈世事，故词也主要写离别相思及怨夏悲秋等个人生活感受。词的风格直抒胸怀，婉约清新；但过多哀思，情调消沉。被人称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清代第一词人</a:t>
            </a:r>
            <a:r>
              <a:rPr b="0" lang="zh-CN" sz="3200" spc="-1" strike="noStrike">
                <a:solidFill>
                  <a:srgbClr val="5e855b"/>
                </a:solidFill>
                <a:latin typeface="Times New Roman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5e855b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Text Box 1030"/>
          <p:cNvSpPr/>
          <p:nvPr/>
        </p:nvSpPr>
        <p:spPr>
          <a:xfrm>
            <a:off x="8305920" y="4572000"/>
            <a:ext cx="838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eec85e"/>
                </a:solidFill>
                <a:uFillTx/>
                <a:latin typeface="Times New Roman"/>
                <a:ea typeface="华文行楷"/>
                <a:hlinkClick r:id="rId4"/>
              </a:rPr>
              <a:t>返回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028"/>
          <p:cNvSpPr txBox="1"/>
          <p:nvPr/>
        </p:nvSpPr>
        <p:spPr>
          <a:xfrm>
            <a:off x="539640" y="765000"/>
            <a:ext cx="7272360" cy="322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朗读及讲解欣赏</a:t>
            </a:r>
            <a:endParaRPr b="1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1" name="长相思.mp3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5842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549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长     相     思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纳兰性德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山一程，水一程，身向榆关那畔行，夜深千帐灯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Verdana"/>
              </a:rPr>
              <a:t>风一更，雪一更，聒碎乡心梦不成，故园无此声。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身 向 榆 关 那 畔 行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Picture 4" descr="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Arial"/>
              </a:rPr>
              <a:t>风一更，雪一更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Picture 4" descr="r_DSCF01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026" descr="09201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05:30:37Z</dcterms:created>
  <dc:creator/>
  <dc:description/>
  <cp:keywords>幻灯片之家 http:/www.eeppt.com</cp:keywords>
  <dc:language>en-US</dc:language>
  <cp:lastModifiedBy/>
  <dcterms:modified xsi:type="dcterms:W3CDTF">2015-07-20T03:06:30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