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528-9E8B-44C2-9CC8-7858DE43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BF9-8D6B-48F6-BB17-9B82AC3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6E0-D91E-4D71-8430-CF0D204E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3AF-62D1-4705-BB67-0BEC369B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8A7-579D-438E-9334-26B37B58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BBB5-EB0A-4AF0-A502-080DC3E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3AA-ABD3-4564-BF0D-5857A21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6136-EF8D-4B70-86DD-0DDC6721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4A4-01FA-41F3-A445-82BE1423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511F-D278-4007-A9E3-64BB0014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AF07-FF05-41F4-9A73-862C20B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26D-300C-4221-8A39-0465932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C75-D388-48CE-B15D-10994F0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059F-C671-40D8-AD66-92E5C7F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18E-2B02-4A09-B8C9-DEBEB48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CF8-5FB0-49A0-B2BE-E596C02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FFE-BABF-4005-B9FF-5AAF142F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1FB6-A63D-42E8-8509-607C1491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6EFA-999A-4155-A62E-476D91A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E057-4D62-4501-9807-39CC9E22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A6EF-FF76-433D-AE97-EC836C7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A611-D49D-4141-975F-5B0598EB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E01-A228-4B7A-AA80-A8EF1F1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7938-8167-4146-ABA1-77250496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D286-6050-4F0C-BE31-E4EF0F6D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4AFA-1A8E-4857-A8A3-E9EE256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062B-E1AE-4DB9-BF5B-0323BFB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7C9E-5350-48F4-8423-3C859FA7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64F1-D536-4B8A-99D1-B12C1383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45E1-64AB-4C84-AEA1-5CE0BBCE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D637-B1CB-44AC-BE89-2D0AD67F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4C96-EF54-4229-9D07-2D7F960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4B5E-68B0-4729-9463-F778B14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6FE-3E54-4218-8364-2D77AAB6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E412-1351-4920-AA6E-57DEB8E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11D6-718D-4FEB-A481-52289ED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078E-57C9-41F1-B5F2-C4062A61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8689-3941-4704-A967-5F202F7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8ABC-1EAC-484E-959E-25D4632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64EF-00AB-43E5-ABC9-4C3A19DD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3459-7D6E-45F0-8676-68E3E47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C255-9266-47DC-8F91-7A8BF04D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4041-D050-4DCA-B737-D6C7CDA2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FEF-3BDB-4314-9504-4A437727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81F-B4B3-42DF-BA7E-22369FD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26F-3268-444F-BDA2-6C73374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7EC-5633-4A18-8062-B86E222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62A-986B-46E8-A8D5-F877705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B9F-6ABA-4119-AC84-C95AEC7B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1F15-F0A0-4317-9CEB-1940E53E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319-E3F1-4E2F-8A8D-E19FABE950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36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40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165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34F3-EE37-4516-B725-2CC9ECB1AF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《灯光》插图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5724360" y="189000"/>
            <a:ext cx="31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人教版新课标六年级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6120" y="148608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灯光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自读往事这一部分内容，说说事情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起因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经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结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4214880" y="0"/>
            <a:ext cx="471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阅读课文，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想想课文讲了一件什么事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多好啊！”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这句话在课文中出现了几次，各是谁在什么情况下说的？他们在说这句话时，看到的是什么，可能想到了什么？互相交流一下读了课文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清明节前的一个晚上，我又漫步在广场上，忽然背后传来一声赞叹：“多好啊！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85880" y="271476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多好啊！”他在自言自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0" y="3687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又划着一根火柴，点燃了烟， 又望了一眼图画，深情地说，“赶明儿胜利了，咱们也能用上电灯，让孩子们都在那样亮的灯光底下学习，该多好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精读往事部分，找出描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灯光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的句子，用笔勾画下来：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一句：广场上千万盏灯静静地照耀着天安门广场周围的宏伟建筑，使人心头感到光明，感到温暖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二句：书上有一幅插图，画的是一盏吊着的电灯，一个孩子正在灯下聚精会神地读书。他注视着那幅图，默默地沉思着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三句：他又划着一根火柴，点燃了烟，又望了一眼图画，深情地说：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华文新魏"/>
              </a:rPr>
              <a:t>“</a:t>
            </a: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赶明儿胜利了，咱们也能用上电灯，让孩子们都在那样亮的灯光底下学习，该多好啊！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华文新魏"/>
              </a:rPr>
              <a:t>”</a:t>
            </a: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他把头靠在胸墙上，望着漆黑的夜空，完全陷入了对未来的憧憬里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四句：这位年轻的战友不惜自己的性命，为了让孩子们能够在电灯底下学习，他自己却没有来得及见一见电灯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五句：在天安门前璀璨的华灯下面，我又想起这位亲爱的战友来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57120" y="428760"/>
            <a:ext cx="8215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清明节前的一个晚上，我又漫步在广场上，忽然背后传来一声赞叹：“多好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14200" y="25718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一句： 广场上千万盏灯静静地照耀着天安门广场周围的宏伟建筑，使人心头感到光明，感到温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14200" y="471492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看到天安门广场上千万盏灯，心头感到光明，感到温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357120" y="21420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多好啊！”他在自言自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14200" y="14288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又划着一根火柴，点燃了烟， 又望了一眼图画，深情地说，“赶明儿胜利了，咱们也能用上电灯，让孩子们都在那样亮的灯光底下学习，该多好啊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0" y="42721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二句：书上有一幅插图，画的是一盏吊着的电灯，一个孩子正在灯下聚精会神地读书。他注视着那幅图，默默地沉思着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把头靠在胸墙上，望着漆黑的夜空，完全陷入了对未来的憧憬里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学生就这些重点句子自读思考，互相讨论：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为什么看到天安门广场上千万盏灯，心头感到光明，感到温暖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郝副营长注视着那幅图，在默默地沉思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郝副营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完全陷入对未来的憧憬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他在憧憬什么呢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500040" y="6143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5"/>
          <p:cNvSpPr/>
          <p:nvPr/>
        </p:nvSpPr>
        <p:spPr>
          <a:xfrm>
            <a:off x="642960" y="164304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位年轻的战友不惜自己的性命，为了让孩子们能够在电灯底下学习，他自己却没来得及见一见电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讨论：“这位年轻的战友不惜自己的性命，为了让孩子们能够在电灯底下学习，他自己却没来得及见一见电灯。”对这句话是怎样理解的？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句话感情深沉，含义深刻。话中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轻的战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是对年仅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岁就在战斗中牺牲的郝副营长的痛惜。可他用自己的鲜血和生命，换来了后代的幸福和安乐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们在电灯底下学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幸福与安乐生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一种象征，强调了郝副营长是为了理想而英勇献身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最后一句话既是对前面的情节的呼应，也是作者在由衷地赞叹革命先烈为理想而献身的无私和伟大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28760" y="600084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500040" y="15717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课文的题目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灯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你觉得有什么深刻的含义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71680" y="37148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本文是用什么方法记叙的，这样的写法有什么好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1258920" y="63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华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623736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5"/>
          <p:cNvSpPr/>
          <p:nvPr/>
        </p:nvSpPr>
        <p:spPr>
          <a:xfrm>
            <a:off x="214200" y="1857240"/>
            <a:ext cx="8358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五句：在天安门前璀璨的华灯下面，我又想起这位亲爱的战友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642960" y="16430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好处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本文采用倒叙的手法，由天安门广场的灯光写起，叙述过去的事情，结尾又回到天安门广场的灯光。首尾照应，结构紧凑，文脉相通，含义深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5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4572000" y="25588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572000" y="37782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572000" y="49212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5791320" y="2406600"/>
            <a:ext cx="144360" cy="1066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943600" y="219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看（灯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943600" y="3030480"/>
            <a:ext cx="36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听（“多好啊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688000" y="4159080"/>
            <a:ext cx="865080" cy="18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781680" y="3854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往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5943600" y="49212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想（战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4572000" y="6094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课文思路与写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华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华灯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华灯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华灯5"/>
          <p:cNvPicPr/>
          <p:nvPr/>
        </p:nvPicPr>
        <p:blipFill>
          <a:blip r:embed="rId3"/>
          <a:srcRect l="0" t="0" r="17512" b="24440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华灯4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8"/>
          <p:cNvSpPr txBox="1"/>
          <p:nvPr/>
        </p:nvSpPr>
        <p:spPr>
          <a:xfrm>
            <a:off x="1763640" y="1555920"/>
            <a:ext cx="5905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缅怀革命先辈精神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珍惜今天幸福生活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练习填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52280" y="1295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间隙，郝副营长划着（   ），借着（      ）看一本书，书上的插图画的是（              ）。他充满了对未来的（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守敌的围墙被炸开一个（    ），突击连马上（       ），后续部队在黑暗里（           ），在这（        ）的时刻，郝副营长划着火柴，点燃了（      ），（    ）为后续部队照亮了前进的道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胜利了，现在孩子们能够在（        ）学习，可他却没有来得及见一见（    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5410080" y="27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缺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457200" y="32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了进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57200" y="2147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盏吊着的电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69343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867280" y="3214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找不到突破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400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33520" y="169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微弱的亮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1295280" y="3595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钧一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838080" y="40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本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3124080" y="40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6858000" y="5119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底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54864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5"/>
          <p:cNvSpPr/>
          <p:nvPr/>
        </p:nvSpPr>
        <p:spPr>
          <a:xfrm>
            <a:off x="642960" y="1071720"/>
            <a:ext cx="82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推荐阅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王愿坚的主要作品有短篇小说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党费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粮食的故事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七根火柴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普通劳动者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足迹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路标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以及电影文学剧本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闪闪红星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（与陆柱国合写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875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285-B6EC-49AF-9E3A-AD94A3099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华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《灯光》插图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429080" y="285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灯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篇课文给我们描述了一个动人的故事，他是谁写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572000" y="264312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愿坚是当代著名的作家。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4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参加八路军。在抗日战争和解放战争中，当过随军记者，解放后创作了不少革命历史题材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2590920" y="9288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读读下列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0" y="28036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豫皖苏  围歼战  郝副营长  憧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聚精会神  黑魆魆  划着火柴  璀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宏伟  赞叹  自言自语  千钧一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6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"/>
          <p:cNvSpPr/>
          <p:nvPr/>
        </p:nvSpPr>
        <p:spPr>
          <a:xfrm>
            <a:off x="3203640" y="62064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33520" y="17524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灯光，我们都非常熟悉，平时并不特别注意它。本文作者却对灯光有着特殊的感受，因为在他的经历中，围绕着灯光，发生过一个感人的故事。阅读课文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3"/>
          <p:cNvSpPr/>
          <p:nvPr/>
        </p:nvSpPr>
        <p:spPr>
          <a:xfrm>
            <a:off x="4859280" y="1268280"/>
            <a:ext cx="4067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      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课文哪些地方是写现在？那些地方是写往事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6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7"/>
          <p:cNvSpPr/>
          <p:nvPr/>
        </p:nvSpPr>
        <p:spPr>
          <a:xfrm>
            <a:off x="3203640" y="62064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幼圆"/>
              </a:rPr>
              <a:t>理清思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写现在：第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自然段和最后一个自然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写往事：其余的都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02:48:49Z</dcterms:created>
  <dc:creator/>
  <dc:description/>
  <cp:keywords>幻灯片之家 http:/www.eeppt.com</cp:keywords>
  <dc:language>en-US</dc:language>
  <cp:lastModifiedBy/>
  <dcterms:modified xsi:type="dcterms:W3CDTF">2015-07-18T07:06:3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