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E2C-2F31-4F12-A7F1-D3359F12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34F-35CA-4F92-8C09-82E230B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348-2D33-4DDD-B41C-21F16092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7E9-68DF-422C-9513-E4E13BE6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216-3B42-44B2-BBE7-FF77230E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72A5-78AA-4004-89A1-185D767F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8A03-B971-4655-A934-B416A639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7255-375D-443B-AB75-6079924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0CC7-9448-47A5-9F1B-6C664DF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3245-6E10-4626-AAAA-932FAD16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9AA-7269-4774-892C-57F2DC54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957-662F-4191-9918-CB83C6B5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299C-3AF6-48F1-9727-26455BB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9C08-A249-44D1-B0D5-B8DE6B90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77B-455C-4E29-8A32-05A2DF0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8B80-2825-4E91-9C9C-0E3D57F1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0B7-BFB8-432A-9606-675D26AB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937-7415-4721-BCA9-7AD72EC3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507-A9DF-4877-8D6D-13C89FB7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8DB-C31A-4635-81F5-C45F9AB1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1B8-92BD-45E6-AFEC-C98CDDC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E53-74A7-4F96-9470-D150FC7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FEC-30D5-466F-946E-854FCE2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055-6ADA-4911-BC4B-1210DD4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91A-E178-4F40-996B-A18D9F10178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EBD3-C6A1-4C88-A1BA-28865D6219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D593-A9CE-4E7E-958A-DA8B4B7C93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uppieren 4"/>
          <p:cNvGrpSpPr/>
          <p:nvPr/>
        </p:nvGrpSpPr>
        <p:grpSpPr>
          <a:xfrm>
            <a:off x="870120" y="2949480"/>
            <a:ext cx="2496600" cy="2495520"/>
            <a:chOff x="870120" y="2949480"/>
            <a:chExt cx="2496600" cy="2495520"/>
          </a:xfrm>
        </p:grpSpPr>
        <p:sp>
          <p:nvSpPr>
            <p:cNvPr id="90" name="Oval 2"/>
            <p:cNvSpPr/>
            <p:nvPr/>
          </p:nvSpPr>
          <p:spPr>
            <a:xfrm>
              <a:off x="895320" y="2986200"/>
              <a:ext cx="243360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4"/>
            <p:cNvGrpSpPr/>
            <p:nvPr/>
          </p:nvGrpSpPr>
          <p:grpSpPr>
            <a:xfrm>
              <a:off x="870840" y="2986200"/>
              <a:ext cx="2495880" cy="2450160"/>
              <a:chOff x="870840" y="2986200"/>
              <a:chExt cx="2495880" cy="2450160"/>
            </a:xfrm>
          </p:grpSpPr>
          <p:sp>
            <p:nvSpPr>
              <p:cNvPr id="92" name="Freeform 5"/>
              <p:cNvSpPr/>
              <p:nvPr/>
            </p:nvSpPr>
            <p:spPr>
              <a:xfrm>
                <a:off x="2117520" y="2986200"/>
                <a:ext cx="124920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"/>
              <p:cNvSpPr/>
              <p:nvPr/>
            </p:nvSpPr>
            <p:spPr>
              <a:xfrm>
                <a:off x="1071720" y="419940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7"/>
              <p:cNvSpPr/>
              <p:nvPr/>
            </p:nvSpPr>
            <p:spPr>
              <a:xfrm>
                <a:off x="870840" y="298620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AutoShape 11"/>
            <p:cNvSpPr/>
            <p:nvPr/>
          </p:nvSpPr>
          <p:spPr>
            <a:xfrm>
              <a:off x="870120" y="2949480"/>
              <a:ext cx="249516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Ellipse 4"/>
          <p:cNvSpPr/>
          <p:nvPr/>
        </p:nvSpPr>
        <p:spPr>
          <a:xfrm>
            <a:off x="870120" y="38386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pieren 4"/>
          <p:cNvGrpSpPr/>
          <p:nvPr/>
        </p:nvGrpSpPr>
        <p:grpSpPr>
          <a:xfrm>
            <a:off x="2560680" y="2352600"/>
            <a:ext cx="2496600" cy="2495520"/>
            <a:chOff x="2560680" y="2352600"/>
            <a:chExt cx="2496600" cy="2495520"/>
          </a:xfrm>
        </p:grpSpPr>
        <p:sp>
          <p:nvSpPr>
            <p:cNvPr id="98" name="Oval 2"/>
            <p:cNvSpPr/>
            <p:nvPr/>
          </p:nvSpPr>
          <p:spPr>
            <a:xfrm>
              <a:off x="2585880" y="2389320"/>
              <a:ext cx="243360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2561400" y="2389320"/>
              <a:ext cx="2495880" cy="2450160"/>
              <a:chOff x="2561400" y="2389320"/>
              <a:chExt cx="2495880" cy="2450160"/>
            </a:xfrm>
          </p:grpSpPr>
          <p:sp>
            <p:nvSpPr>
              <p:cNvPr id="100" name="Freeform 5"/>
              <p:cNvSpPr/>
              <p:nvPr/>
            </p:nvSpPr>
            <p:spPr>
              <a:xfrm>
                <a:off x="3808080" y="2389320"/>
                <a:ext cx="124920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"/>
              <p:cNvSpPr/>
              <p:nvPr/>
            </p:nvSpPr>
            <p:spPr>
              <a:xfrm>
                <a:off x="2762280" y="360252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7"/>
              <p:cNvSpPr/>
              <p:nvPr/>
            </p:nvSpPr>
            <p:spPr>
              <a:xfrm>
                <a:off x="2561400" y="238932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AutoShape 11"/>
            <p:cNvSpPr/>
            <p:nvPr/>
          </p:nvSpPr>
          <p:spPr>
            <a:xfrm>
              <a:off x="2560680" y="2352600"/>
              <a:ext cx="249516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uppieren 4"/>
          <p:cNvGrpSpPr/>
          <p:nvPr/>
        </p:nvGrpSpPr>
        <p:grpSpPr>
          <a:xfrm>
            <a:off x="4251240" y="1755720"/>
            <a:ext cx="2497320" cy="2495520"/>
            <a:chOff x="4251240" y="1755720"/>
            <a:chExt cx="2497320" cy="2495520"/>
          </a:xfrm>
        </p:grpSpPr>
        <p:sp>
          <p:nvSpPr>
            <p:cNvPr id="105" name="Oval 2"/>
            <p:cNvSpPr/>
            <p:nvPr/>
          </p:nvSpPr>
          <p:spPr>
            <a:xfrm>
              <a:off x="4276440" y="1792440"/>
              <a:ext cx="243396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"/>
            <p:cNvGrpSpPr/>
            <p:nvPr/>
          </p:nvGrpSpPr>
          <p:grpSpPr>
            <a:xfrm>
              <a:off x="4251960" y="1792440"/>
              <a:ext cx="2496600" cy="2450160"/>
              <a:chOff x="4251960" y="1792440"/>
              <a:chExt cx="2496600" cy="2450160"/>
            </a:xfrm>
          </p:grpSpPr>
          <p:sp>
            <p:nvSpPr>
              <p:cNvPr id="107" name="Freeform 5"/>
              <p:cNvSpPr/>
              <p:nvPr/>
            </p:nvSpPr>
            <p:spPr>
              <a:xfrm>
                <a:off x="5499000" y="1792440"/>
                <a:ext cx="124956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>
                <a:off x="4452840" y="300564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>
                <a:off x="4251960" y="179244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AutoShape 11"/>
            <p:cNvSpPr/>
            <p:nvPr/>
          </p:nvSpPr>
          <p:spPr>
            <a:xfrm>
              <a:off x="4251240" y="1755720"/>
              <a:ext cx="249552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Bogen 48"/>
          <p:cNvSpPr/>
          <p:nvPr/>
        </p:nvSpPr>
        <p:spPr>
          <a:xfrm rot="20700000">
            <a:off x="1882440" y="2835000"/>
            <a:ext cx="1465200" cy="838080"/>
          </a:xfrm>
          <a:prstGeom prst="pie">
            <a:avLst/>
          </a:prstGeom>
          <a:noFill/>
          <a:ln w="28440">
            <a:solidFill>
              <a:srgbClr val="00ad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00"/>
              </a:spcBef>
              <a:buClr>
                <a:srgbClr val="ff52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uppieren 4"/>
          <p:cNvGrpSpPr/>
          <p:nvPr/>
        </p:nvGrpSpPr>
        <p:grpSpPr>
          <a:xfrm>
            <a:off x="5942160" y="1158840"/>
            <a:ext cx="2496600" cy="2495520"/>
            <a:chOff x="5942160" y="1158840"/>
            <a:chExt cx="2496600" cy="2495520"/>
          </a:xfrm>
        </p:grpSpPr>
        <p:sp>
          <p:nvSpPr>
            <p:cNvPr id="113" name="Oval 2"/>
            <p:cNvSpPr/>
            <p:nvPr/>
          </p:nvSpPr>
          <p:spPr>
            <a:xfrm>
              <a:off x="5967360" y="1195560"/>
              <a:ext cx="2433600" cy="243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4"/>
            <p:cNvGrpSpPr/>
            <p:nvPr/>
          </p:nvGrpSpPr>
          <p:grpSpPr>
            <a:xfrm>
              <a:off x="5942880" y="1195560"/>
              <a:ext cx="2495880" cy="2450160"/>
              <a:chOff x="5942880" y="1195560"/>
              <a:chExt cx="2495880" cy="2450160"/>
            </a:xfrm>
          </p:grpSpPr>
          <p:sp>
            <p:nvSpPr>
              <p:cNvPr id="115" name="Freeform 5"/>
              <p:cNvSpPr/>
              <p:nvPr/>
            </p:nvSpPr>
            <p:spPr>
              <a:xfrm>
                <a:off x="7189560" y="1195560"/>
                <a:ext cx="1249200" cy="18147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"/>
              <p:cNvSpPr/>
              <p:nvPr/>
            </p:nvSpPr>
            <p:spPr>
              <a:xfrm>
                <a:off x="6143760" y="2408760"/>
                <a:ext cx="2096640" cy="12369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"/>
              <p:cNvSpPr/>
              <p:nvPr/>
            </p:nvSpPr>
            <p:spPr>
              <a:xfrm>
                <a:off x="5942880" y="1195560"/>
                <a:ext cx="1249560" cy="1819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AutoShape 11"/>
            <p:cNvSpPr/>
            <p:nvPr/>
          </p:nvSpPr>
          <p:spPr>
            <a:xfrm>
              <a:off x="5942160" y="1158840"/>
              <a:ext cx="2495160" cy="249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Bogen 51"/>
          <p:cNvSpPr/>
          <p:nvPr/>
        </p:nvSpPr>
        <p:spPr>
          <a:xfrm rot="20700000">
            <a:off x="3560760" y="2298240"/>
            <a:ext cx="1467000" cy="839880"/>
          </a:xfrm>
          <a:prstGeom prst="pie">
            <a:avLst/>
          </a:prstGeom>
          <a:noFill/>
          <a:ln w="28440">
            <a:solidFill>
              <a:srgbClr val="00ad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00"/>
              </a:spcBef>
              <a:buClr>
                <a:srgbClr val="ff52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Bogen 52"/>
          <p:cNvSpPr/>
          <p:nvPr/>
        </p:nvSpPr>
        <p:spPr>
          <a:xfrm rot="20700000">
            <a:off x="5240160" y="1763280"/>
            <a:ext cx="1465560" cy="838440"/>
          </a:xfrm>
          <a:prstGeom prst="pie">
            <a:avLst/>
          </a:prstGeom>
          <a:noFill/>
          <a:ln w="28440">
            <a:solidFill>
              <a:srgbClr val="00ad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00"/>
              </a:spcBef>
              <a:buClr>
                <a:srgbClr val="ff52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4"/>
          <p:cNvSpPr/>
          <p:nvPr/>
        </p:nvSpPr>
        <p:spPr>
          <a:xfrm>
            <a:off x="2505240" y="32464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4"/>
          <p:cNvSpPr/>
          <p:nvPr/>
        </p:nvSpPr>
        <p:spPr>
          <a:xfrm>
            <a:off x="4218120" y="26290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4"/>
          <p:cNvSpPr/>
          <p:nvPr/>
        </p:nvSpPr>
        <p:spPr>
          <a:xfrm>
            <a:off x="5911920" y="2049480"/>
            <a:ext cx="2496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53"/>
          <p:cNvSpPr/>
          <p:nvPr/>
        </p:nvSpPr>
        <p:spPr>
          <a:xfrm>
            <a:off x="682560" y="4643280"/>
            <a:ext cx="2806920" cy="62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54"/>
          <p:cNvSpPr/>
          <p:nvPr/>
        </p:nvSpPr>
        <p:spPr>
          <a:xfrm>
            <a:off x="2422440" y="4643280"/>
            <a:ext cx="2806920" cy="62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55"/>
          <p:cNvSpPr/>
          <p:nvPr/>
        </p:nvSpPr>
        <p:spPr>
          <a:xfrm>
            <a:off x="4065480" y="4643280"/>
            <a:ext cx="2805120" cy="62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59"/>
          <p:cNvSpPr/>
          <p:nvPr/>
        </p:nvSpPr>
        <p:spPr>
          <a:xfrm>
            <a:off x="5880240" y="4651200"/>
            <a:ext cx="2805120" cy="625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75040" y="836640"/>
            <a:ext cx="61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递进关系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BBC0-30DC-4AE1-B626-665C9F909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7Z</dcterms:modified>
  <cp:revision>11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