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77374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18920" y="3729960"/>
            <a:ext cx="77374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8920" y="372996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3600" y="372996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5040" y="150660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1160" y="150660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18920" y="372996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5040" y="372996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1160" y="3729960"/>
            <a:ext cx="24912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18920" y="1506600"/>
            <a:ext cx="773748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77374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37756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3600" y="1506600"/>
            <a:ext cx="37756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75680"/>
            <a:ext cx="818028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600" y="1506600"/>
            <a:ext cx="37756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18920" y="372996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37756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0" y="372996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892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506600"/>
            <a:ext cx="37756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8920" y="3729960"/>
            <a:ext cx="773748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5680"/>
            <a:ext cx="81802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8920" y="1506600"/>
            <a:ext cx="773748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中宋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中宋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中宋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549880" y="125892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电力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中宋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中宋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中宋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7:01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0Z</dcterms:modified>
  <cp:revision>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ce03000000000001024140</vt:lpwstr>
  </property>
</Properties>
</file>