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708-384D-4DB5-9BE1-99F73DB1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599-AF21-4122-92C1-EE5C227E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733-CE66-44D1-A914-D92A9351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FD8-DE8C-493B-A487-75BDFDC9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B76-F0D9-46E1-92CB-D154D7CB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4F0-3641-406E-9C4C-04421B3C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6771-8B51-4DDB-A5D1-85B58E2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9932-30BB-44B5-B4E5-EFE1546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8B36-B7F3-4CCE-A355-1B0E0D0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A67-BF0A-4DA6-828C-345115A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C414-70F3-4AF6-9076-8111B23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C72-5849-460F-B1E8-9F6861B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ABA6-D1E5-4E1A-BFA7-44839FD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7ED-0D59-4D90-BC84-9DAC27B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A664-1FED-4B39-9115-320733C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428C-C8B4-409D-953C-8CF9C63C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754-A378-49C8-8250-F2B23F9E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7B9-1D5A-453F-BB2D-314D07EB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C80-6D73-4A5F-A9F0-7EA8D2F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669-482D-414F-8C7E-BD2A246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252-BE8E-47AF-BEDC-6D8CF780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026-42EF-4D9D-B17B-28A5DB5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7BA-A42A-44DD-8C04-93F14B3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10F-CD37-4D1B-B9D9-B9951E2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77D-9E1F-47D1-9D7B-F27191C3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191440" y="35053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-476280" y="4149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-47628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866772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8191440" y="98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0"/>
          <a:stretch/>
        </p:blipFill>
        <p:spPr>
          <a:xfrm>
            <a:off x="7093080" y="-171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1"/>
          <a:stretch/>
        </p:blipFill>
        <p:spPr>
          <a:xfrm>
            <a:off x="752472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2"/>
          <a:stretch/>
        </p:blipFill>
        <p:spPr>
          <a:xfrm rot="10800000">
            <a:off x="1332000" y="-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F5F-6282-49D0-B13D-3C7A7919AB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5734080"/>
            <a:ext cx="59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8520" y="620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边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C63-D3D1-483F-817D-2D18191AB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06:28:26Z</dcterms:created>
  <dc:creator/>
  <dc:description/>
  <dc:language>en-US</dc:language>
  <cp:lastModifiedBy>GZB</cp:lastModifiedBy>
  <dcterms:modified xsi:type="dcterms:W3CDTF">2015-07-21T02:37:31Z</dcterms:modified>
  <cp:revision>4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