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E16-0A40-48A5-9C7A-A94BE1FB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E78-EA96-4D38-BD90-08ADCFB9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AF7-6A42-4D7F-B378-68B1623C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083-2D98-4BE1-8D7D-1153588F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B85-0FEB-4896-8115-68113FB8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775-3873-48A2-9CDD-0D2166DC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093-E066-4A5B-B6BD-D34020FD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8A4-AE81-45EB-9EBC-58AB956D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12E-DEA4-4D1D-B712-404FDF9C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36D-0A3D-43A6-AB87-F49F46FD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C7A-D778-49A8-BFFF-07C13202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9C9-F670-4150-87F4-644AC101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D3BD-C7BF-43B1-B111-AE2B0715F538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6520" y="2709720"/>
            <a:ext cx="63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《邓小平爷爷植树》课件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PPT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W02010081828454720857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079640" y="98100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①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079640" y="18446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②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079640" y="436572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③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3564000" y="1052640"/>
            <a:ext cx="1942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2987640" y="1916280"/>
            <a:ext cx="2592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250920" y="2781360"/>
            <a:ext cx="15127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2124000" y="2708280"/>
            <a:ext cx="201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6588000" y="2781360"/>
            <a:ext cx="201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0" name="Oval 14"/>
          <p:cNvSpPr/>
          <p:nvPr/>
        </p:nvSpPr>
        <p:spPr>
          <a:xfrm>
            <a:off x="395280" y="3213000"/>
            <a:ext cx="57636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1" name="Oval 15"/>
          <p:cNvSpPr/>
          <p:nvPr/>
        </p:nvSpPr>
        <p:spPr>
          <a:xfrm>
            <a:off x="5508720" y="3213000"/>
            <a:ext cx="251928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4140360" y="3573360"/>
            <a:ext cx="136836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1476360" y="4076640"/>
            <a:ext cx="144000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4" name="Oval 18"/>
          <p:cNvSpPr/>
          <p:nvPr/>
        </p:nvSpPr>
        <p:spPr>
          <a:xfrm>
            <a:off x="7812000" y="2349360"/>
            <a:ext cx="133200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8342640" y="2328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数</a:t>
            </a:r>
            <a:endParaRPr b="1" lang="en-US" sz="2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W02010081828454658573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1440000" y="10526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④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13080" y="22766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⑤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4284720" y="260280"/>
            <a:ext cx="13669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0" name="Oval 6"/>
          <p:cNvSpPr/>
          <p:nvPr/>
        </p:nvSpPr>
        <p:spPr>
          <a:xfrm>
            <a:off x="3635280" y="692280"/>
            <a:ext cx="144144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5292720" y="1413000"/>
            <a:ext cx="108108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376600" y="1413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车</a:t>
            </a:r>
            <a:endParaRPr b="1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6156360" y="2421000"/>
            <a:ext cx="12952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4" name="Oval 11"/>
          <p:cNvSpPr/>
          <p:nvPr/>
        </p:nvSpPr>
        <p:spPr>
          <a:xfrm>
            <a:off x="7451640" y="2421000"/>
            <a:ext cx="12970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6a06503de9f9b1db9f3d620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324000" y="1844640"/>
            <a:ext cx="8820000" cy="63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邓小平  植树节   岁数  年龄</a:t>
            </a:r>
            <a:endParaRPr b="1" lang="en-US" sz="5400" spc="-1" strike="noStrike">
              <a:solidFill>
                <a:srgbClr val="ff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已经     休息     车站    不行</a:t>
            </a:r>
            <a:endParaRPr b="1" lang="en-US" sz="5400" spc="-1" strike="noStrike">
              <a:solidFill>
                <a:srgbClr val="ff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步行     扶手     栽树    亲手</a:t>
            </a:r>
            <a:endParaRPr b="1" lang="en-US" sz="5400" spc="-1" strike="noStrike">
              <a:solidFill>
                <a:srgbClr val="ff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39640" y="404640"/>
            <a:ext cx="453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395280" y="476280"/>
            <a:ext cx="2448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黑体"/>
              </a:rPr>
              <a:t>我会读</a:t>
            </a: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176560" y="15429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9640" y="1916280"/>
            <a:ext cx="943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邓  植  </a:t>
            </a:r>
            <a:r>
              <a:rPr b="1" lang="zh-CN" sz="6000" spc="-1" strike="noStrike">
                <a:solidFill>
                  <a:srgbClr val="ff33cc"/>
                </a:solidFill>
                <a:latin typeface="Arial"/>
              </a:rPr>
              <a:t>节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ff33cc"/>
                </a:solidFill>
                <a:latin typeface="Arial"/>
              </a:rPr>
              <a:t>岁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龄  已  经</a:t>
            </a:r>
            <a:endParaRPr b="1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息  站   </a:t>
            </a:r>
            <a:r>
              <a:rPr b="1" lang="zh-CN" sz="6000" spc="-1" strike="noStrike">
                <a:solidFill>
                  <a:srgbClr val="ff33cc"/>
                </a:solidFill>
                <a:latin typeface="Arial"/>
              </a:rPr>
              <a:t>行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扶  栽  </a:t>
            </a:r>
            <a:r>
              <a:rPr b="1" lang="zh-CN" sz="6000" spc="-1" strike="noStrike">
                <a:solidFill>
                  <a:srgbClr val="ff33cc"/>
                </a:solidFill>
                <a:latin typeface="Arial"/>
              </a:rPr>
              <a:t>亲</a:t>
            </a:r>
            <a:endParaRPr b="1" lang="en-US" sz="60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0" y="1052640"/>
            <a:ext cx="104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èng  zhí  jié  suì  línɡ  yǐ  jīnɡ</a:t>
            </a:r>
            <a:endParaRPr b="1" lang="en-US" sz="4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11280" y="3068640"/>
            <a:ext cx="99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ī  zhàn xínɡ  fú  zāi  qīn</a:t>
            </a:r>
            <a:endParaRPr b="1" lang="en-US" sz="4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84360" y="6922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99160" y="476280"/>
            <a:ext cx="22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熟字加偏旁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82880" y="1125360"/>
            <a:ext cx="20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178520" y="1125360"/>
            <a:ext cx="20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58760" y="16876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99160" y="1700280"/>
            <a:ext cx="22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熟字换部分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938160" y="2349360"/>
            <a:ext cx="15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954520" y="2349360"/>
            <a:ext cx="15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827600" y="2349360"/>
            <a:ext cx="15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6699240" y="2349360"/>
            <a:ext cx="15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330480" y="3056040"/>
            <a:ext cx="19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熟字相加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045080" y="365904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4645440" y="35863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443880" y="4135320"/>
            <a:ext cx="25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形近字比较：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3170520" y="4221000"/>
            <a:ext cx="20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462960" y="5013360"/>
            <a:ext cx="25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同部分记忆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1009800" y="5661000"/>
            <a:ext cx="20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4446720" y="5602320"/>
            <a:ext cx="20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2687760" y="105264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植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5783400" y="105264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扶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11400" y="227664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节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4056120" y="227664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岁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5927760" y="227664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邓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7799400" y="227664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龄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3479760" y="350028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息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7080120" y="350028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的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4919760" y="422100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已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614680" y="558972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栽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6215040" y="558972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亲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7"/>
          <p:cNvSpPr/>
          <p:nvPr/>
        </p:nvSpPr>
        <p:spPr>
          <a:xfrm>
            <a:off x="395280" y="549360"/>
            <a:ext cx="2808360" cy="9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议一议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11280" y="1844640"/>
            <a:ext cx="7993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为什么要植树？</a:t>
            </a: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怎样植树？</a:t>
            </a: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学完这篇课文后你准备怎样做？</a:t>
            </a: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406440" y="549360"/>
            <a:ext cx="2808360" cy="9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议一议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611280" y="1413000"/>
            <a:ext cx="76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观察校园里的一种植物，把它画下来。</a:t>
            </a: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在爸爸妈妈的帮助下上网查找各个国家的植树节在什么时候？</a:t>
            </a: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有条件的和爸爸妈妈一起种树。</a:t>
            </a: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95280" y="260280"/>
            <a:ext cx="583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826920" y="333360"/>
            <a:ext cx="24498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黑体"/>
              </a:rPr>
              <a:t>拓展学习</a:t>
            </a: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2195640" y="2133720"/>
            <a:ext cx="4392360" cy="4106880"/>
            <a:chOff x="2195640" y="2133720"/>
            <a:chExt cx="4392360" cy="4106880"/>
          </a:xfrm>
        </p:grpSpPr>
        <p:sp>
          <p:nvSpPr>
            <p:cNvPr id="140" name="Rectangle 3"/>
            <p:cNvSpPr/>
            <p:nvPr/>
          </p:nvSpPr>
          <p:spPr>
            <a:xfrm>
              <a:off x="2195640" y="2133720"/>
              <a:ext cx="4392360" cy="410688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41" name="Line 4"/>
            <p:cNvSpPr/>
            <p:nvPr/>
          </p:nvSpPr>
          <p:spPr>
            <a:xfrm>
              <a:off x="2195640" y="4185000"/>
              <a:ext cx="4392360" cy="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>
              <a:off x="4391640" y="2133720"/>
              <a:ext cx="0" cy="410400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143" name="Text Box 6"/>
          <p:cNvSpPr/>
          <p:nvPr/>
        </p:nvSpPr>
        <p:spPr>
          <a:xfrm>
            <a:off x="2771640" y="2133720"/>
            <a:ext cx="335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66"/>
                </a:solidFill>
                <a:latin typeface="Arial"/>
                <a:ea typeface="楷体_GB2312"/>
              </a:rPr>
              <a:t>爷</a:t>
            </a:r>
            <a:endParaRPr b="1" lang="en-US" sz="25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522240" y="471600"/>
            <a:ext cx="153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yé</a:t>
            </a:r>
            <a:endParaRPr b="1" lang="en-US" sz="9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2195640" y="2133720"/>
            <a:ext cx="4392360" cy="4106880"/>
            <a:chOff x="2195640" y="2133720"/>
            <a:chExt cx="4392360" cy="4106880"/>
          </a:xfrm>
        </p:grpSpPr>
        <p:sp>
          <p:nvSpPr>
            <p:cNvPr id="146" name="Rectangle 3"/>
            <p:cNvSpPr/>
            <p:nvPr/>
          </p:nvSpPr>
          <p:spPr>
            <a:xfrm>
              <a:off x="2195640" y="2133720"/>
              <a:ext cx="4392360" cy="410688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47" name="Line 4"/>
            <p:cNvSpPr/>
            <p:nvPr/>
          </p:nvSpPr>
          <p:spPr>
            <a:xfrm>
              <a:off x="2195640" y="4185000"/>
              <a:ext cx="4392360" cy="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48" name="Line 5"/>
            <p:cNvSpPr/>
            <p:nvPr/>
          </p:nvSpPr>
          <p:spPr>
            <a:xfrm>
              <a:off x="4391640" y="2133720"/>
              <a:ext cx="0" cy="410400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149" name="Text Box 6"/>
          <p:cNvSpPr/>
          <p:nvPr/>
        </p:nvSpPr>
        <p:spPr>
          <a:xfrm>
            <a:off x="2771640" y="2133720"/>
            <a:ext cx="335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66"/>
                </a:solidFill>
                <a:latin typeface="Arial"/>
                <a:ea typeface="楷体_GB2312"/>
              </a:rPr>
              <a:t>节</a:t>
            </a:r>
            <a:endParaRPr b="1" lang="en-US" sz="25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524040" y="471600"/>
            <a:ext cx="153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jié</a:t>
            </a:r>
            <a:endParaRPr b="1" lang="en-US" sz="9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2195640" y="2133720"/>
            <a:ext cx="4392360" cy="4106880"/>
            <a:chOff x="2195640" y="2133720"/>
            <a:chExt cx="4392360" cy="4106880"/>
          </a:xfrm>
        </p:grpSpPr>
        <p:sp>
          <p:nvSpPr>
            <p:cNvPr id="152" name="Rectangle 3"/>
            <p:cNvSpPr/>
            <p:nvPr/>
          </p:nvSpPr>
          <p:spPr>
            <a:xfrm>
              <a:off x="2195640" y="2133720"/>
              <a:ext cx="4392360" cy="410688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53" name="Line 4"/>
            <p:cNvSpPr/>
            <p:nvPr/>
          </p:nvSpPr>
          <p:spPr>
            <a:xfrm>
              <a:off x="2195640" y="4185000"/>
              <a:ext cx="4392360" cy="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54" name="Line 5"/>
            <p:cNvSpPr/>
            <p:nvPr/>
          </p:nvSpPr>
          <p:spPr>
            <a:xfrm>
              <a:off x="4391640" y="2133720"/>
              <a:ext cx="0" cy="410400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155" name="Text Box 6"/>
          <p:cNvSpPr/>
          <p:nvPr/>
        </p:nvSpPr>
        <p:spPr>
          <a:xfrm>
            <a:off x="2771640" y="2276640"/>
            <a:ext cx="335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66"/>
                </a:solidFill>
                <a:latin typeface="Arial"/>
                <a:ea typeface="楷体_GB2312"/>
              </a:rPr>
              <a:t>岁</a:t>
            </a:r>
            <a:endParaRPr b="1" lang="en-US" sz="25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320640" y="471600"/>
            <a:ext cx="194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uì</a:t>
            </a:r>
            <a:endParaRPr b="1" lang="en-US" sz="9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4"/>
          <p:cNvSpPr/>
          <p:nvPr/>
        </p:nvSpPr>
        <p:spPr>
          <a:xfrm>
            <a:off x="1692360" y="166068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44" name="Picture 5" descr="2007101015558437"/>
          <p:cNvPicPr/>
          <p:nvPr/>
        </p:nvPicPr>
        <p:blipFill>
          <a:blip r:embed="rId2"/>
          <a:stretch/>
        </p:blipFill>
        <p:spPr>
          <a:xfrm>
            <a:off x="684360" y="333360"/>
            <a:ext cx="5400360" cy="62643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3"/>
          <p:cNvSpPr/>
          <p:nvPr/>
        </p:nvSpPr>
        <p:spPr>
          <a:xfrm>
            <a:off x="3635280" y="189000"/>
            <a:ext cx="5329440" cy="2305080"/>
          </a:xfrm>
          <a:prstGeom prst="cloudCallout">
            <a:avLst>
              <a:gd name="adj1" fmla="val -57476"/>
              <a:gd name="adj2" fmla="val 109023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邓小平爷爷是什么人呢？</a:t>
            </a: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2195640" y="2133720"/>
            <a:ext cx="4392360" cy="4106880"/>
            <a:chOff x="2195640" y="2133720"/>
            <a:chExt cx="4392360" cy="4106880"/>
          </a:xfrm>
        </p:grpSpPr>
        <p:sp>
          <p:nvSpPr>
            <p:cNvPr id="158" name="Rectangle 3"/>
            <p:cNvSpPr/>
            <p:nvPr/>
          </p:nvSpPr>
          <p:spPr>
            <a:xfrm>
              <a:off x="2195640" y="2133720"/>
              <a:ext cx="4392360" cy="410688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59" name="Line 4"/>
            <p:cNvSpPr/>
            <p:nvPr/>
          </p:nvSpPr>
          <p:spPr>
            <a:xfrm>
              <a:off x="2195640" y="4185000"/>
              <a:ext cx="4392360" cy="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60" name="Line 5"/>
            <p:cNvSpPr/>
            <p:nvPr/>
          </p:nvSpPr>
          <p:spPr>
            <a:xfrm>
              <a:off x="4391640" y="2133720"/>
              <a:ext cx="0" cy="410400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161" name="Text Box 6"/>
          <p:cNvSpPr/>
          <p:nvPr/>
        </p:nvSpPr>
        <p:spPr>
          <a:xfrm>
            <a:off x="2771640" y="2060640"/>
            <a:ext cx="335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66"/>
                </a:solidFill>
                <a:latin typeface="Arial"/>
                <a:ea typeface="楷体_GB2312"/>
              </a:rPr>
              <a:t>亲</a:t>
            </a:r>
            <a:endParaRPr b="1" lang="en-US" sz="25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3285360" y="471600"/>
            <a:ext cx="200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qīn</a:t>
            </a:r>
            <a:endParaRPr b="1" lang="en-US" sz="9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2195640" y="2133720"/>
            <a:ext cx="4392360" cy="4106880"/>
            <a:chOff x="2195640" y="2133720"/>
            <a:chExt cx="4392360" cy="4106880"/>
          </a:xfrm>
        </p:grpSpPr>
        <p:sp>
          <p:nvSpPr>
            <p:cNvPr id="165" name="Rectangle 3"/>
            <p:cNvSpPr/>
            <p:nvPr/>
          </p:nvSpPr>
          <p:spPr>
            <a:xfrm>
              <a:off x="2195640" y="2133720"/>
              <a:ext cx="4392360" cy="410688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66" name="Line 4"/>
            <p:cNvSpPr/>
            <p:nvPr/>
          </p:nvSpPr>
          <p:spPr>
            <a:xfrm>
              <a:off x="2195640" y="4185000"/>
              <a:ext cx="4392360" cy="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67" name="Line 5"/>
            <p:cNvSpPr/>
            <p:nvPr/>
          </p:nvSpPr>
          <p:spPr>
            <a:xfrm>
              <a:off x="4391640" y="2133720"/>
              <a:ext cx="0" cy="410400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168" name="Text Box 6"/>
          <p:cNvSpPr/>
          <p:nvPr/>
        </p:nvSpPr>
        <p:spPr>
          <a:xfrm>
            <a:off x="2771640" y="2133720"/>
            <a:ext cx="335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66"/>
                </a:solidFill>
                <a:latin typeface="Arial"/>
                <a:ea typeface="楷体_GB2312"/>
              </a:rPr>
              <a:t>的</a:t>
            </a:r>
            <a:endParaRPr b="1" lang="en-US" sz="25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589200" y="4795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1" lang="en-US" sz="9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2195640" y="2133720"/>
            <a:ext cx="4392360" cy="4106880"/>
            <a:chOff x="2195640" y="2133720"/>
            <a:chExt cx="4392360" cy="4106880"/>
          </a:xfrm>
        </p:grpSpPr>
        <p:sp>
          <p:nvSpPr>
            <p:cNvPr id="171" name="Rectangle 3"/>
            <p:cNvSpPr/>
            <p:nvPr/>
          </p:nvSpPr>
          <p:spPr>
            <a:xfrm>
              <a:off x="2195640" y="2133720"/>
              <a:ext cx="4392360" cy="4106880"/>
            </a:xfrm>
            <a:prstGeom prst="rect">
              <a:avLst/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72" name="Line 4"/>
            <p:cNvSpPr/>
            <p:nvPr/>
          </p:nvSpPr>
          <p:spPr>
            <a:xfrm>
              <a:off x="2195640" y="4185000"/>
              <a:ext cx="4392360" cy="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  <p:sp>
          <p:nvSpPr>
            <p:cNvPr id="173" name="Line 5"/>
            <p:cNvSpPr/>
            <p:nvPr/>
          </p:nvSpPr>
          <p:spPr>
            <a:xfrm>
              <a:off x="4391640" y="2133720"/>
              <a:ext cx="0" cy="410400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  <p:sp>
        <p:nvSpPr>
          <p:cNvPr id="174" name="Text Box 6"/>
          <p:cNvSpPr/>
          <p:nvPr/>
        </p:nvSpPr>
        <p:spPr>
          <a:xfrm>
            <a:off x="2771640" y="2060640"/>
            <a:ext cx="335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66"/>
                </a:solidFill>
                <a:latin typeface="Arial"/>
                <a:ea typeface="楷体_GB2312"/>
              </a:rPr>
              <a:t>行</a:t>
            </a:r>
            <a:endParaRPr b="1" lang="en-US" sz="25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947320" y="471600"/>
            <a:ext cx="26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xínɡ</a:t>
            </a:r>
            <a:endParaRPr b="1" lang="en-US" sz="9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617400" y="476280"/>
            <a:ext cx="20095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会写的字</a:t>
            </a:r>
            <a:endParaRPr b="1" lang="en-US" sz="6000" spc="-1" strike="noStrike">
              <a:solidFill>
                <a:srgbClr val="ff33cc"/>
              </a:solidFill>
              <a:latin typeface="Arial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1042920" y="3141720"/>
            <a:ext cx="7345440" cy="1295280"/>
            <a:chOff x="1042920" y="3141720"/>
            <a:chExt cx="7345440" cy="1295280"/>
          </a:xfrm>
        </p:grpSpPr>
        <p:grpSp>
          <p:nvGrpSpPr>
            <p:cNvPr id="178" name="Group 6"/>
            <p:cNvGrpSpPr/>
            <p:nvPr/>
          </p:nvGrpSpPr>
          <p:grpSpPr>
            <a:xfrm>
              <a:off x="2268360" y="3213000"/>
              <a:ext cx="1224000" cy="1224000"/>
              <a:chOff x="2268360" y="3213000"/>
              <a:chExt cx="1224000" cy="1224000"/>
            </a:xfrm>
          </p:grpSpPr>
          <p:sp>
            <p:nvSpPr>
              <p:cNvPr id="179" name="Rectangle 7"/>
              <p:cNvSpPr/>
              <p:nvPr/>
            </p:nvSpPr>
            <p:spPr>
              <a:xfrm>
                <a:off x="2268360" y="3213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 flipH="1">
                <a:off x="2268360" y="3825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>
                <a:off x="2880720" y="3243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0"/>
            <p:cNvGrpSpPr/>
            <p:nvPr/>
          </p:nvGrpSpPr>
          <p:grpSpPr>
            <a:xfrm>
              <a:off x="3492360" y="3213000"/>
              <a:ext cx="1224000" cy="1224000"/>
              <a:chOff x="3492360" y="3213000"/>
              <a:chExt cx="1224000" cy="1224000"/>
            </a:xfrm>
          </p:grpSpPr>
          <p:sp>
            <p:nvSpPr>
              <p:cNvPr id="183" name="Rectangle 11"/>
              <p:cNvSpPr/>
              <p:nvPr/>
            </p:nvSpPr>
            <p:spPr>
              <a:xfrm>
                <a:off x="3492360" y="3213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84" name="Line 12"/>
              <p:cNvSpPr/>
              <p:nvPr/>
            </p:nvSpPr>
            <p:spPr>
              <a:xfrm flipH="1">
                <a:off x="3492360" y="3825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85" name="Line 13"/>
              <p:cNvSpPr/>
              <p:nvPr/>
            </p:nvSpPr>
            <p:spPr>
              <a:xfrm>
                <a:off x="4104720" y="3243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"/>
            <p:cNvGrpSpPr/>
            <p:nvPr/>
          </p:nvGrpSpPr>
          <p:grpSpPr>
            <a:xfrm>
              <a:off x="4716360" y="3213000"/>
              <a:ext cx="1224000" cy="1224000"/>
              <a:chOff x="4716360" y="3213000"/>
              <a:chExt cx="1224000" cy="1224000"/>
            </a:xfrm>
          </p:grpSpPr>
          <p:sp>
            <p:nvSpPr>
              <p:cNvPr id="187" name="Rectangle 15"/>
              <p:cNvSpPr/>
              <p:nvPr/>
            </p:nvSpPr>
            <p:spPr>
              <a:xfrm>
                <a:off x="4716360" y="3213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88" name="Line 16"/>
              <p:cNvSpPr/>
              <p:nvPr/>
            </p:nvSpPr>
            <p:spPr>
              <a:xfrm flipH="1">
                <a:off x="4716360" y="3825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89" name="Line 17"/>
              <p:cNvSpPr/>
              <p:nvPr/>
            </p:nvSpPr>
            <p:spPr>
              <a:xfrm>
                <a:off x="5328720" y="3243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8"/>
            <p:cNvGrpSpPr/>
            <p:nvPr/>
          </p:nvGrpSpPr>
          <p:grpSpPr>
            <a:xfrm>
              <a:off x="5940360" y="3213000"/>
              <a:ext cx="1224000" cy="1224000"/>
              <a:chOff x="5940360" y="3213000"/>
              <a:chExt cx="1224000" cy="1224000"/>
            </a:xfrm>
          </p:grpSpPr>
          <p:sp>
            <p:nvSpPr>
              <p:cNvPr id="191" name="Rectangle 19"/>
              <p:cNvSpPr/>
              <p:nvPr/>
            </p:nvSpPr>
            <p:spPr>
              <a:xfrm>
                <a:off x="5940360" y="3213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92" name="Line 20"/>
              <p:cNvSpPr/>
              <p:nvPr/>
            </p:nvSpPr>
            <p:spPr>
              <a:xfrm flipH="1">
                <a:off x="5940360" y="3825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93" name="Line 21"/>
              <p:cNvSpPr/>
              <p:nvPr/>
            </p:nvSpPr>
            <p:spPr>
              <a:xfrm>
                <a:off x="6552720" y="3243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2"/>
            <p:cNvGrpSpPr/>
            <p:nvPr/>
          </p:nvGrpSpPr>
          <p:grpSpPr>
            <a:xfrm>
              <a:off x="7164360" y="3213000"/>
              <a:ext cx="1224000" cy="1224000"/>
              <a:chOff x="7164360" y="3213000"/>
              <a:chExt cx="1224000" cy="1224000"/>
            </a:xfrm>
          </p:grpSpPr>
          <p:sp>
            <p:nvSpPr>
              <p:cNvPr id="195" name="Rectangle 23"/>
              <p:cNvSpPr/>
              <p:nvPr/>
            </p:nvSpPr>
            <p:spPr>
              <a:xfrm>
                <a:off x="7164360" y="3213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96" name="Line 24"/>
              <p:cNvSpPr/>
              <p:nvPr/>
            </p:nvSpPr>
            <p:spPr>
              <a:xfrm flipH="1">
                <a:off x="7164360" y="3825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197" name="Line 25"/>
              <p:cNvSpPr/>
              <p:nvPr/>
            </p:nvSpPr>
            <p:spPr>
              <a:xfrm>
                <a:off x="7776720" y="3243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6"/>
            <p:cNvGrpSpPr/>
            <p:nvPr/>
          </p:nvGrpSpPr>
          <p:grpSpPr>
            <a:xfrm>
              <a:off x="1042920" y="3213000"/>
              <a:ext cx="1224000" cy="1224000"/>
              <a:chOff x="1042920" y="3213000"/>
              <a:chExt cx="1224000" cy="1224000"/>
            </a:xfrm>
          </p:grpSpPr>
          <p:sp>
            <p:nvSpPr>
              <p:cNvPr id="199" name="Rectangle 27"/>
              <p:cNvSpPr/>
              <p:nvPr/>
            </p:nvSpPr>
            <p:spPr>
              <a:xfrm>
                <a:off x="1042920" y="3213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200" name="Line 28"/>
              <p:cNvSpPr/>
              <p:nvPr/>
            </p:nvSpPr>
            <p:spPr>
              <a:xfrm flipH="1">
                <a:off x="1042920" y="3825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  <p:sp>
            <p:nvSpPr>
              <p:cNvPr id="201" name="Line 29"/>
              <p:cNvSpPr/>
              <p:nvPr/>
            </p:nvSpPr>
            <p:spPr>
              <a:xfrm>
                <a:off x="1655280" y="3243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cc"/>
                  </a:solidFill>
                  <a:latin typeface="Arial"/>
                </a:endParaRPr>
              </a:p>
            </p:txBody>
          </p:sp>
        </p:grpSp>
        <p:sp>
          <p:nvSpPr>
            <p:cNvPr id="202" name="Text Box 30"/>
            <p:cNvSpPr/>
            <p:nvPr/>
          </p:nvSpPr>
          <p:spPr>
            <a:xfrm>
              <a:off x="1042920" y="3141720"/>
              <a:ext cx="7345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爷节岁亲的行</a:t>
              </a:r>
              <a:endParaRPr b="1" lang="en-US" sz="7200" spc="-1" strike="noStrike">
                <a:solidFill>
                  <a:srgbClr val="ff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1908000" y="2852640"/>
            <a:ext cx="15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节日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一节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时节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539640" y="2852640"/>
            <a:ext cx="151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爷爷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少爷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老爷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276720" y="2852640"/>
            <a:ext cx="151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岁月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岁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岁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6012000" y="2852640"/>
            <a:ext cx="151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好的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我的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他的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4643280" y="2852640"/>
            <a:ext cx="15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亲人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亲手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双亲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7380360" y="2852640"/>
            <a:ext cx="154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不行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行人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行走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209" name="Picture 11" descr="W020100818284545791395"/>
          <p:cNvPicPr/>
          <p:nvPr/>
        </p:nvPicPr>
        <p:blipFill>
          <a:blip r:embed="rId2"/>
          <a:srcRect l="0" t="23596" r="0" b="44046"/>
          <a:stretch/>
        </p:blipFill>
        <p:spPr>
          <a:xfrm>
            <a:off x="0" y="0"/>
            <a:ext cx="9144000" cy="27781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dc5900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cc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72B-A8E3-469D-BAEC-BF54012939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68360" y="692280"/>
            <a:ext cx="8459640" cy="111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邓小平爷爷是我国社会主义改革开放和现代化建设的总设计师，因为有了他，中国才变的更加富强，我们的学习生活才会这么的快乐。</a:t>
            </a:r>
            <a:endParaRPr b="1" lang="en-US" sz="48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邓小平爷爷植树</a:t>
            </a:r>
            <a:endParaRPr b="1" lang="en-US" sz="32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5734080"/>
            <a:ext cx="611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ppt课件模板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http://www.eeppt.com/moban/kejian/</a:t>
            </a:r>
            <a:endParaRPr b="1" lang="en-US" sz="1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95280" y="765000"/>
            <a:ext cx="874872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作为一名国家最高领导人，邓爷爷总是自己带头，不管大事，还是小事都那么的认真。今天我们就一起回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198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年的春天，去看看天坛公园里邓爷爷植树的情景吧！</a:t>
            </a: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邓小平爷爷植树</a:t>
            </a:r>
            <a:endParaRPr b="1" lang="en-US" sz="32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W02010081828454720857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1079640" y="98100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①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079640" y="18446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②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079640" y="436572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③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W02010081828454658573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1440000" y="10526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④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513080" y="22766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⑤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W02010081828454720857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1079640" y="98100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①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079640" y="18446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②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079640" y="436572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③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916360" y="1341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|| 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W02010081828454658573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1440000" y="10526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④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13080" y="2276640"/>
            <a:ext cx="5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⑤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8174880" y="1844280"/>
            <a:ext cx="5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|| </a:t>
            </a:r>
            <a:endParaRPr b="1" lang="en-US" sz="3600" spc="-1" strike="noStrike">
              <a:solidFill>
                <a:srgbClr val="ff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0:51:37Z</dcterms:created>
  <dc:creator/>
  <dc:description/>
  <cp:keywords>幻灯片之家 http:/www.eeppt.com</cp:keywords>
  <dc:language>en-US</dc:language>
  <cp:lastModifiedBy/>
  <dcterms:modified xsi:type="dcterms:W3CDTF">2015-07-17T15:02:49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