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D16-2213-419F-AA6C-ABF961A9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BF6-48FB-40C2-963B-D937F8F8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9DA-BBE0-4274-87D5-37E9BC0B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9C5-6C2A-40E7-BFEC-1EF5F010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898-8BE6-4EBE-B05F-E6663872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16D-1BA5-41F9-9277-BBDB2FD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2C0-E05E-484E-ADED-D2EC52FD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FA2-6968-4910-A209-BFA408F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EC4-79F5-4BC1-945F-193D850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817-9B5C-4C3F-A1FF-1CB62F8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CEB-8188-41E3-93F3-6C0CC17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5E1-8396-4AB9-A9BD-A57EE58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FCC7-F9E3-453C-B33F-3F5A88CF7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656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钓鱼岛幻灯片模板免费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2" name="Picture 4" descr="a1"/>
          <p:cNvPicPr/>
          <p:nvPr/>
        </p:nvPicPr>
        <p:blipFill>
          <a:blip r:embed="rId2"/>
          <a:stretch/>
        </p:blipFill>
        <p:spPr>
          <a:xfrm>
            <a:off x="9325080" y="148428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_1"/>
          <p:cNvPicPr/>
          <p:nvPr/>
        </p:nvPicPr>
        <p:blipFill>
          <a:blip r:embed="rId3"/>
          <a:stretch/>
        </p:blipFill>
        <p:spPr>
          <a:xfrm>
            <a:off x="9828360" y="450864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44" name="矩形 8"/>
          <p:cNvSpPr/>
          <p:nvPr/>
        </p:nvSpPr>
        <p:spPr>
          <a:xfrm>
            <a:off x="611280" y="6626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3768 -0.27037 C -0.12674 -0.25533 -0.4257 -0.24005 -0.5724 -0.17963 C -0.7191 -0.11945 -0.84966 0.05162 -0.91823 0.09236 C -0.98681 0.13333 -0.96997 0.07199 -0.98351 0.0666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39809 0.01574 C 0.32032 0.02338 0.04862 0.06481 -0.06857 0.06088 C -0.18576 0.05694 -0.23802 -0.03125 -0.30468 -0.00741 C -0.37135 0.01643 -0.43437 0.15972 -0.46857 0.2037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8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a1"/>
          <p:cNvPicPr/>
          <p:nvPr/>
        </p:nvPicPr>
        <p:blipFill>
          <a:blip r:embed="rId2"/>
          <a:stretch/>
        </p:blipFill>
        <p:spPr>
          <a:xfrm>
            <a:off x="9309240" y="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b_1"/>
          <p:cNvPicPr/>
          <p:nvPr/>
        </p:nvPicPr>
        <p:blipFill>
          <a:blip r:embed="rId3"/>
          <a:stretch/>
        </p:blipFill>
        <p:spPr>
          <a:xfrm>
            <a:off x="1018872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572000" y="63086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3541 -0.27365 C -0.12448 -0.25862 -0.42344 -0.24335 -0.57014 -0.18297 C -0.71684 -0.1226 -0.84739 0.04835 -0.91597 0.08929 C -0.98455 0.13023 -0.96771 0.0687 -0.98125 0.06338 E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66667E-006 1.85185E-006 C -0.06302 0.00787 -0.28281 0.04861 -0.3776 0.04467 C -0.47239 0.04074 -0.51476 -0.0456 -0.56875 -0.02246 C -0.62257 0.00116 -0.67361 0.1419 -0.70121 0.18541 E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F62-41F6-4906-84DC-4C390CFE6F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00Z</dcterms:created>
  <dc:creator>幻灯片之家 http://www.eeppt.com</dc:creator>
  <dc:description/>
  <cp:keywords>幻灯片之家 http:/www.eeppt.com</cp:keywords>
  <dc:language>en-US</dc:language>
  <cp:lastModifiedBy/>
  <cp:lastPrinted>2411-12-30T00:00:00Z</cp:lastPrinted>
  <dcterms:modified xsi:type="dcterms:W3CDTF">2015-07-20T01:48:39Z</dcterms:modified>
  <cp:revision>8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